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198-C684-4B53-8A20-C21E29FD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C6A-7202-425C-93E9-9768A25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37F-E2E5-4082-8491-7EC36C34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600-EC11-4EFC-ADC8-7F7B064F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035-B006-4622-B075-BB1C5D86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EA1-BD38-4100-9368-E811655B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24C9-59A9-4C9F-9B47-5BEDAE07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CB2-F45A-4F93-BB40-C0643145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61F-89A4-4873-9AC0-3EC2387A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B8A-D239-4D1A-8A51-3BCB60E2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92D-BD29-47B2-9315-E91F3A0B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69C-255B-4C16-BC58-D1059ED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4417-4784-4489-B292-377B825124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"/>
          <p:cNvSpPr/>
          <p:nvPr/>
        </p:nvSpPr>
        <p:spPr>
          <a:xfrm>
            <a:off x="571680" y="4786200"/>
            <a:ext cx="8001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2560" y="393372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圣诞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4296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4980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4978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354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711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283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640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212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9979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4260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/>
          <p:cNvSpPr/>
          <p:nvPr/>
        </p:nvSpPr>
        <p:spPr>
          <a:xfrm>
            <a:off x="42120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4426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711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069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640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41D-3F82-4B5F-9DB4-34019BA62A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2783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426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354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783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4:47Z</dcterms:modified>
  <cp:revision>187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