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E29-33ED-4202-9919-4873AC8B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C07-7078-4CC9-9F3B-A0314F4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005-0C8B-4B63-93ED-8C0DFF9D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D65-DF01-436B-984B-828CBC51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888-7232-43C6-AF1E-55F11E5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79F-1313-4F56-82EF-050D530C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319-9239-470C-BB64-569BD8B6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18A-ECD6-4EAB-90E9-45B8872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048-7325-4C4F-9374-CC56C4FB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162-2EF6-4DD4-A74E-7A712F9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644-065B-456D-BF5B-026152D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8F5-2B85-4E0B-83B3-B3C3740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0516-373C-4DB2-A31A-06A34CEE17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7B1-901E-4633-A072-4D6722A7FC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Calibri"/>
              </a:rPr>
              <a:t>蓝色圣诞节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d4b4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d4b4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27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061-13B4-416A-BB14-F18A898C3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11:14:00Z</dcterms:created>
  <dc:creator>pc</dc:creator>
  <dc:description>www.eeppt.com;</dc:description>
  <cp:keywords>www.eeppt.com</cp:keywords>
  <dc:language>en-US</dc:language>
  <cp:lastModifiedBy>for_yang@qq.com</cp:lastModifiedBy>
  <dcterms:modified xsi:type="dcterms:W3CDTF">2015-09-18T13:24:46Z</dcterms:modified>
  <cp:revision>1</cp:revision>
  <dc:subject>Christmas PowerPoint Template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