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7F8B-CA73-4973-90A4-D633ABEF9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A5BD-D5D7-4BD5-B936-7161D0F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AD15-C07B-49DF-B1A1-9457A1C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3256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5544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0932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3256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5544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EF6C-61A3-44F7-BEA6-397C6864F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CE522-97A2-48EC-86FF-4D9078DFE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6F64A-91E9-4F15-817C-BA5CC49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7C050-9BB9-4E1C-B746-E603536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966A-5A04-47D0-967A-F980F83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3436E-5E26-4FF6-B8FF-F60B66C4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F9A5A-CBF3-42D3-88A9-5C33DCA4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5D379-5914-432F-BBF9-EA776B4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EC04-1025-48F6-B66F-1EC4491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21E63-F6D1-4D4A-8A85-1DBE33C3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F218-CBF2-4AD5-8F66-D6D0B6B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CAE25-64E9-4C3F-B014-E670B6E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2974-C94E-4F3F-BDB6-0541031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3256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55440" y="540972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0932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3256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55440" y="5609160"/>
            <a:ext cx="1545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83B7-3D66-4CF1-AA52-5E3BA0A14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C827-C8AA-4DA0-9CBA-1CBCDE5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091B-825E-4BFE-8088-63E19AAD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3907-78D0-43F6-9BD8-EA3A14B5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47EC-C591-490B-BFA8-08CC48E8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E8FE-1C27-4456-9CFE-E1995D90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200" y="560916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374D-B9DF-4D63-B184-CCE6FF1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5409720"/>
            <a:ext cx="2342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320" y="5609160"/>
            <a:ext cx="4800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0C29-6AB0-458E-BD48-7C0FF81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solidFill>
            <a:srgbClr val="dddddd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89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b4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68F-5200-4E46-A485-8496CE54F7A3}" type="slidenum">
              <a:rPr b="0" lang="en-US" sz="1000" spc="-1" strike="noStrike">
                <a:solidFill>
                  <a:srgbClr val="0f38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432080" cy="6862680"/>
            <a:chOff x="0" y="0"/>
            <a:chExt cx="1432080" cy="6862680"/>
          </a:xfrm>
        </p:grpSpPr>
        <p:sp>
          <p:nvSpPr>
            <p:cNvPr id="6" name=""/>
            <p:cNvSpPr/>
            <p:nvPr/>
          </p:nvSpPr>
          <p:spPr>
            <a:xfrm>
              <a:off x="0" y="1440000"/>
              <a:ext cx="1411200" cy="542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11160"/>
              <a:ext cx="1415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1432080" cy="228600"/>
            </a:xfrm>
            <a:prstGeom prst="rect">
              <a:avLst/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057400" y="5364000"/>
            <a:ext cx="5054760" cy="698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38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89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5FB-3BF5-4A43-8F6C-6DBCB709A5AF}" type="slidenum">
              <a:rPr b="0" lang="en-US" sz="1200" spc="-1" strike="noStrike">
                <a:solidFill>
                  <a:srgbClr val="0f38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89d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8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f389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f389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7200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389d"/>
                </a:solidFill>
                <a:latin typeface="Arial"/>
              </a:rPr>
              <a:t>蓝色医疗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听诊器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f389d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320" y="54097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f389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f389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254" name=""/>
            <p:cNvSpPr/>
            <p:nvPr/>
          </p:nvSpPr>
          <p:spPr>
            <a:xfrm>
              <a:off x="358632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4b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0092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22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08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22c8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08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22c8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6116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4174a"/>
                </a:gs>
                <a:gs pos="50000">
                  <a:srgbClr val="622c8a"/>
                </a:gs>
                <a:gs pos="100000">
                  <a:srgbClr val="3417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22c8a">
                    <a:alpha val="0"/>
                  </a:srgbClr>
                </a:gs>
                <a:gs pos="100000">
                  <a:srgbClr val="3e1b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332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ac85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ac85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b6b2e"/>
                </a:gs>
                <a:gs pos="50000">
                  <a:srgbClr val="aac856"/>
                </a:gs>
                <a:gs pos="100000">
                  <a:srgbClr val="5b6b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3196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aac856">
                    <a:alpha val="0"/>
                  </a:srgbClr>
                </a:gs>
                <a:gs pos="100000">
                  <a:srgbClr val="6b7e3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267" name="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6048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1162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4b4d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624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2e5265"/>
                </a:gs>
                <a:gs pos="100000">
                  <a:srgbClr val="64b4d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4656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56176"/>
                </a:gs>
                <a:gs pos="50000">
                  <a:srgbClr val="64b4dc"/>
                </a:gs>
                <a:gs pos="100000">
                  <a:srgbClr val="3561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4800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64b4dc">
                    <a:alpha val="0"/>
                  </a:srgbClr>
                </a:gs>
                <a:gs pos="100000">
                  <a:srgbClr val="3f71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224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7688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282" name="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0084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13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52480" y="1695600"/>
            <a:ext cx="6934320" cy="4399920"/>
            <a:chOff x="1752480" y="1695600"/>
            <a:chExt cx="6934320" cy="4399920"/>
          </a:xfrm>
        </p:grpSpPr>
        <p:sp>
          <p:nvSpPr>
            <p:cNvPr id="297" name=""/>
            <p:cNvSpPr/>
            <p:nvPr/>
          </p:nvSpPr>
          <p:spPr>
            <a:xfrm>
              <a:off x="1752480" y="2057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622c8a"/>
                </a:gs>
                <a:gs pos="100000">
                  <a:srgbClr val="64b4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35812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76400">
              <a:off x="38494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1440" y="39049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1960" y="3914640"/>
              <a:ext cx="166536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9240" y="3930480"/>
              <a:ext cx="1584360" cy="1555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11400" y="39747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9904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6600">
              <a:off x="2006640" y="4514400"/>
              <a:ext cx="113328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930320" y="3524040"/>
              <a:ext cx="1371240" cy="1440720"/>
              <a:chOff x="1930320" y="3524040"/>
              <a:chExt cx="1371240" cy="1440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9303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48320" y="3532320"/>
                <a:ext cx="133704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61280" y="3545640"/>
                <a:ext cx="1271880" cy="1314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32920" y="358236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1076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82880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4760" y="2152440"/>
              <a:ext cx="1024200" cy="102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7720" y="2157120"/>
              <a:ext cx="1000080" cy="999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28520" y="2168280"/>
              <a:ext cx="951120" cy="933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82520" y="2193840"/>
              <a:ext cx="847800" cy="756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0204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9564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17680" y="1695600"/>
              <a:ext cx="682560" cy="682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27400" y="1698480"/>
              <a:ext cx="66492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33520" y="1704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0240" y="172368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88240" y="19191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13372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53040" y="1981080"/>
            <a:ext cx="7282440" cy="3770280"/>
            <a:chOff x="1553040" y="198108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5361840" y="2686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5412240" y="4796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4193280" y="2708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4155120" y="47631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9436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358416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f3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516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5652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674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092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5652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30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9112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389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6224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664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17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0068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8176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9616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3a6a4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520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22c8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0160" y="304164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22c8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5608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4174a"/>
                </a:gs>
                <a:gs pos="50000">
                  <a:srgbClr val="622c8a"/>
                </a:gs>
                <a:gs pos="100000">
                  <a:srgbClr val="3417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68680" y="31240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22c8a">
                    <a:alpha val="0"/>
                  </a:srgbClr>
                </a:gs>
                <a:gs pos="100000">
                  <a:srgbClr val="3e1b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060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551480" y="3240000"/>
              <a:ext cx="1290600" cy="1278000"/>
              <a:chOff x="4551480" y="324000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55148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6804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8136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5120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81464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828800" y="2320920"/>
            <a:ext cx="2163600" cy="3165480"/>
            <a:chOff x="1828800" y="2320920"/>
            <a:chExt cx="2163600" cy="3165480"/>
          </a:xfrm>
        </p:grpSpPr>
        <p:sp>
          <p:nvSpPr>
            <p:cNvPr id="360" name=""/>
            <p:cNvSpPr/>
            <p:nvPr/>
          </p:nvSpPr>
          <p:spPr>
            <a:xfrm>
              <a:off x="182880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228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956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956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73280" y="2320920"/>
              <a:ext cx="642960" cy="642960"/>
              <a:chOff x="2573280" y="2320920"/>
              <a:chExt cx="642960" cy="642960"/>
            </a:xfrm>
          </p:grpSpPr>
          <p:sp>
            <p:nvSpPr>
              <p:cNvPr id="365" name=""/>
              <p:cNvSpPr/>
              <p:nvPr/>
            </p:nvSpPr>
            <p:spPr>
              <a:xfrm>
                <a:off x="2573280" y="23209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79760" y="23256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87680" y="2329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94160" y="23353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28000" y="23508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71332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05120" y="30830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59560" y="2317680"/>
            <a:ext cx="2163600" cy="3165480"/>
            <a:chOff x="6559560" y="2317680"/>
            <a:chExt cx="2163600" cy="3165480"/>
          </a:xfrm>
        </p:grpSpPr>
        <p:sp>
          <p:nvSpPr>
            <p:cNvPr id="373" name=""/>
            <p:cNvSpPr/>
            <p:nvPr/>
          </p:nvSpPr>
          <p:spPr>
            <a:xfrm>
              <a:off x="6559560" y="26254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93040" y="26337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10320" y="46972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10320" y="26557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304040" y="2317680"/>
              <a:ext cx="642960" cy="642960"/>
              <a:chOff x="7304040" y="2317680"/>
              <a:chExt cx="642960" cy="642960"/>
            </a:xfrm>
          </p:grpSpPr>
          <p:sp>
            <p:nvSpPr>
              <p:cNvPr id="378" name=""/>
              <p:cNvSpPr/>
              <p:nvPr/>
            </p:nvSpPr>
            <p:spPr>
              <a:xfrm>
                <a:off x="7304040" y="23176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10520" y="23223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18440" y="23263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24920" y="23320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58760" y="23475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444080" y="2409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35880" y="3079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191120" y="2320920"/>
            <a:ext cx="2163600" cy="3165480"/>
            <a:chOff x="4191120" y="2320920"/>
            <a:chExt cx="2163600" cy="3165480"/>
          </a:xfrm>
        </p:grpSpPr>
        <p:sp>
          <p:nvSpPr>
            <p:cNvPr id="386" name=""/>
            <p:cNvSpPr/>
            <p:nvPr/>
          </p:nvSpPr>
          <p:spPr>
            <a:xfrm>
              <a:off x="4191120" y="26287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24600" y="26370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41880" y="47005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41880" y="26589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35600" y="23209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42080" y="23256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50000" y="23288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56120" y="23353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91400" y="23511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564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67440" y="30830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4320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1828800"/>
            <a:ext cx="9144000" cy="3960360"/>
            <a:chOff x="0" y="1828800"/>
            <a:chExt cx="9144000" cy="3960360"/>
          </a:xfrm>
        </p:grpSpPr>
        <p:grpSp>
          <p:nvGrpSpPr>
            <p:cNvPr id="400" name=""/>
            <p:cNvGrpSpPr/>
            <p:nvPr/>
          </p:nvGrpSpPr>
          <p:grpSpPr>
            <a:xfrm>
              <a:off x="0" y="3009960"/>
              <a:ext cx="9144000" cy="122040"/>
              <a:chOff x="0" y="3009960"/>
              <a:chExt cx="9144000" cy="1220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30099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30567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1227240" y="2457360"/>
              <a:ext cx="1931760" cy="3265200"/>
              <a:chOff x="1227240" y="2457360"/>
              <a:chExt cx="1931760" cy="32652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632960" y="3297960"/>
                <a:ext cx="1526040" cy="2424600"/>
                <a:chOff x="1632960" y="3297960"/>
                <a:chExt cx="1526040" cy="2424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1632960" y="3455640"/>
                  <a:ext cx="1420200" cy="2266920"/>
                  <a:chOff x="1632960" y="3455640"/>
                  <a:chExt cx="1420200" cy="22669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3876600">
                    <a:off x="120528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3876600">
                    <a:off x="2572560" y="52218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2069280" y="3297960"/>
                  <a:ext cx="1089720" cy="1739520"/>
                  <a:chOff x="2069280" y="3297960"/>
                  <a:chExt cx="1089720" cy="1739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1740600" y="39787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2774520" y="46609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227240" y="2457360"/>
                <a:ext cx="1270440" cy="1309320"/>
                <a:chOff x="1227240" y="2457360"/>
                <a:chExt cx="1270440" cy="13093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2272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2272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311120" y="25423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311120" y="25452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365840" y="26002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1380960" y="2615760"/>
                  <a:ext cx="962280" cy="992880"/>
                  <a:chOff x="1380960" y="2615760"/>
                  <a:chExt cx="962280" cy="9928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380960" y="26157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393200" y="26211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402920" y="26305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55480" y="26560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rot="3925800">
                <a:off x="159408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925800">
                <a:off x="205560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975040" y="2457360"/>
              <a:ext cx="1931040" cy="3265200"/>
              <a:chOff x="2975040" y="2457360"/>
              <a:chExt cx="1931040" cy="3265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379680" y="3297960"/>
                <a:ext cx="1526400" cy="2424600"/>
                <a:chOff x="3379680" y="3297960"/>
                <a:chExt cx="1526400" cy="24246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3379680" y="3455640"/>
                  <a:ext cx="1420200" cy="2266920"/>
                  <a:chOff x="3379680" y="3455640"/>
                  <a:chExt cx="1420200" cy="22669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876600">
                    <a:off x="295200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876600">
                    <a:off x="4319280" y="52214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3816000" y="3297960"/>
                  <a:ext cx="1090080" cy="1739520"/>
                  <a:chOff x="3816000" y="3297960"/>
                  <a:chExt cx="1090080" cy="17395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3487680" y="39787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4521600" y="46598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2975040" y="2457360"/>
                <a:ext cx="1270440" cy="1309320"/>
                <a:chOff x="2975040" y="2457360"/>
                <a:chExt cx="1270440" cy="13093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9750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975040" y="24573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058920" y="25423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058920" y="25452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13640" y="26002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3128760" y="2615760"/>
                  <a:ext cx="962280" cy="992880"/>
                  <a:chOff x="3128760" y="2615760"/>
                  <a:chExt cx="962280" cy="9928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128760" y="26157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141000" y="26211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150720" y="26305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203280" y="26560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 rot="3925800">
                <a:off x="333540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925800">
                <a:off x="379764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778280" y="2457360"/>
              <a:ext cx="1931760" cy="3265200"/>
              <a:chOff x="4778280" y="2457360"/>
              <a:chExt cx="1931760" cy="32652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184000" y="3297960"/>
                <a:ext cx="1526040" cy="2424600"/>
                <a:chOff x="5184000" y="3297960"/>
                <a:chExt cx="1526040" cy="242460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184000" y="3455640"/>
                  <a:ext cx="1420200" cy="2266920"/>
                  <a:chOff x="5184000" y="3455640"/>
                  <a:chExt cx="1420200" cy="22669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3876600">
                    <a:off x="4756320" y="43426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3876600">
                    <a:off x="6123600" y="52218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620320" y="3297960"/>
                  <a:ext cx="1089720" cy="1739520"/>
                  <a:chOff x="5620320" y="3297960"/>
                  <a:chExt cx="1089720" cy="17395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291640" y="39787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6325560" y="46609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4778280" y="2457360"/>
                <a:ext cx="1272240" cy="1309320"/>
                <a:chOff x="4778280" y="2457360"/>
                <a:chExt cx="1272240" cy="13093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778280" y="24573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778280" y="24573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862520" y="25423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862520" y="25452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917240" y="26002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932360" y="2615760"/>
                  <a:ext cx="963720" cy="992880"/>
                  <a:chOff x="4932360" y="2615760"/>
                  <a:chExt cx="963720" cy="9928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932360" y="26157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944600" y="26211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954680" y="26305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006880" y="26560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 rot="3925800">
                <a:off x="5148360" y="4274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925800">
                <a:off x="5610240" y="3995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54880" y="2313000"/>
              <a:ext cx="2122200" cy="3476160"/>
              <a:chOff x="6554880" y="2313000"/>
              <a:chExt cx="2122200" cy="347616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151040" y="3364560"/>
                <a:ext cx="1526040" cy="2424600"/>
                <a:chOff x="7151040" y="3364560"/>
                <a:chExt cx="1526040" cy="242460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7151040" y="3522240"/>
                  <a:ext cx="1420200" cy="2266920"/>
                  <a:chOff x="7151040" y="3522240"/>
                  <a:chExt cx="1420200" cy="22669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3876600">
                    <a:off x="6723360" y="4409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3876600">
                    <a:off x="8090640" y="5288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587360" y="3364560"/>
                  <a:ext cx="1089720" cy="1739520"/>
                  <a:chOff x="7587360" y="3364560"/>
                  <a:chExt cx="1089720" cy="17395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258680" y="4045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V="1" rot="3876600">
                    <a:off x="8292600" y="4727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f389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"/>
              <p:cNvSpPr/>
              <p:nvPr/>
            </p:nvSpPr>
            <p:spPr>
              <a:xfrm>
                <a:off x="6554880" y="23130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4880" y="23130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56400" y="24163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58200" y="24192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21560" y="24843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740640" y="2503440"/>
                <a:ext cx="1157400" cy="1190160"/>
                <a:chOff x="6740640" y="2503440"/>
                <a:chExt cx="1157400" cy="1190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740640" y="25034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755400" y="25099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767280" y="25214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830280" y="25516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 rot="3925800">
                <a:off x="7101000" y="441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3925800">
                <a:off x="7561440" y="4138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f389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1566720" y="1828800"/>
              <a:ext cx="6056640" cy="407880"/>
              <a:chOff x="1566720" y="1828800"/>
              <a:chExt cx="6056640" cy="407880"/>
            </a:xfrm>
          </p:grpSpPr>
          <p:sp>
            <p:nvSpPr>
              <p:cNvPr id="487" name=""/>
              <p:cNvSpPr/>
              <p:nvPr/>
            </p:nvSpPr>
            <p:spPr>
              <a:xfrm>
                <a:off x="156672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21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67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85728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230292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>
                <a:stCxn id="488" idx="3"/>
                <a:endCxn id="489" idx="1"/>
              </p:cNvCxnSpPr>
              <p:nvPr/>
            </p:nvCxnSpPr>
            <p:spPr>
              <a:xfrm>
                <a:off x="405756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"/>
              <p:cNvCxnSpPr/>
              <p:nvPr/>
            </p:nvCxnSpPr>
            <p:spPr>
              <a:xfrm>
                <a:off x="580392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4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523880" y="2133720"/>
            <a:ext cx="6858000" cy="3428640"/>
            <a:chOff x="1523880" y="2133720"/>
            <a:chExt cx="6858000" cy="3428640"/>
          </a:xfrm>
        </p:grpSpPr>
        <p:sp>
          <p:nvSpPr>
            <p:cNvPr id="497" name=""/>
            <p:cNvSpPr/>
            <p:nvPr/>
          </p:nvSpPr>
          <p:spPr>
            <a:xfrm>
              <a:off x="581868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7128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6bac"/>
                </a:gs>
                <a:gs pos="100000">
                  <a:srgbClr val="622c8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388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2c9e5"/>
                </a:gs>
                <a:gs pos="100000">
                  <a:srgbClr val="64b4d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c9e5"/>
                </a:gs>
                <a:gs pos="100000">
                  <a:srgbClr val="64b4d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6bac"/>
                </a:gs>
                <a:gs pos="100000">
                  <a:srgbClr val="622c8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07d"/>
                </a:gs>
                <a:gs pos="100000">
                  <a:srgbClr val="ea4a4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510" name="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d143f"/>
                </a:gs>
              </a:gsLst>
              <a:lin ang="1980000"/>
            </a:gra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868120" y="2244600"/>
              <a:ext cx="901080" cy="124200"/>
              <a:chOff x="2868120" y="2244600"/>
              <a:chExt cx="901080" cy="124200"/>
            </a:xfrm>
          </p:grpSpPr>
          <p:sp>
            <p:nvSpPr>
              <p:cNvPr id="512" name="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54520" y="224532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327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0548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64b4dc"/>
            </a:soli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532760" y="2244600"/>
              <a:ext cx="901080" cy="124200"/>
              <a:chOff x="4532760" y="2244600"/>
              <a:chExt cx="90108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19160" y="224532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9740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7012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520488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d143f"/>
                </a:gs>
              </a:gsLst>
              <a:lin ang="1980000"/>
            </a:gra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440" y="224532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9712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252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64b4dc"/>
            </a:solidFill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523880" y="2057400"/>
          <a:ext cx="7238880" cy="3581280"/>
        </p:xfrm>
        <a:graphic>
          <a:graphicData uri="http://schemas.openxmlformats.org/drawingml/2006/table">
            <a:tbl>
              <a:tblPr/>
              <a:tblGrid>
                <a:gridCol w="1446120"/>
                <a:gridCol w="1158840"/>
                <a:gridCol w="1157400"/>
                <a:gridCol w="1157400"/>
                <a:gridCol w="1160280"/>
                <a:gridCol w="115884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f389d"/>
                      </a:solidFill>
                    </a:lnR>
                    <a:lnT>
                      <a:noFill/>
                    </a:lnT>
                    <a:lnB w="5760">
                      <a:solidFill>
                        <a:srgbClr val="0f389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64b4dc"/>
                        </a:gs>
                        <a:gs pos="50000">
                          <a:srgbClr val="aed7ec"/>
                        </a:gs>
                        <a:gs pos="100000">
                          <a:srgbClr val="64b4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389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389d"/>
                      </a:solidFill>
                    </a:lnL>
                    <a:lnR w="5760">
                      <a:solidFill>
                        <a:srgbClr val="0f389d"/>
                      </a:solidFill>
                    </a:lnR>
                    <a:lnT w="5760">
                      <a:solidFill>
                        <a:srgbClr val="0f389d"/>
                      </a:solidFill>
                    </a:lnT>
                    <a:lnB w="5760">
                      <a:solidFill>
                        <a:srgbClr val="0f389d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56440" y="1212480"/>
            <a:ext cx="7431480" cy="4917960"/>
            <a:chOff x="856440" y="1212480"/>
            <a:chExt cx="7431480" cy="4917960"/>
          </a:xfrm>
        </p:grpSpPr>
        <p:sp>
          <p:nvSpPr>
            <p:cNvPr id="543" name=""/>
            <p:cNvSpPr/>
            <p:nvPr/>
          </p:nvSpPr>
          <p:spPr>
            <a:xfrm>
              <a:off x="251460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0d0d0">
                    <a:alpha val="38039"/>
                  </a:srgbClr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78884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84428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70964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76184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76508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76688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75068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483372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472716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f38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856440" y="1509840"/>
              <a:ext cx="6918480" cy="4356720"/>
              <a:chOff x="856440" y="1509840"/>
              <a:chExt cx="6918480" cy="4356720"/>
            </a:xfrm>
          </p:grpSpPr>
          <p:sp>
            <p:nvSpPr>
              <p:cNvPr id="554" name=""/>
              <p:cNvSpPr/>
              <p:nvPr/>
            </p:nvSpPr>
            <p:spPr>
              <a:xfrm rot="20712600">
                <a:off x="110916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712600">
                <a:off x="451296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712600">
                <a:off x="588888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330560" y="1212480"/>
              <a:ext cx="6957360" cy="4863240"/>
              <a:chOff x="1330560" y="1212480"/>
              <a:chExt cx="6957360" cy="4863240"/>
            </a:xfrm>
          </p:grpSpPr>
          <p:sp>
            <p:nvSpPr>
              <p:cNvPr id="558" name=""/>
              <p:cNvSpPr/>
              <p:nvPr/>
            </p:nvSpPr>
            <p:spPr>
              <a:xfrm rot="20601600">
                <a:off x="640044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539200">
                <a:off x="165060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601600">
                <a:off x="508464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 rot="20601600">
              <a:off x="330660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338292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4296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4276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1396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8536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3784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1928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523880" y="1863720"/>
            <a:ext cx="7391520" cy="4156200"/>
            <a:chOff x="1523880" y="1863720"/>
            <a:chExt cx="7391520" cy="4156200"/>
          </a:xfrm>
        </p:grpSpPr>
        <p:sp>
          <p:nvSpPr>
            <p:cNvPr id="572" name=""/>
            <p:cNvSpPr/>
            <p:nvPr/>
          </p:nvSpPr>
          <p:spPr>
            <a:xfrm>
              <a:off x="251460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86000" y="186372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f389d"/>
                </a:gs>
                <a:gs pos="50000">
                  <a:srgbClr val="a0b0d7"/>
                </a:gs>
                <a:gs pos="100000">
                  <a:srgbClr val="0f389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65640" y="32353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f389d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523880" y="4498920"/>
              <a:ext cx="1486080" cy="1514520"/>
              <a:chOff x="1523880" y="4498920"/>
              <a:chExt cx="1486080" cy="15145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1523880" y="4498920"/>
                <a:ext cx="1486080" cy="1514520"/>
                <a:chOff x="1523880" y="4498920"/>
                <a:chExt cx="1486080" cy="15145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52388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4a46"/>
                    </a:gs>
                    <a:gs pos="100000">
                      <a:srgbClr val="942e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69380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a4a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8192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3429000" y="4498920"/>
              <a:ext cx="1523880" cy="1521000"/>
              <a:chOff x="3429000" y="4498920"/>
              <a:chExt cx="1523880" cy="152100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3429000" y="4498920"/>
                <a:ext cx="1523880" cy="1521000"/>
                <a:chOff x="3429000" y="4498920"/>
                <a:chExt cx="1523880" cy="15210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42900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2c8a"/>
                    </a:gs>
                    <a:gs pos="100000">
                      <a:srgbClr val="321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60324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22c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350532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486400" y="4454640"/>
              <a:ext cx="1523880" cy="1520640"/>
              <a:chOff x="5486400" y="4454640"/>
              <a:chExt cx="1523880" cy="1520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5486400" y="4454640"/>
                <a:ext cx="1523880" cy="1520640"/>
                <a:chOff x="5486400" y="4454640"/>
                <a:chExt cx="1523880" cy="1520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548640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b4dc"/>
                    </a:gs>
                    <a:gs pos="100000">
                      <a:srgbClr val="335c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66064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4b4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556272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391160" y="4454640"/>
              <a:ext cx="1524240" cy="1531800"/>
              <a:chOff x="7391160" y="4454640"/>
              <a:chExt cx="1524240" cy="15318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391160" y="4454640"/>
                <a:ext cx="1524240" cy="1531800"/>
                <a:chOff x="7391160" y="4454640"/>
                <a:chExt cx="1524240" cy="15318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39116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c856"/>
                    </a:gs>
                    <a:gs pos="100000">
                      <a:srgbClr val="2930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6540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ac85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753408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2133720" y="1219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2c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f389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93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94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22c8a"/>
                  </a:gs>
                  <a:gs pos="100000">
                    <a:srgbClr val="2d143f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01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09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22c8a"/>
                  </a:gs>
                  <a:gs pos="100000">
                    <a:srgbClr val="2d143f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17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18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9360">
                <a:solidFill>
                  <a:srgbClr val="0f38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389d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22c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389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51D0-10E1-430D-9377-BBB4C18AF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0" y="45720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89d"/>
                    </a:gs>
                    <a:gs pos="100000">
                      <a:srgbClr val="622c8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89d"/>
                  </a:gs>
                  <a:gs pos="100000">
                    <a:srgbClr val="622c8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f389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4b4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f389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6386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389d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  <a:p>
            <a:pPr>
              <a:buClr>
                <a:srgbClr val="0f389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f389d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72200" y="3352680"/>
            <a:ext cx="2286000" cy="2666880"/>
            <a:chOff x="6172200" y="3352680"/>
            <a:chExt cx="2286000" cy="2666880"/>
          </a:xfrm>
        </p:grpSpPr>
        <p:sp>
          <p:nvSpPr>
            <p:cNvPr id="132" name=""/>
            <p:cNvSpPr/>
            <p:nvPr/>
          </p:nvSpPr>
          <p:spPr>
            <a:xfrm>
              <a:off x="617220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54780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52480" y="3352680"/>
            <a:ext cx="2286000" cy="2666880"/>
            <a:chOff x="1752480" y="335268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752480" y="33526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4788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08b88"/>
              </a:gs>
              <a:gs pos="100000">
                <a:srgbClr val="ea4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bbd8"/>
              </a:gs>
              <a:gs pos="100000">
                <a:srgbClr val="622c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1628640"/>
            <a:ext cx="2998440" cy="1601280"/>
            <a:chOff x="3657600" y="162864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657600" y="1628640"/>
              <a:ext cx="2998440" cy="1601280"/>
              <a:chOff x="3657600" y="162864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657600" y="1771560"/>
                <a:ext cx="2998440" cy="1458360"/>
                <a:chOff x="3657600" y="177156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690360" y="18180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1542"/>
                    </a:gs>
                    <a:gs pos="100000">
                      <a:srgbClr val="622c8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57600" y="17715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2c8a"/>
                    </a:gs>
                    <a:gs pos="100000">
                      <a:srgbClr val="b8a0c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f389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798720" y="16286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4b4dc"/>
                  </a:gs>
                  <a:gs pos="100000">
                    <a:srgbClr val="2e526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33640" y="16365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e3f1"/>
                  </a:gs>
                  <a:gs pos="100000">
                    <a:srgbClr val="64b4d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60640" y="16491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4b4dc">
                      <a:alpha val="48235"/>
                    </a:srgbClr>
                  </a:gs>
                  <a:gs pos="100000">
                    <a:srgbClr val="4e8ea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92400" y="16761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4b4d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9244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23880" y="1874520"/>
            <a:ext cx="6956640" cy="4583520"/>
            <a:chOff x="1523880" y="1874520"/>
            <a:chExt cx="6956640" cy="4583520"/>
          </a:xfrm>
        </p:grpSpPr>
        <p:sp>
          <p:nvSpPr>
            <p:cNvPr id="152" name=""/>
            <p:cNvSpPr/>
            <p:nvPr/>
          </p:nvSpPr>
          <p:spPr>
            <a:xfrm rot="20241600">
              <a:off x="2153880" y="29541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6f6f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3160" y="22096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22c8a"/>
                </a:gs>
                <a:gs pos="100000">
                  <a:srgbClr val="210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7920" y="35272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4b4dc"/>
                </a:gs>
                <a:gs pos="100000">
                  <a:srgbClr val="1f38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2000" y="49942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531a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00520" y="44496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6280" y="24066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aac856"/>
                </a:gs>
                <a:gs pos="100000">
                  <a:srgbClr val="3a44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5080" y="3922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60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8360" y="28447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6080" y="4844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6160" y="5383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0760" y="38098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89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63840" y="2604960"/>
              <a:ext cx="1627200" cy="125100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>
              <a:off x="1648800" y="2604600"/>
              <a:ext cx="1726560" cy="1080"/>
            </a:xfrm>
            <a:prstGeom prst="straightConnector1">
              <a:avLst/>
            </a:prstGeom>
            <a:ln w="9360">
              <a:solidFill>
                <a:srgbClr val="0f389d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1523880" y="22096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4a4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4216320" y="4286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6320" y="32731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2e5265">
                    <a:alpha val="12156"/>
                  </a:srgbClr>
                </a:gs>
                <a:gs pos="100000">
                  <a:srgbClr val="64b4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52480" y="25491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2680" y="27662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39760" y="25491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10320" y="27662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4b4dc"/>
                </a:gs>
                <a:gs pos="100000">
                  <a:srgbClr val="2e52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12520" y="19810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b2220"/>
                </a:gs>
                <a:gs pos="50000">
                  <a:srgbClr val="ea4a46"/>
                </a:gs>
                <a:gs pos="100000">
                  <a:srgbClr val="6b22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5720" y="26942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64b4dc"/>
                </a:gs>
                <a:gs pos="100000">
                  <a:srgbClr val="9bcee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69920" y="2192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2720" y="55173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5200" y="49381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9bcee7">
                    <a:alpha val="12156"/>
                  </a:srgbClr>
                </a:gs>
                <a:gs pos="100000">
                  <a:srgbClr val="64b4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191" name=""/>
            <p:cNvGrpSpPr/>
            <p:nvPr/>
          </p:nvGrpSpPr>
          <p:grpSpPr>
            <a:xfrm>
              <a:off x="3618720" y="2286000"/>
              <a:ext cx="2900160" cy="2705400"/>
              <a:chOff x="3618720" y="2286000"/>
              <a:chExt cx="2900160" cy="270540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3537360" y="333252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6140880" y="328176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848120" y="468576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15360" y="228600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48200" y="242100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69520" y="254736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22c8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69520" y="254736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89040" y="267084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4174a"/>
                  </a:gs>
                  <a:gs pos="50000">
                    <a:srgbClr val="622c8a"/>
                  </a:gs>
                  <a:gs pos="100000">
                    <a:srgbClr val="34174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89040" y="267084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f389d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752480" y="378396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2480" y="328428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2785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5c27"/>
                </a:gs>
                <a:gs pos="50000">
                  <a:srgbClr val="aac856"/>
                </a:gs>
                <a:gs pos="100000">
                  <a:srgbClr val="4e5c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9840" y="378396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9840" y="328428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29840" y="2785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5265"/>
                </a:gs>
                <a:gs pos="50000">
                  <a:srgbClr val="64b4dc"/>
                </a:gs>
                <a:gs pos="100000">
                  <a:srgbClr val="2e5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84800" y="3284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2000" y="513936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89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8960" y="293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896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8960" y="3931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06920" y="293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06920" y="3931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980720" y="2362320"/>
            <a:ext cx="6324840" cy="3352320"/>
            <a:chOff x="1980720" y="2362320"/>
            <a:chExt cx="6324840" cy="3352320"/>
          </a:xfrm>
        </p:grpSpPr>
        <p:sp>
          <p:nvSpPr>
            <p:cNvPr id="218" name=""/>
            <p:cNvSpPr/>
            <p:nvPr/>
          </p:nvSpPr>
          <p:spPr>
            <a:xfrm>
              <a:off x="7780320" y="236232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90200" y="2362320"/>
              <a:ext cx="30153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6880" y="320292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40680" y="3202920"/>
              <a:ext cx="3241800" cy="540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4034880"/>
              <a:ext cx="517320" cy="844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11800" y="486828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51000" y="487332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981080" y="5708880"/>
              <a:ext cx="106992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81080" y="4868280"/>
              <a:ext cx="181800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80720" y="4038480"/>
              <a:ext cx="256644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81080" y="3209760"/>
              <a:ext cx="331488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980720" y="2368080"/>
              <a:ext cx="4063320" cy="0"/>
            </a:xfrm>
            <a:prstGeom prst="line">
              <a:avLst/>
            </a:prstGeom>
            <a:ln w="9360">
              <a:solidFill>
                <a:srgbClr val="0f3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2360" y="2362320"/>
              <a:ext cx="0" cy="87156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2360" y="323388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42360" y="405036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42360" y="4868280"/>
              <a:ext cx="0" cy="816480"/>
            </a:xfrm>
            <a:prstGeom prst="line">
              <a:avLst/>
            </a:prstGeom>
            <a:ln w="9360">
              <a:solidFill>
                <a:srgbClr val="0f389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4880" y="2525400"/>
              <a:ext cx="165780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4880" y="2903760"/>
              <a:ext cx="2496960" cy="3034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41760" y="3742920"/>
              <a:ext cx="2720880" cy="29772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96920" y="403488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9080" y="4578840"/>
              <a:ext cx="2944800" cy="2977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920" y="541476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232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82320" y="3512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82320" y="4377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2320" y="518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89d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00200" y="28260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89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34960" y="1600200"/>
            <a:ext cx="5270760" cy="4495680"/>
          </a:xfrm>
          <a:prstGeom prst="rightArrow">
            <a:avLst>
              <a:gd name="adj1" fmla="val 79306"/>
              <a:gd name="adj2" fmla="val 29039"/>
            </a:avLst>
          </a:prstGeom>
          <a:gradFill rotWithShape="0">
            <a:gsLst>
              <a:gs pos="0">
                <a:srgbClr val="64b4dc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a4a46"/>
              </a:gs>
              <a:gs pos="100000">
                <a:srgbClr val="ef807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22c8a"/>
              </a:gs>
              <a:gs pos="100000">
                <a:srgbClr val="906ba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89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89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89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730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800" spc="-1" strike="noStrike">
              <a:solidFill>
                <a:srgbClr val="0f38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4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