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62-4856-49BE-AD6B-13AF2A3C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471-5972-4BA1-8736-4D56E7FD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625-EA33-4026-A532-AF91A71C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423-5D46-4C3F-BFFC-8EB14C8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6B8-4650-402D-B2E1-1AF18FAE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8D99-665B-42CF-824E-DE0204F4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FD2-8650-40E4-89D1-D643FCB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BEA5-C545-4102-8412-C36DAA5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9F44-2634-469A-AAC7-3838394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D24-3A10-42BB-B53D-EEDC666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1E1F-B682-4609-9240-097BD44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220-0ED4-4092-848D-E69D9D9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56A9-2051-4C00-94F4-0D1B60D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23F-7B34-47BE-A22E-C025DEE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033-B062-4EBB-BB8A-4DC4CC5E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2986-995A-4F0C-8A29-2307ACD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B15-FE66-4DAB-9867-3BB680CA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0D2-3BB1-4325-9B0D-77E5A6BF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761-B6D4-42D1-A765-1D1228B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433-0C40-4E90-95CB-5035159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823-D9AD-4CD6-BF0C-2207094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8E3-C9F4-4833-A768-B53E0150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A16-456F-4A73-8AC4-60F6716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896-75CC-4864-A5E3-DADB36E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1F50-5B56-4E58-B85E-6661A519D6E7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75a2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48EC-9698-4A69-AAD1-5AC17FEA483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3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itle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75a2"/>
                </a:solidFill>
                <a:latin typeface="Impact"/>
              </a:rPr>
              <a:t>Essence of Time</a:t>
            </a: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57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钟表背景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75a2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523-13B0-4F29-9DA4-30681EEA0A5C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3600" spc="-1" strike="noStrike">
              <a:solidFill>
                <a:srgbClr val="3a75a2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6320" y="5187960"/>
            <a:ext cx="204768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0000" y="5187960"/>
            <a:ext cx="204768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943680" y="518796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87960"/>
            <a:ext cx="2048040" cy="1536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3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