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43F-FF37-46A1-AFDD-3712BA65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172620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6D5-F941-40CE-9226-705E15C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60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0BB-4A6D-4753-8A65-371C5F8F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224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0324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224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0324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A7A-A51E-410E-89E8-52EC2E5D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3A17-2696-400F-BD9A-2D363BC6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F6C4-9C45-4ADE-A360-8D2171A2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761-B529-4025-830F-82157D23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C60B-D40E-4DC6-A953-1BC7C0A5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04AC-16A8-4B4B-84C1-5CF6F65A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3411-8FAB-4C3E-B414-C2B90DAA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5C61-F87D-4F6A-8419-03C447C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FD8-F98B-45E9-8460-0871E84A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460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20A6-393C-497B-8C58-6EA18AC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C1BE-304F-4F57-AFF3-C3ACD00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172620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261D-3895-4884-8A21-E2439BF4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460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D738-8C23-4857-A7A5-C4F832B6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224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03240" y="1447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224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03240" y="1726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5EBB-9322-4F3D-AB62-48BA4C06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666-A66C-427F-B1F5-F577089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49F-A173-4BAB-A00F-231A44E3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18D-CD84-45C8-B683-B87733B0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9D5-F311-4A23-939D-F4069402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8B3-AC97-4228-AFE3-7A5333B3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600" y="1726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B8D-55D5-4155-826F-4412600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600" y="1447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1726200"/>
            <a:ext cx="6096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F00-311D-415D-9DAA-08C7BD15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59984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C642-27C4-4A4B-8ABE-DBBD2073F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CDE8-01BD-43DA-A54A-4C4379F95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0" y="7617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3880" y="1828800"/>
            <a:ext cx="426744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3162"/>
              </a:gs>
              <a:gs pos="50000">
                <a:srgbClr val="3366cc"/>
              </a:gs>
              <a:gs pos="100000">
                <a:srgbClr val="1831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meGall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52120" y="1828800"/>
            <a:ext cx="3505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10666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f49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66">
                      <a:alpha val="50000"/>
                    </a:srgbClr>
                  </a:outerShdw>
                </a:effectLst>
                <a:latin typeface="Arial Black"/>
              </a:rPr>
              <a:t>Power Template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f49a"/>
                  </a:gs>
                </a:gsLst>
                <a:lin ang="5400000"/>
              </a:gradFill>
              <a:effectLst>
                <a:outerShdw dist="71785" dir="2700000" blurRad="0" rotWithShape="0">
                  <a:srgbClr val="00006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04440" y="763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蓝色炫酷企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cc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cc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366d89"/>
              </a:gs>
              <a:gs pos="50000">
                <a:srgbClr val="66ccff"/>
              </a:gs>
              <a:gs pos="100000">
                <a:srgbClr val="366d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66ccff">
                  <a:alpha val="0"/>
                </a:srgbClr>
              </a:gs>
              <a:gs pos="100000">
                <a:srgbClr val="4081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e70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ffe70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897c00"/>
              </a:gs>
              <a:gs pos="50000">
                <a:srgbClr val="ffe701"/>
              </a:gs>
              <a:gs pos="100000">
                <a:srgbClr val="897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ffe701">
                  <a:alpha val="0"/>
                </a:srgbClr>
              </a:gs>
              <a:gs pos="100000">
                <a:srgbClr val="a192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209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66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172f5e"/>
              </a:gs>
              <a:gs pos="100000">
                <a:srgbClr val="3366c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1b366d"/>
              </a:gs>
              <a:gs pos="50000">
                <a:srgbClr val="3366cc"/>
              </a:gs>
              <a:gs pos="100000">
                <a:srgbClr val="1b36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3366cc">
                  <a:alpha val="0"/>
                </a:srgbClr>
              </a:gs>
              <a:gs pos="100000">
                <a:srgbClr val="2040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219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224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5181480"/>
            <a:ext cx="58672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282"/>
              </a:gs>
              <a:gs pos="100000">
                <a:srgbClr val="ffe701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66680" y="2293920"/>
            <a:ext cx="3041280" cy="2430000"/>
            <a:chOff x="1066680" y="2293920"/>
            <a:chExt cx="3041280" cy="2430000"/>
          </a:xfrm>
        </p:grpSpPr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 flipH="1">
              <a:off x="1073880" y="2293920"/>
              <a:ext cx="30218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066680" y="2297160"/>
              <a:ext cx="3041280" cy="242136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3d4a8">
                    <a:alpha val="30196"/>
                  </a:srgbClr>
                </a:gs>
                <a:gs pos="100000">
                  <a:srgbClr val="005cb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371600" y="282744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95480" y="1905120"/>
            <a:ext cx="27432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420080" y="2286000"/>
            <a:ext cx="3123720" cy="2437920"/>
            <a:chOff x="4420080" y="2286000"/>
            <a:chExt cx="3123720" cy="243792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4433400" y="2286000"/>
              <a:ext cx="310356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flipH="1">
              <a:off x="4419720" y="2289240"/>
              <a:ext cx="3123720" cy="242928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3d4a8">
                    <a:alpha val="30196"/>
                  </a:srgbClr>
                </a:gs>
                <a:gs pos="100000">
                  <a:srgbClr val="005cb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648320" y="292248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27364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76720" y="358128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2057400"/>
            <a:ext cx="3505320" cy="3276720"/>
          </a:xfrm>
          <a:prstGeom prst="leftArrowCallout">
            <a:avLst>
              <a:gd name="adj1" fmla="val 25002"/>
              <a:gd name="adj2" fmla="val 25000"/>
              <a:gd name="adj3" fmla="val 17829"/>
              <a:gd name="adj4" fmla="val 76961"/>
            </a:avLst>
          </a:prstGeom>
          <a:gradFill rotWithShape="0">
            <a:gsLst>
              <a:gs pos="0">
                <a:srgbClr val="3366cc"/>
              </a:gs>
              <a:gs pos="100000">
                <a:srgbClr val="0c1831"/>
              </a:gs>
            </a:gsLst>
            <a:lin ang="13500000"/>
          </a:gra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205740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2971800" cy="2625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952880" y="243828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e70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828800" y="1828800"/>
            <a:ext cx="5486400" cy="3962160"/>
            <a:chOff x="1828800" y="1828800"/>
            <a:chExt cx="5486400" cy="3962160"/>
          </a:xfrm>
        </p:grpSpPr>
        <p:sp>
          <p:nvSpPr>
            <p:cNvPr id="254" name=""/>
            <p:cNvSpPr/>
            <p:nvPr/>
          </p:nvSpPr>
          <p:spPr>
            <a:xfrm>
              <a:off x="1828800" y="1828800"/>
              <a:ext cx="5486400" cy="1229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48680" y="1942200"/>
              <a:ext cx="105696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14200" y="2007000"/>
              <a:ext cx="528480" cy="50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40480" y="22165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1080" y="20188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28800" y="3187800"/>
              <a:ext cx="5486400" cy="12276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48680" y="3299760"/>
              <a:ext cx="105696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14200" y="3364920"/>
              <a:ext cx="52848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40480" y="35769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51080" y="33544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8800" y="4561920"/>
              <a:ext cx="548640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48680" y="4675320"/>
              <a:ext cx="1056960" cy="1005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14200" y="4740120"/>
              <a:ext cx="52848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40480" y="4949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51080" y="47296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3086280"/>
            <a:ext cx="9144000" cy="122040"/>
            <a:chOff x="0" y="3086280"/>
            <a:chExt cx="9144000" cy="122040"/>
          </a:xfrm>
        </p:grpSpPr>
        <p:sp>
          <p:nvSpPr>
            <p:cNvPr id="271" name=""/>
            <p:cNvSpPr/>
            <p:nvPr/>
          </p:nvSpPr>
          <p:spPr>
            <a:xfrm>
              <a:off x="0" y="308628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313308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2120" y="2533680"/>
            <a:ext cx="1931760" cy="3264840"/>
            <a:chOff x="762120" y="2533680"/>
            <a:chExt cx="1931760" cy="3264840"/>
          </a:xfrm>
        </p:grpSpPr>
        <p:grpSp>
          <p:nvGrpSpPr>
            <p:cNvPr id="274" name=""/>
            <p:cNvGrpSpPr/>
            <p:nvPr/>
          </p:nvGrpSpPr>
          <p:grpSpPr>
            <a:xfrm>
              <a:off x="1167840" y="3374280"/>
              <a:ext cx="1526040" cy="2424240"/>
              <a:chOff x="1167840" y="3374280"/>
              <a:chExt cx="1526040" cy="24242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167840" y="3531960"/>
                <a:ext cx="1420200" cy="2266560"/>
                <a:chOff x="1167840" y="3531960"/>
                <a:chExt cx="1420200" cy="2266560"/>
              </a:xfrm>
            </p:grpSpPr>
            <p:sp>
              <p:nvSpPr>
                <p:cNvPr id="276" name=""/>
                <p:cNvSpPr/>
                <p:nvPr/>
              </p:nvSpPr>
              <p:spPr>
                <a:xfrm rot="3876600">
                  <a:off x="740160" y="4419000"/>
                  <a:ext cx="227520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3876600">
                  <a:off x="2107440" y="529776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1604160" y="3374280"/>
                <a:ext cx="1089720" cy="1739160"/>
                <a:chOff x="1604160" y="3374280"/>
                <a:chExt cx="1089720" cy="1739160"/>
              </a:xfrm>
            </p:grpSpPr>
            <p:sp>
              <p:nvSpPr>
                <p:cNvPr id="279" name=""/>
                <p:cNvSpPr/>
                <p:nvPr/>
              </p:nvSpPr>
              <p:spPr>
                <a:xfrm flipV="1" rot="3876600">
                  <a:off x="1275840" y="4054680"/>
                  <a:ext cx="174600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 rot="3876600">
                  <a:off x="2309040" y="473688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1" name=""/>
            <p:cNvGrpSpPr/>
            <p:nvPr/>
          </p:nvGrpSpPr>
          <p:grpSpPr>
            <a:xfrm>
              <a:off x="762120" y="2533680"/>
              <a:ext cx="1270440" cy="1309320"/>
              <a:chOff x="762120" y="2533680"/>
              <a:chExt cx="1270440" cy="1309320"/>
            </a:xfrm>
          </p:grpSpPr>
          <p:sp>
            <p:nvSpPr>
              <p:cNvPr id="282" name=""/>
              <p:cNvSpPr/>
              <p:nvPr/>
            </p:nvSpPr>
            <p:spPr>
              <a:xfrm>
                <a:off x="762120" y="253368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2120" y="253368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6000" y="261864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46000" y="26215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00720" y="267660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915840" y="2692080"/>
                <a:ext cx="962280" cy="992880"/>
                <a:chOff x="915840" y="2692080"/>
                <a:chExt cx="962280" cy="9928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915840" y="269208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928080" y="269748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37800" y="270684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990360" y="273240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2" name=""/>
            <p:cNvSpPr/>
            <p:nvPr/>
          </p:nvSpPr>
          <p:spPr>
            <a:xfrm rot="3925800">
              <a:off x="1128960" y="43506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925800">
              <a:off x="1590480" y="4071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509920" y="2533680"/>
            <a:ext cx="1930320" cy="3264840"/>
            <a:chOff x="2509920" y="2533680"/>
            <a:chExt cx="1930320" cy="3264840"/>
          </a:xfrm>
        </p:grpSpPr>
        <p:grpSp>
          <p:nvGrpSpPr>
            <p:cNvPr id="295" name=""/>
            <p:cNvGrpSpPr/>
            <p:nvPr/>
          </p:nvGrpSpPr>
          <p:grpSpPr>
            <a:xfrm>
              <a:off x="2914200" y="3374280"/>
              <a:ext cx="1526040" cy="2424240"/>
              <a:chOff x="2914200" y="3374280"/>
              <a:chExt cx="1526040" cy="24242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2914200" y="3531960"/>
                <a:ext cx="1420200" cy="2266560"/>
                <a:chOff x="2914200" y="3531960"/>
                <a:chExt cx="1420200" cy="2266560"/>
              </a:xfrm>
            </p:grpSpPr>
            <p:sp>
              <p:nvSpPr>
                <p:cNvPr id="297" name=""/>
                <p:cNvSpPr/>
                <p:nvPr/>
              </p:nvSpPr>
              <p:spPr>
                <a:xfrm rot="3876600">
                  <a:off x="2486520" y="4419000"/>
                  <a:ext cx="227520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3876600">
                  <a:off x="3853440" y="529776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350160" y="3374280"/>
                <a:ext cx="1090080" cy="1739160"/>
                <a:chOff x="3350160" y="3374280"/>
                <a:chExt cx="1090080" cy="1739160"/>
              </a:xfrm>
            </p:grpSpPr>
            <p:sp>
              <p:nvSpPr>
                <p:cNvPr id="300" name=""/>
                <p:cNvSpPr/>
                <p:nvPr/>
              </p:nvSpPr>
              <p:spPr>
                <a:xfrm flipV="1" rot="3876600">
                  <a:off x="3021840" y="4054680"/>
                  <a:ext cx="174600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 rot="3876600">
                  <a:off x="4055760" y="4735800"/>
                  <a:ext cx="274320" cy="3092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2509920" y="2533680"/>
              <a:ext cx="1270080" cy="1309320"/>
              <a:chOff x="2509920" y="2533680"/>
              <a:chExt cx="1270080" cy="1309320"/>
            </a:xfrm>
          </p:grpSpPr>
          <p:sp>
            <p:nvSpPr>
              <p:cNvPr id="303" name=""/>
              <p:cNvSpPr/>
              <p:nvPr/>
            </p:nvSpPr>
            <p:spPr>
              <a:xfrm>
                <a:off x="2509920" y="253368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509920" y="253368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93800" y="2618640"/>
                <a:ext cx="110160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93800" y="2621520"/>
                <a:ext cx="110160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48520" y="2676600"/>
                <a:ext cx="99252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2663640" y="2692080"/>
                <a:ext cx="961920" cy="992880"/>
                <a:chOff x="2663640" y="2692080"/>
                <a:chExt cx="961920" cy="9928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663640" y="2692080"/>
                  <a:ext cx="96192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675880" y="2697480"/>
                  <a:ext cx="9388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85600" y="2706840"/>
                  <a:ext cx="89280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738160" y="2732400"/>
                  <a:ext cx="7934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3" name=""/>
            <p:cNvSpPr/>
            <p:nvPr/>
          </p:nvSpPr>
          <p:spPr>
            <a:xfrm rot="3925800">
              <a:off x="2869920" y="43506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3925800">
              <a:off x="3332160" y="4071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313160" y="2533680"/>
            <a:ext cx="1931760" cy="3264840"/>
            <a:chOff x="4313160" y="2533680"/>
            <a:chExt cx="1931760" cy="3264840"/>
          </a:xfrm>
        </p:grpSpPr>
        <p:grpSp>
          <p:nvGrpSpPr>
            <p:cNvPr id="316" name=""/>
            <p:cNvGrpSpPr/>
            <p:nvPr/>
          </p:nvGrpSpPr>
          <p:grpSpPr>
            <a:xfrm>
              <a:off x="4718880" y="3374280"/>
              <a:ext cx="1526040" cy="2424240"/>
              <a:chOff x="4718880" y="3374280"/>
              <a:chExt cx="1526040" cy="24242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718880" y="3531960"/>
                <a:ext cx="1420200" cy="2266560"/>
                <a:chOff x="4718880" y="3531960"/>
                <a:chExt cx="1420200" cy="2266560"/>
              </a:xfrm>
            </p:grpSpPr>
            <p:sp>
              <p:nvSpPr>
                <p:cNvPr id="318" name=""/>
                <p:cNvSpPr/>
                <p:nvPr/>
              </p:nvSpPr>
              <p:spPr>
                <a:xfrm rot="3876600">
                  <a:off x="4291200" y="4419000"/>
                  <a:ext cx="227520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3876600">
                  <a:off x="5658480" y="529776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155200" y="3374280"/>
                <a:ext cx="1089720" cy="1739160"/>
                <a:chOff x="5155200" y="3374280"/>
                <a:chExt cx="1089720" cy="1739160"/>
              </a:xfrm>
            </p:grpSpPr>
            <p:sp>
              <p:nvSpPr>
                <p:cNvPr id="321" name=""/>
                <p:cNvSpPr/>
                <p:nvPr/>
              </p:nvSpPr>
              <p:spPr>
                <a:xfrm flipV="1" rot="3876600">
                  <a:off x="4826880" y="4054680"/>
                  <a:ext cx="174600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 rot="3876600">
                  <a:off x="5860080" y="473688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4313160" y="2533680"/>
              <a:ext cx="1272240" cy="1309320"/>
              <a:chOff x="4313160" y="2533680"/>
              <a:chExt cx="1272240" cy="1309320"/>
            </a:xfrm>
          </p:grpSpPr>
          <p:sp>
            <p:nvSpPr>
              <p:cNvPr id="324" name=""/>
              <p:cNvSpPr/>
              <p:nvPr/>
            </p:nvSpPr>
            <p:spPr>
              <a:xfrm>
                <a:off x="4313160" y="253368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13160" y="253368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97400" y="261864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97400" y="262152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52120" y="2676600"/>
                <a:ext cx="99396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4467240" y="2692080"/>
                <a:ext cx="963720" cy="992880"/>
                <a:chOff x="4467240" y="2692080"/>
                <a:chExt cx="963720" cy="9928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467240" y="2692080"/>
                  <a:ext cx="96372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479480" y="2697480"/>
                  <a:ext cx="9406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489560" y="2706840"/>
                  <a:ext cx="89424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41760" y="2732400"/>
                  <a:ext cx="7952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 rot="3925800">
              <a:off x="4683240" y="43506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3925800">
              <a:off x="5145120" y="40712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089760" y="2389320"/>
            <a:ext cx="2122200" cy="3476160"/>
            <a:chOff x="6089760" y="2389320"/>
            <a:chExt cx="2122200" cy="3476160"/>
          </a:xfrm>
        </p:grpSpPr>
        <p:grpSp>
          <p:nvGrpSpPr>
            <p:cNvPr id="337" name=""/>
            <p:cNvGrpSpPr/>
            <p:nvPr/>
          </p:nvGrpSpPr>
          <p:grpSpPr>
            <a:xfrm>
              <a:off x="6685920" y="3440880"/>
              <a:ext cx="1526040" cy="2424600"/>
              <a:chOff x="6685920" y="3440880"/>
              <a:chExt cx="1526040" cy="24246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685920" y="3598560"/>
                <a:ext cx="1420200" cy="2266920"/>
                <a:chOff x="6685920" y="3598560"/>
                <a:chExt cx="1420200" cy="2266920"/>
              </a:xfrm>
            </p:grpSpPr>
            <p:sp>
              <p:nvSpPr>
                <p:cNvPr id="339" name=""/>
                <p:cNvSpPr/>
                <p:nvPr/>
              </p:nvSpPr>
              <p:spPr>
                <a:xfrm rot="3876600">
                  <a:off x="6258240" y="448560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3876600">
                  <a:off x="7625520" y="536472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7122240" y="3440880"/>
                <a:ext cx="1089720" cy="1739520"/>
                <a:chOff x="7122240" y="3440880"/>
                <a:chExt cx="1089720" cy="1739520"/>
              </a:xfrm>
            </p:grpSpPr>
            <p:sp>
              <p:nvSpPr>
                <p:cNvPr id="342" name=""/>
                <p:cNvSpPr/>
                <p:nvPr/>
              </p:nvSpPr>
              <p:spPr>
                <a:xfrm flipV="1" rot="3876600">
                  <a:off x="6793560" y="412164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 rot="3876600">
                  <a:off x="7827480" y="480384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6089760" y="238932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9760" y="238932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91280" y="249264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3080" y="2495520"/>
              <a:ext cx="1325880" cy="13633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56440" y="2560680"/>
              <a:ext cx="119412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6275520" y="2579760"/>
              <a:ext cx="1157400" cy="1190160"/>
              <a:chOff x="6275520" y="2579760"/>
              <a:chExt cx="1157400" cy="1190160"/>
            </a:xfrm>
          </p:grpSpPr>
          <p:sp>
            <p:nvSpPr>
              <p:cNvPr id="350" name=""/>
              <p:cNvSpPr/>
              <p:nvPr/>
            </p:nvSpPr>
            <p:spPr>
              <a:xfrm>
                <a:off x="6275520" y="2579760"/>
                <a:ext cx="1157400" cy="1190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90280" y="2586240"/>
                <a:ext cx="112932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302160" y="2597760"/>
                <a:ext cx="1074240" cy="108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65160" y="2628000"/>
                <a:ext cx="954720" cy="88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925800">
              <a:off x="6635880" y="4493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925800">
              <a:off x="7096320" y="4214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101600" y="1676520"/>
            <a:ext cx="6056640" cy="407880"/>
            <a:chOff x="1101600" y="1676520"/>
            <a:chExt cx="6056640" cy="407880"/>
          </a:xfrm>
        </p:grpSpPr>
        <p:sp>
          <p:nvSpPr>
            <p:cNvPr id="357" name=""/>
            <p:cNvSpPr/>
            <p:nvPr/>
          </p:nvSpPr>
          <p:spPr>
            <a:xfrm>
              <a:off x="1101600" y="171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55880" y="171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01880" y="171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92160" y="16765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ff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1" name=""/>
            <p:cNvCxnSpPr>
              <a:stCxn id="357" idx="3"/>
              <a:endCxn id="358" idx="1"/>
            </p:cNvCxnSpPr>
            <p:nvPr/>
          </p:nvCxnSpPr>
          <p:spPr>
            <a:xfrm>
              <a:off x="1837800" y="1900080"/>
              <a:ext cx="986760" cy="1080"/>
            </a:xfrm>
            <a:prstGeom prst="straightConnector1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3"/>
              <a:endCxn id="359" idx="1"/>
            </p:cNvCxnSpPr>
            <p:nvPr/>
          </p:nvCxnSpPr>
          <p:spPr>
            <a:xfrm>
              <a:off x="3592440" y="1900080"/>
              <a:ext cx="978480" cy="1080"/>
            </a:xfrm>
            <a:prstGeom prst="straightConnector1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</p:cxnSp>
        <p:cxnSp>
          <p:nvCxnSpPr>
            <p:cNvPr id="363" name=""/>
            <p:cNvCxnSpPr/>
            <p:nvPr/>
          </p:nvCxnSpPr>
          <p:spPr>
            <a:xfrm>
              <a:off x="5338800" y="1904760"/>
              <a:ext cx="978480" cy="1080"/>
            </a:xfrm>
            <a:prstGeom prst="straightConnector1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95280" y="1752480"/>
            <a:ext cx="6324480" cy="3200040"/>
            <a:chOff x="1295280" y="1752480"/>
            <a:chExt cx="6324480" cy="3200040"/>
          </a:xfrm>
        </p:grpSpPr>
        <p:grpSp>
          <p:nvGrpSpPr>
            <p:cNvPr id="366" name=""/>
            <p:cNvGrpSpPr/>
            <p:nvPr/>
          </p:nvGrpSpPr>
          <p:grpSpPr>
            <a:xfrm>
              <a:off x="1295280" y="1752480"/>
              <a:ext cx="6324480" cy="3200040"/>
              <a:chOff x="1295280" y="1752480"/>
              <a:chExt cx="6324480" cy="3200040"/>
            </a:xfrm>
          </p:grpSpPr>
          <p:sp>
            <p:nvSpPr>
              <p:cNvPr id="367" name=""/>
              <p:cNvSpPr/>
              <p:nvPr/>
            </p:nvSpPr>
            <p:spPr>
              <a:xfrm>
                <a:off x="5256000" y="2470680"/>
                <a:ext cx="2363760" cy="2481840"/>
              </a:xfrm>
              <a:custGeom>
                <a:avLst/>
                <a:gdLst>
                  <a:gd name="textAreaLeft" fmla="*/ 0 w 2363760"/>
                  <a:gd name="textAreaRight" fmla="*/ 2364120 w 23637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b000"/>
                  </a:gs>
                  <a:gs pos="100000">
                    <a:srgbClr val="005500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75640" y="24706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33667f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295280" y="24706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93da"/>
                  </a:gs>
                  <a:gs pos="100000">
                    <a:srgbClr val="3366cc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86800" y="17524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093da"/>
                  </a:gs>
                  <a:gs pos="100000">
                    <a:srgbClr val="3366cc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hase 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431520" y="17524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33667f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hase 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84160" y="17524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b000"/>
                  </a:gs>
                  <a:gs pos="100000">
                    <a:srgbClr val="007f00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hase 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1829160" y="3090240"/>
              <a:ext cx="17294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25000" y="3103560"/>
              <a:ext cx="17312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89440" y="3103560"/>
              <a:ext cx="173088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71600" y="5181480"/>
            <a:ext cx="5943600" cy="685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76e"/>
              </a:gs>
              <a:gs pos="50000">
                <a:srgbClr val="3366cc"/>
              </a:gs>
              <a:gs pos="100000">
                <a:srgbClr val="1b376e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417760" y="4495680"/>
            <a:ext cx="4821120" cy="114300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0c183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20601600">
            <a:off x="1789200" y="2673360"/>
            <a:ext cx="4994280" cy="26020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dadad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20601600">
            <a:off x="1838160" y="2533320"/>
            <a:ext cx="4821480" cy="252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20601600">
            <a:off x="1764720" y="2523240"/>
            <a:ext cx="4939560" cy="25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95" y="2248"/>
                </a:moveTo>
                <a:arcTo wR="10800" hR="10800" stAng="-3141777" swAng="5155523"/>
                <a:lnTo>
                  <a:pt x="10800" y="10800"/>
                </a:lnTo>
                <a:close/>
              </a:path>
              <a:path fill="none" w="21600" h="21600">
                <a:moveTo>
                  <a:pt x="17395" y="2248"/>
                </a:moveTo>
                <a:arcTo wR="10800" hR="10800" stAng="-3141777" swAng="5155523"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9dddfe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rot="20602200">
            <a:off x="1808280" y="2519280"/>
            <a:ext cx="4893120" cy="254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8"/>
                </a:moveTo>
                <a:arcTo wR="10800" hR="10800" stAng="398260" swAng="5586891"/>
                <a:lnTo>
                  <a:pt x="10800" y="10800"/>
                </a:lnTo>
                <a:close/>
              </a:path>
              <a:path fill="none" w="21600" h="21600">
                <a:moveTo>
                  <a:pt x="21528" y="12048"/>
                </a:moveTo>
                <a:arcTo wR="10800" hR="10800" stAng="398260" swAng="5586891"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3468d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0601600">
            <a:off x="1770480" y="2532240"/>
            <a:ext cx="4924440" cy="244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79" y="1186"/>
                </a:moveTo>
                <a:arcTo wR="10800" hR="10800" stAng="-7026499" swAng="4201110"/>
                <a:lnTo>
                  <a:pt x="10800" y="10800"/>
                </a:lnTo>
                <a:close/>
              </a:path>
              <a:path fill="none" w="21600" h="21600">
                <a:moveTo>
                  <a:pt x="5879" y="1186"/>
                </a:moveTo>
                <a:arcTo wR="10800" hR="10800" stAng="-7026499" swAng="4201110"/>
              </a:path>
            </a:pathLst>
          </a:custGeom>
          <a:gradFill rotWithShape="0">
            <a:gsLst>
              <a:gs pos="0">
                <a:srgbClr val="4993b8"/>
              </a:gs>
              <a:gs pos="100000">
                <a:srgbClr val="66ccff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rot="20602200">
            <a:off x="1779480" y="2527560"/>
            <a:ext cx="4943160" cy="252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6" y="828"/>
                </a:moveTo>
                <a:arcTo wR="10800" hR="10800" stAng="-4045467" swAng="5794864"/>
                <a:lnTo>
                  <a:pt x="10800" y="10800"/>
                </a:lnTo>
                <a:close/>
              </a:path>
              <a:path fill="none" w="21600" h="21600">
                <a:moveTo>
                  <a:pt x="14946" y="828"/>
                </a:moveTo>
                <a:arcTo wR="10800" hR="10800" stAng="-4045467" swAng="5794864"/>
              </a:path>
            </a:pathLst>
          </a:cu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00640" y="3768840"/>
            <a:ext cx="1519200" cy="15332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f3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539200">
            <a:off x="1448280" y="2012040"/>
            <a:ext cx="5671800" cy="325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8" y="16758"/>
                </a:moveTo>
                <a:arcTo wR="10800" hR="10800" stAng="2008784" swAng="2800242"/>
                <a:lnTo>
                  <a:pt x="10800" y="10800"/>
                </a:lnTo>
                <a:close/>
              </a:path>
              <a:path fill="none" w="21600" h="21600">
                <a:moveTo>
                  <a:pt x="19808" y="16758"/>
                </a:moveTo>
                <a:arcTo wR="10800" hR="10800" stAng="2008784" swAng="2800242"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756a00"/>
              </a:gs>
            </a:gsLst>
            <a:lin ang="145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43480" y="4062240"/>
            <a:ext cx="890640" cy="127008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f38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20601600">
            <a:off x="3103200" y="3149280"/>
            <a:ext cx="2336760" cy="1155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76920" y="3735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27880" y="26859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12240" y="29480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720" y="3998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32440" y="45896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71840" y="4248000"/>
            <a:ext cx="749520" cy="93060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20601600">
            <a:off x="3192480" y="3366720"/>
            <a:ext cx="2241360" cy="941400"/>
          </a:xfrm>
          <a:prstGeom prst="ellipse">
            <a:avLst/>
          </a:prstGeom>
          <a:gradFill rotWithShape="0">
            <a:gsLst>
              <a:gs pos="0">
                <a:srgbClr val="214387"/>
              </a:gs>
              <a:gs pos="100000">
                <a:srgbClr val="3366cc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19920" y="20574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"/>
          <p:cNvCxnSpPr/>
          <p:nvPr/>
        </p:nvCxnSpPr>
        <p:spPr>
          <a:xfrm flipV="1" rot="10800000">
            <a:off x="5714280" y="2208600"/>
            <a:ext cx="24840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60948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"/>
          <p:cNvCxnSpPr/>
          <p:nvPr/>
        </p:nvCxnSpPr>
        <p:spPr>
          <a:xfrm>
            <a:off x="2437920" y="281952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2438280" y="1905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"/>
          <p:cNvCxnSpPr/>
          <p:nvPr/>
        </p:nvCxnSpPr>
        <p:spPr>
          <a:xfrm>
            <a:off x="4343040" y="205740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6705720" y="4876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 rot="10800000">
            <a:off x="6019200" y="441900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1219320" y="5715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 flipH="1" flipV="1" rot="5400000">
            <a:off x="2834280" y="533880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776760" y="292104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 flipH="1" flipV="1" rot="5400000">
            <a:off x="3804840" y="2904120"/>
            <a:ext cx="2279520" cy="232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501"/>
                </a:moveTo>
                <a:arcTo wR="10800" hR="10800" stAng="-10704666" swAng="10737983"/>
                <a:lnTo>
                  <a:pt x="10800" y="10800"/>
                </a:lnTo>
                <a:close/>
              </a:path>
              <a:path fill="none" w="21600" h="21600">
                <a:moveTo>
                  <a:pt x="4" y="10501"/>
                </a:moveTo>
                <a:arcTo wR="10800" hR="10800" stAng="-10704666" swAng="10737983"/>
              </a:path>
            </a:pathLst>
          </a:custGeom>
          <a:solidFill>
            <a:srgbClr val="33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 rot="16490400">
            <a:off x="3805200" y="2927160"/>
            <a:ext cx="2279880" cy="228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" y="11649"/>
                </a:moveTo>
                <a:arcTo wR="10800" hR="10800" stAng="10529578" swAng="10922138"/>
                <a:lnTo>
                  <a:pt x="10800" y="10800"/>
                </a:lnTo>
                <a:close/>
              </a:path>
              <a:path fill="none" w="21600" h="21600">
                <a:moveTo>
                  <a:pt x="33" y="11649"/>
                </a:moveTo>
                <a:arcTo wR="10800" hR="10800" stAng="10529578" swAng="10922138"/>
              </a:path>
            </a:pathLst>
          </a:custGeom>
          <a:solidFill>
            <a:srgbClr val="00b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497840" y="3794400"/>
            <a:ext cx="1622520" cy="1479600"/>
            <a:chOff x="4497840" y="3794400"/>
            <a:chExt cx="1622520" cy="1479600"/>
          </a:xfrm>
        </p:grpSpPr>
        <p:grpSp>
          <p:nvGrpSpPr>
            <p:cNvPr id="411" name=""/>
            <p:cNvGrpSpPr/>
            <p:nvPr/>
          </p:nvGrpSpPr>
          <p:grpSpPr>
            <a:xfrm>
              <a:off x="4872240" y="3794400"/>
              <a:ext cx="1248120" cy="1465920"/>
              <a:chOff x="4872240" y="3794400"/>
              <a:chExt cx="1248120" cy="1465920"/>
            </a:xfrm>
          </p:grpSpPr>
          <p:sp>
            <p:nvSpPr>
              <p:cNvPr id="412" name=""/>
              <p:cNvSpPr/>
              <p:nvPr/>
            </p:nvSpPr>
            <p:spPr>
              <a:xfrm flipH="1" flipV="1" rot="1528800">
                <a:off x="5567040" y="379872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 rot="2344200">
                <a:off x="5473080" y="397800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 rot="2640000">
                <a:off x="5395320" y="4065840"/>
                <a:ext cx="29700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 rot="3172200">
                <a:off x="5297760" y="41659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497840" y="4198320"/>
              <a:ext cx="1568880" cy="1075680"/>
              <a:chOff x="4497840" y="4198320"/>
              <a:chExt cx="1568880" cy="1075680"/>
            </a:xfrm>
          </p:grpSpPr>
          <p:sp>
            <p:nvSpPr>
              <p:cNvPr id="417" name=""/>
              <p:cNvSpPr/>
              <p:nvPr/>
            </p:nvSpPr>
            <p:spPr>
              <a:xfrm flipH="1" flipV="1" rot="2881800">
                <a:off x="5364720" y="4106880"/>
                <a:ext cx="29808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 rot="3697200">
                <a:off x="5209560" y="42354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 rot="3993000">
                <a:off x="5103360" y="428616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 rot="4525200">
                <a:off x="4974840" y="43416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3962520" y="391788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3429000"/>
            <a:ext cx="10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62480" y="3335400"/>
            <a:ext cx="342720" cy="108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638520" y="4724280"/>
            <a:ext cx="247680" cy="190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364640" y="5199480"/>
            <a:ext cx="40320" cy="310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411360" y="4136760"/>
            <a:ext cx="313200" cy="12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36800" y="2628720"/>
            <a:ext cx="720" cy="35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063840" y="4589280"/>
            <a:ext cx="254880" cy="18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999040" y="3115800"/>
            <a:ext cx="254160" cy="18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09880" y="2874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43000" y="291456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4bbe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017320" y="182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054040" y="186048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edb8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94720" y="30351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29880" y="2004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57320" y="38098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90800" y="384984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4bbe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42160" y="3970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54320" y="47736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87440" y="48132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4bbe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39160" y="4933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19440" y="55846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52920" y="562464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cc">
                  <a:alpha val="70196"/>
                </a:srgbClr>
              </a:gs>
              <a:gs pos="100000">
                <a:srgbClr val="a4bbe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04280" y="5745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269760" y="25574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306480" y="259560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edb8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82320" y="2739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6638040" y="35812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674760" y="36194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edb8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050600" y="3763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368400" y="46022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405480" y="4640400"/>
            <a:ext cx="130032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00">
                  <a:alpha val="70196"/>
                </a:srgbClr>
              </a:gs>
              <a:gs pos="100000">
                <a:srgbClr val="8edb8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0960" y="4784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222240" y="3908520"/>
            <a:ext cx="313920" cy="9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143000" y="1676520"/>
            <a:ext cx="3505320" cy="798480"/>
            <a:chOff x="1143000" y="1676520"/>
            <a:chExt cx="3505320" cy="798480"/>
          </a:xfrm>
        </p:grpSpPr>
        <p:sp>
          <p:nvSpPr>
            <p:cNvPr id="456" name=""/>
            <p:cNvSpPr/>
            <p:nvPr/>
          </p:nvSpPr>
          <p:spPr>
            <a:xfrm>
              <a:off x="1143000" y="1676520"/>
              <a:ext cx="3505320" cy="7934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1908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70080" y="1833480"/>
              <a:ext cx="3377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87640" y="1479600"/>
            <a:ext cx="5108400" cy="4664160"/>
          </a:xfrm>
          <a:prstGeom prst="sun">
            <a:avLst>
              <a:gd name="adj" fmla="val 24407"/>
            </a:avLst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095640" y="380520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086280" y="3805200"/>
            <a:ext cx="1455480" cy="150012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120"/>
              <a:gd name="textAreaBottom" fmla="*/ 1457640 h 1500120"/>
            </a:gdLst>
            <a:ahLst/>
            <a:rect l="textAreaLeft" t="textAreaTop" r="textAreaRight" b="textAreaBottom"/>
            <a:pathLst>
              <a:path w="21600" h="22262">
                <a:moveTo>
                  <a:pt x="2158" y="0"/>
                </a:moveTo>
                <a:arcTo wR="2158" hR="2158" stAng="16200000" swAng="-5400000"/>
                <a:lnTo>
                  <a:pt x="0" y="20104"/>
                </a:lnTo>
                <a:arcTo wR="2158" hR="2158" stAng="10800000" swAng="-5400000"/>
                <a:lnTo>
                  <a:pt x="19442" y="22262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00b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095640" y="225756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3086280" y="2257560"/>
            <a:ext cx="1455480" cy="150012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120"/>
              <a:gd name="textAreaBottom" fmla="*/ 1457640 h 1500120"/>
            </a:gdLst>
            <a:ahLst/>
            <a:rect l="textAreaLeft" t="textAreaTop" r="textAreaRight" b="textAreaBottom"/>
            <a:pathLst>
              <a:path w="21600" h="22262">
                <a:moveTo>
                  <a:pt x="2158" y="0"/>
                </a:moveTo>
                <a:arcTo wR="2158" hR="2158" stAng="16200000" swAng="-5400000"/>
                <a:lnTo>
                  <a:pt x="0" y="20104"/>
                </a:lnTo>
                <a:arcTo wR="2158" hR="2158" stAng="10800000" swAng="-5400000"/>
                <a:lnTo>
                  <a:pt x="19442" y="22262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ffe7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4610160" y="380520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600440" y="3805200"/>
            <a:ext cx="1451160" cy="1500120"/>
          </a:xfrm>
          <a:custGeom>
            <a:avLst/>
            <a:gdLst>
              <a:gd name="textAreaLeft" fmla="*/ 42120 w 1451160"/>
              <a:gd name="textAreaRight" fmla="*/ 1409040 w 1451160"/>
              <a:gd name="textAreaTop" fmla="*/ 42120 h 1500120"/>
              <a:gd name="textAreaBottom" fmla="*/ 1458000 h 1500120"/>
            </a:gdLst>
            <a:ahLst/>
            <a:rect l="textAreaLeft" t="textAreaTop" r="textAreaRight" b="textAreaBottom"/>
            <a:pathLst>
              <a:path w="21600" h="22329">
                <a:moveTo>
                  <a:pt x="2158" y="0"/>
                </a:moveTo>
                <a:arcTo wR="2158" hR="2158" stAng="16200000" swAng="-5400000"/>
                <a:lnTo>
                  <a:pt x="0" y="20171"/>
                </a:lnTo>
                <a:arcTo wR="2158" hR="2158" stAng="10800000" swAng="-5400000"/>
                <a:lnTo>
                  <a:pt x="19442" y="22329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33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4610160" y="2257560"/>
            <a:ext cx="1411200" cy="15001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600440" y="2257560"/>
            <a:ext cx="1403640" cy="1500120"/>
          </a:xfrm>
          <a:custGeom>
            <a:avLst/>
            <a:gdLst>
              <a:gd name="textAreaLeft" fmla="*/ 41040 w 1403640"/>
              <a:gd name="textAreaRight" fmla="*/ 1362600 w 1403640"/>
              <a:gd name="textAreaTop" fmla="*/ 41040 h 1500120"/>
              <a:gd name="textAreaBottom" fmla="*/ 1459080 h 1500120"/>
            </a:gdLst>
            <a:ahLst/>
            <a:rect l="textAreaLeft" t="textAreaTop" r="textAreaRight" b="textAreaBottom"/>
            <a:pathLst>
              <a:path w="21600" h="23084">
                <a:moveTo>
                  <a:pt x="2158" y="0"/>
                </a:moveTo>
                <a:arcTo wR="2158" hR="2158" stAng="16200000" swAng="-5400000"/>
                <a:lnTo>
                  <a:pt x="0" y="20926"/>
                </a:lnTo>
                <a:arcTo wR="2158" hR="2158" stAng="10800000" swAng="-5400000"/>
                <a:lnTo>
                  <a:pt x="19442" y="23084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160720" y="1432440"/>
            <a:ext cx="4904640" cy="4715640"/>
            <a:chOff x="2160720" y="1432440"/>
            <a:chExt cx="4904640" cy="4715640"/>
          </a:xfrm>
        </p:grpSpPr>
        <p:sp>
          <p:nvSpPr>
            <p:cNvPr id="469" name=""/>
            <p:cNvSpPr/>
            <p:nvPr/>
          </p:nvSpPr>
          <p:spPr>
            <a:xfrm flipH="1" rot="5400000">
              <a:off x="2273400" y="1333800"/>
              <a:ext cx="4692600" cy="488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8" y="17183"/>
                  </a:moveTo>
                  <a:arcTo wR="10800" hR="10800" stAng="8626049" swAng="5306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8" y="17183"/>
                  </a:moveTo>
                  <a:arcTo wR="10800" hR="10800" stAng="8626049" swAng="5306177"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rot="5400000">
              <a:off x="2268360" y="1352160"/>
              <a:ext cx="4691520" cy="488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794" y="16779"/>
                  </a:moveTo>
                  <a:arcTo wR="10800" hR="10800" stAng="2016719" swAng="68821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794" y="16779"/>
                  </a:moveTo>
                  <a:arcTo wR="10800" hR="10800" stAng="2016719" swAng="6882173"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rot="5400000">
              <a:off x="2258640" y="1349280"/>
              <a:ext cx="4691880" cy="48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44" y="4601"/>
                  </a:moveTo>
                  <a:arcTo wR="10800" hR="10800" stAng="-2101626" swAng="4262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44" y="4601"/>
                  </a:moveTo>
                  <a:arcTo wR="10800" hR="10800" stAng="-2101626" swAng="4262783"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rot="5400000">
              <a:off x="2275560" y="1358640"/>
              <a:ext cx="4689360" cy="488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98" y="2936"/>
                  </a:moveTo>
                  <a:arcTo wR="10800" hR="10800" stAng="-7996003" swAng="601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398" y="2936"/>
                  </a:moveTo>
                  <a:arcTo wR="10800" hR="10800" stAng="-7996003" swAng="6016597"/>
                </a:path>
              </a:pathLst>
            </a:cu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H="1">
            <a:off x="6248520" y="2943360"/>
            <a:ext cx="2209680" cy="1765080"/>
          </a:xfrm>
          <a:prstGeom prst="rightArrow">
            <a:avLst>
              <a:gd name="adj1" fmla="val 65176"/>
              <a:gd name="adj2" fmla="val 41897"/>
            </a:avLst>
          </a:prstGeom>
          <a:gradFill rotWithShape="0">
            <a:gsLst>
              <a:gs pos="0">
                <a:srgbClr val="9adf9a"/>
              </a:gs>
              <a:gs pos="100000">
                <a:srgbClr val="00b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3019320"/>
            <a:ext cx="2004840" cy="1981440"/>
          </a:xfrm>
          <a:prstGeom prst="rightArrow">
            <a:avLst>
              <a:gd name="adj1" fmla="val 65176"/>
              <a:gd name="adj2" fmla="val 33863"/>
            </a:avLst>
          </a:prstGeom>
          <a:gradFill rotWithShape="0">
            <a:gsLst>
              <a:gs pos="0">
                <a:srgbClr val="cbedfe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39520" y="3857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83120" y="36291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81400" y="27288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5640" y="27288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81400" y="42386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05640" y="42386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144600" y="3238560"/>
            <a:ext cx="6120" cy="2414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257440" y="3238560"/>
            <a:ext cx="4680" cy="2400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346880" y="2932200"/>
            <a:ext cx="0" cy="2730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71440" y="21826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5284800"/>
            <a:ext cx="1781280" cy="314280"/>
          </a:xfrm>
          <a:prstGeom prst="bevel">
            <a:avLst>
              <a:gd name="adj" fmla="val 5949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30480" y="40384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179712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24240" y="5284800"/>
            <a:ext cx="1781280" cy="314280"/>
          </a:xfrm>
          <a:prstGeom prst="bevel">
            <a:avLst>
              <a:gd name="adj" fmla="val 5949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9320" y="5284800"/>
            <a:ext cx="1780920" cy="314280"/>
          </a:xfrm>
          <a:prstGeom prst="bevel">
            <a:avLst>
              <a:gd name="adj" fmla="val 5949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0" y="40654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40514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09680" y="3559320"/>
            <a:ext cx="4038480" cy="228600"/>
            <a:chOff x="2209680" y="3559320"/>
            <a:chExt cx="4038480" cy="228600"/>
          </a:xfrm>
        </p:grpSpPr>
        <p:sp>
          <p:nvSpPr>
            <p:cNvPr id="91" name=""/>
            <p:cNvSpPr/>
            <p:nvPr/>
          </p:nvSpPr>
          <p:spPr>
            <a:xfrm>
              <a:off x="2438280" y="36738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9680" y="3559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b000"/>
                </a:gs>
                <a:gs pos="100000">
                  <a:srgbClr val="0074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09680" y="4230720"/>
            <a:ext cx="4038480" cy="228600"/>
            <a:chOff x="2209680" y="4230720"/>
            <a:chExt cx="4038480" cy="228600"/>
          </a:xfrm>
        </p:grpSpPr>
        <p:sp>
          <p:nvSpPr>
            <p:cNvPr id="94" name=""/>
            <p:cNvSpPr/>
            <p:nvPr/>
          </p:nvSpPr>
          <p:spPr>
            <a:xfrm>
              <a:off x="2438280" y="43452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09680" y="4230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21438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209680" y="4840200"/>
            <a:ext cx="4038480" cy="228600"/>
            <a:chOff x="2209680" y="4840200"/>
            <a:chExt cx="4038480" cy="228600"/>
          </a:xfrm>
        </p:grpSpPr>
        <p:sp>
          <p:nvSpPr>
            <p:cNvPr id="97" name=""/>
            <p:cNvSpPr/>
            <p:nvPr/>
          </p:nvSpPr>
          <p:spPr>
            <a:xfrm>
              <a:off x="2438280" y="495468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9680" y="48402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4387a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09680" y="2340000"/>
            <a:ext cx="4038480" cy="228600"/>
            <a:chOff x="2209680" y="2340000"/>
            <a:chExt cx="4038480" cy="228600"/>
          </a:xfrm>
        </p:grpSpPr>
        <p:sp>
          <p:nvSpPr>
            <p:cNvPr id="100" name=""/>
            <p:cNvSpPr/>
            <p:nvPr/>
          </p:nvSpPr>
          <p:spPr>
            <a:xfrm>
              <a:off x="2438280" y="245448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2340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a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09680" y="2911320"/>
            <a:ext cx="4038480" cy="228600"/>
            <a:chOff x="2209680" y="2911320"/>
            <a:chExt cx="4038480" cy="228600"/>
          </a:xfrm>
        </p:grpSpPr>
        <p:sp>
          <p:nvSpPr>
            <p:cNvPr id="103" name=""/>
            <p:cNvSpPr/>
            <p:nvPr/>
          </p:nvSpPr>
          <p:spPr>
            <a:xfrm>
              <a:off x="2438280" y="30258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09680" y="2911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2922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669040" y="19810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9040" y="2581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9040" y="32050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9040" y="384984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9040" y="44910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15238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785-5EC2-4598-BD1D-31193D62BD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1295280" y="990720"/>
            <a:ext cx="449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c1e9fe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66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50000">
                    <a:srgbClr val="c1e9fe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89604" dir="2700000" blurRad="0" rotWithShape="0">
                  <a:srgbClr val="00006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740960"/>
            <a:ext cx="7086600" cy="29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87692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2895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334120" cy="2751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3429000"/>
            <a:ext cx="5257440" cy="1523520"/>
            <a:chOff x="1905120" y="3429000"/>
            <a:chExt cx="5257440" cy="152352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1905120" y="3429000"/>
              <a:ext cx="1240200" cy="15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3303360" y="3429000"/>
              <a:ext cx="1127880" cy="15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4602600" y="3429000"/>
              <a:ext cx="1182240" cy="15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5901480" y="3429000"/>
              <a:ext cx="1261080" cy="152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1981080" y="49528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5120" y="12952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66680" y="1981080"/>
            <a:ext cx="20163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54864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5029200"/>
            <a:ext cx="201600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33526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418800">
            <a:off x="6592320" y="1788840"/>
            <a:ext cx="923760" cy="1003320"/>
          </a:xfrm>
          <a:prstGeom prst="rect">
            <a:avLst/>
          </a:prstGeom>
          <a:gradFill rotWithShape="0">
            <a:gsLst>
              <a:gs pos="0">
                <a:srgbClr val="ffe701"/>
              </a:gs>
              <a:gs pos="100000">
                <a:srgbClr val="756a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9760" y="3124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418800">
            <a:off x="1258560" y="2116080"/>
            <a:ext cx="924120" cy="1003320"/>
          </a:xfrm>
          <a:prstGeom prst="rect">
            <a:avLst/>
          </a:prstGeom>
          <a:gradFill rotWithShape="0">
            <a:gsLst>
              <a:gs pos="0">
                <a:srgbClr val="00b000"/>
              </a:gs>
              <a:gs pos="100000">
                <a:srgbClr val="0051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55400" y="247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3418800">
            <a:off x="2693520" y="4021200"/>
            <a:ext cx="924120" cy="10033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90360" y="4379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3418800">
            <a:off x="4611240" y="2931840"/>
            <a:ext cx="923760" cy="10033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08080" y="32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76560" y="2138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3070080"/>
            <a:ext cx="762120" cy="10670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57600" y="3657240"/>
            <a:ext cx="914400" cy="5554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562720" y="2514240"/>
            <a:ext cx="990360" cy="6224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1600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79520" y="534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3240" y="4343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4760" y="3581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7973000">
            <a:off x="4691880" y="255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3465600">
            <a:off x="4691520" y="4723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4368800">
            <a:off x="3472200" y="26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7534800">
            <a:off x="3434040" y="4690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70400" y="36878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2860200" y="36810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ccffff"/>
              </a:gs>
              <a:gs pos="100000">
                <a:srgbClr val="b4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06760" y="191916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2320" y="51768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0f9f8"/>
              </a:gs>
              <a:gs pos="100000">
                <a:srgbClr val="4dc9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1840" y="19051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1320" y="19051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46240" y="3657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1840" y="5257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6920" y="3657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5000" y="519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24400" y="5181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9f4fc"/>
              </a:gs>
              <a:gs pos="100000">
                <a:srgbClr val="cb90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62840" y="36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0f4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48440" y="19810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ef4e7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67000" y="20574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cfbf3"/>
              </a:gs>
              <a:gs pos="100000">
                <a:srgbClr val="edd9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28920" y="36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4f8ed"/>
              </a:gs>
              <a:gs pos="100000">
                <a:srgbClr val="82b82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352680" y="2743200"/>
            <a:ext cx="2160720" cy="2160720"/>
            <a:chOff x="3352680" y="2743200"/>
            <a:chExt cx="2160720" cy="2160720"/>
          </a:xfrm>
        </p:grpSpPr>
        <p:sp>
          <p:nvSpPr>
            <p:cNvPr id="167" name=""/>
            <p:cNvSpPr/>
            <p:nvPr/>
          </p:nvSpPr>
          <p:spPr>
            <a:xfrm>
              <a:off x="3352680" y="274320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3800" y="2884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5600" y="28875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5680" y="297828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625560" y="2997360"/>
              <a:ext cx="1636920" cy="1636560"/>
              <a:chOff x="3625560" y="2997360"/>
              <a:chExt cx="1636920" cy="1636560"/>
            </a:xfrm>
          </p:grpSpPr>
          <p:sp>
            <p:nvSpPr>
              <p:cNvPr id="172" name=""/>
              <p:cNvSpPr/>
              <p:nvPr/>
            </p:nvSpPr>
            <p:spPr>
              <a:xfrm>
                <a:off x="3625560" y="2997360"/>
                <a:ext cx="1636920" cy="1636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46440" y="300636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63360" y="3022200"/>
                <a:ext cx="1519200" cy="14911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52280" y="3063960"/>
                <a:ext cx="135036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063680" y="36021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981080" y="2514600"/>
            <a:ext cx="5181120" cy="2819520"/>
            <a:chOff x="1981080" y="2514600"/>
            <a:chExt cx="5181120" cy="2819520"/>
          </a:xfrm>
        </p:grpSpPr>
        <p:sp>
          <p:nvSpPr>
            <p:cNvPr id="178" name=""/>
            <p:cNvSpPr/>
            <p:nvPr/>
          </p:nvSpPr>
          <p:spPr>
            <a:xfrm>
              <a:off x="2761920" y="3965400"/>
              <a:ext cx="44002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6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5240" y="2514600"/>
              <a:ext cx="35676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6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2900520"/>
              <a:ext cx="194904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6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981080" y="2438280"/>
            <a:ext cx="5181120" cy="2742840"/>
            <a:chOff x="1981080" y="2438280"/>
            <a:chExt cx="5181120" cy="2742840"/>
          </a:xfrm>
        </p:grpSpPr>
        <p:sp>
          <p:nvSpPr>
            <p:cNvPr id="183" name=""/>
            <p:cNvSpPr/>
            <p:nvPr/>
          </p:nvSpPr>
          <p:spPr>
            <a:xfrm>
              <a:off x="2761920" y="3849480"/>
              <a:ext cx="4400280" cy="13316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5240" y="2438280"/>
              <a:ext cx="3567600" cy="169236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81080" y="2813760"/>
              <a:ext cx="1949040" cy="19069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638680" y="1828800"/>
            <a:ext cx="2210040" cy="91440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5334120"/>
            <a:ext cx="3048120" cy="85392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057400"/>
            <a:ext cx="2057400" cy="965160"/>
          </a:xfrm>
          <a:noFill/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666880"/>
            <a:ext cx="838080" cy="2210040"/>
          </a:xfrm>
          <a:prstGeom prst="rightArrow">
            <a:avLst>
              <a:gd name="adj1" fmla="val 58333"/>
              <a:gd name="adj2" fmla="val 6553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209680"/>
            <a:ext cx="3657600" cy="914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b000"/>
              </a:gs>
              <a:gs pos="100000">
                <a:srgbClr val="4cc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276720"/>
            <a:ext cx="3657600" cy="914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343400"/>
            <a:ext cx="3657600" cy="914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66cc"/>
              </a:gs>
              <a:gs pos="100000">
                <a:srgbClr val="7c9dd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2133720"/>
            <a:ext cx="1981080" cy="3124080"/>
          </a:xfrm>
          <a:custGeom>
            <a:avLst/>
            <a:gdLst>
              <a:gd name="textAreaLeft" fmla="*/ 52560 w 1981080"/>
              <a:gd name="textAreaRight" fmla="*/ 1928520 w 1981080"/>
              <a:gd name="textAreaTop" fmla="*/ 52560 h 3124080"/>
              <a:gd name="textAreaBottom" fmla="*/ 3071520 h 3124080"/>
            </a:gdLst>
            <a:ahLst/>
            <a:rect l="textAreaLeft" t="textAreaTop" r="textAreaRight" b="textAreaBottom"/>
            <a:pathLst>
              <a:path w="21600" h="34060">
                <a:moveTo>
                  <a:pt x="1967" y="0"/>
                </a:moveTo>
                <a:arcTo wR="1967" hR="1967" stAng="16200000" swAng="-5400000"/>
                <a:lnTo>
                  <a:pt x="0" y="32093"/>
                </a:lnTo>
                <a:arcTo wR="1967" hR="1967" stAng="10800000" swAng="-5400000"/>
                <a:lnTo>
                  <a:pt x="19633" y="34060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21:42:1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58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