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401-3091-4D70-AA87-15EC53C2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251-A504-43FA-BE19-EB14625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C39-465B-4BDE-AB3D-A206E88F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F9F-E9BA-4F37-8CE5-C09AA00C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434B-33B8-4B20-AD35-A1C6A0A9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A9E-ED9D-4B64-B9A5-83CDEC7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8FE-E635-4155-B0E7-E9BC134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BBB4-3875-4815-BB7C-884EAF1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1FEB-716A-45BA-AF1D-B33F533F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E634-FA48-4067-93F1-B65E6D35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6F9D-1CD1-4A48-BACC-36F69C6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EF3-7B24-4A9B-9585-4A020EA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0AF-AC35-481A-B477-5F963818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535-8924-486D-9886-0BC31A45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45C0-6576-462D-8654-F483FE2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B718-F7B6-435A-B7DA-9F6160E1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7C6-1E73-4EBE-AA91-66FA8EBE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CB2-0F93-4EDE-B42C-0B48EE2E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841-75FD-4AAF-81B0-8792F78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276-A99C-4E58-B7A0-B8656778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A66-B8E5-466C-AA3A-952CE4B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F03-E2B9-45BF-84B4-C09842D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3F6-33BC-4A1C-A341-6FEEAAA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905-E4EC-41B7-B422-1746AC0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8EE-EC0C-486D-8252-1B2AC421ECD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A7A-9F8F-489D-8B67-D9BAF9ECE66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27628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  <a:ea typeface="宋体"/>
              </a:rPr>
              <a:t>蓝色智能科技求职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87640" y="4005360"/>
            <a:ext cx="324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所选专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0458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316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89f7"/>
                </a:solidFill>
                <a:latin typeface="Tahoma"/>
              </a:rPr>
              <a:t>基本信息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342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更多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简历模板请访问三联素材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http://www.3lian.com/[PPT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素材，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模板免费下载无需注册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316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89f7"/>
                </a:solidFill>
                <a:latin typeface="Tahoma"/>
              </a:rPr>
              <a:t>自我评价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316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89f7"/>
                </a:solidFill>
                <a:latin typeface="Tahoma"/>
              </a:rPr>
              <a:t>教育背景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316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89f7"/>
                </a:solidFill>
                <a:latin typeface="Tahoma"/>
              </a:rPr>
              <a:t>工作经历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316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89f7"/>
                </a:solidFill>
                <a:latin typeface="Tahoma"/>
              </a:rPr>
              <a:t>专业技能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459-6A01-425F-8466-16FF07F10D73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1960" y="24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89f7"/>
                </a:solidFill>
                <a:latin typeface="Tahoma"/>
              </a:rPr>
              <a:t>致谢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6140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三联素材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