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665-C8C4-4885-A238-1D68767E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F46-61A7-4E76-8BF6-A9985EB6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5C1-ECAC-4A2D-B9A9-DA7A5F87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A11-19D3-4030-86EC-F26FEEC1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E43-1074-40E7-920A-ABD983D7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B0F-B4E9-4384-94E4-57CBD255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AED-560C-4743-A0A3-BCFDC91D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6A1-D22C-49D5-81B8-11ACAF0E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8D5-CA39-4EC1-9D3F-86DFFB3C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14A-D4A2-4607-95A4-0B567F27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F8D-812B-4F28-91F2-2253B2E8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278-0A4E-4593-AD7F-150FEA81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2110-F58C-4102-BC41-71D26DCFC4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1"/>
          <p:cNvPicPr/>
          <p:nvPr/>
        </p:nvPicPr>
        <p:blipFill>
          <a:blip r:embed="rId1"/>
          <a:stretch/>
        </p:blipFill>
        <p:spPr>
          <a:xfrm>
            <a:off x="12600" y="3240"/>
            <a:ext cx="12281040" cy="6889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783320" y="12826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礼物幻灯片免费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2"/>
          <p:cNvPicPr/>
          <p:nvPr/>
        </p:nvPicPr>
        <p:blipFill>
          <a:blip r:embed="rId1"/>
          <a:stretch/>
        </p:blipFill>
        <p:spPr>
          <a:xfrm>
            <a:off x="-1440" y="-22320"/>
            <a:ext cx="1218384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3"/>
          <p:cNvPicPr/>
          <p:nvPr/>
        </p:nvPicPr>
        <p:blipFill>
          <a:blip r:embed="rId1"/>
          <a:stretch/>
        </p:blipFill>
        <p:spPr>
          <a:xfrm>
            <a:off x="0" y="9360"/>
            <a:ext cx="12171240" cy="687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4"/>
          <p:cNvPicPr/>
          <p:nvPr/>
        </p:nvPicPr>
        <p:blipFill>
          <a:blip r:embed="rId1"/>
          <a:stretch/>
        </p:blipFill>
        <p:spPr>
          <a:xfrm>
            <a:off x="22320" y="-1440"/>
            <a:ext cx="12202920" cy="6883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1082160" y="365040"/>
            <a:ext cx="22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208160" y="2013120"/>
            <a:ext cx="9951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A0B-4A0B-45A2-A89E-F82F324BA1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15"/>
          <p:cNvPicPr/>
          <p:nvPr/>
        </p:nvPicPr>
        <p:blipFill>
          <a:blip r:embed="rId1"/>
          <a:stretch/>
        </p:blipFill>
        <p:spPr>
          <a:xfrm>
            <a:off x="0" y="1440"/>
            <a:ext cx="12185640" cy="6878880"/>
          </a:xfrm>
          <a:prstGeom prst="rect">
            <a:avLst/>
          </a:prstGeom>
          <a:ln w="0">
            <a:noFill/>
          </a:ln>
        </p:spPr>
      </p:pic>
      <p:pic>
        <p:nvPicPr>
          <p:cNvPr id="55" name="Text Box 3" descr=""/>
          <p:cNvPicPr/>
          <p:nvPr/>
        </p:nvPicPr>
        <p:blipFill>
          <a:blip r:embed="rId2"/>
          <a:stretch/>
        </p:blipFill>
        <p:spPr>
          <a:xfrm>
            <a:off x="1590840" y="1700280"/>
            <a:ext cx="9388440" cy="19764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3753000" y="3191040"/>
            <a:ext cx="309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2:42Z</dcterms:modified>
  <cp:revision>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