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E3C-C481-4692-BF1F-39354A01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B355-E7C4-4D16-B759-83B918A7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391-0D2A-4E42-946F-428A01EA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FD3B-59AF-477B-822A-9A89C2F6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1EE0-562A-4742-BB05-47F285C8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8C5-523F-4A3C-A7AF-FD7F27BD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A77-124D-4DED-8D29-D7F00480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D54F-1C41-47DD-846D-061C952E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E3B-2A49-4356-84F3-C054E987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E63-4FD5-4511-B582-684DACCC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097-A6D7-4A79-9D77-6DAFF1B2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C51F-F9D9-46AD-9649-B759E902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D2AB-1736-4302-9A29-D4E7AA63A4B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73D8-ACAD-46F4-BB30-1932FDC5832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214800" y="4910040"/>
            <a:ext cx="4857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六一儿童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286080" y="5410080"/>
            <a:ext cx="300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12" descr="2.png"/>
          <p:cNvPicPr/>
          <p:nvPr/>
        </p:nvPicPr>
        <p:blipFill>
          <a:blip r:embed="rId2"/>
          <a:stretch/>
        </p:blipFill>
        <p:spPr>
          <a:xfrm>
            <a:off x="3137040" y="3978360"/>
            <a:ext cx="3363840" cy="1236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360" y="6165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09640" y="117360"/>
            <a:ext cx="557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六一儿童节节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BA77-DBAF-4888-9AE1-D1AC04E5F7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上凸带形 16"/>
          <p:cNvSpPr/>
          <p:nvPr/>
        </p:nvSpPr>
        <p:spPr>
          <a:xfrm>
            <a:off x="546120" y="2643120"/>
            <a:ext cx="2333520" cy="912960"/>
          </a:xfrm>
          <a:custGeom>
            <a:avLst/>
            <a:gdLst>
              <a:gd name="textAreaLeft" fmla="*/ 583200 w 2333520"/>
              <a:gd name="textAreaRight" fmla="*/ 1750320 w 2333520"/>
              <a:gd name="textAreaTop" fmla="*/ 0 h 912960"/>
              <a:gd name="textAreaBottom" fmla="*/ 798840 h 9129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54432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奖项设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上凸带形 11"/>
          <p:cNvSpPr/>
          <p:nvPr/>
        </p:nvSpPr>
        <p:spPr>
          <a:xfrm>
            <a:off x="3379680" y="2643120"/>
            <a:ext cx="2335320" cy="912960"/>
          </a:xfrm>
          <a:custGeom>
            <a:avLst/>
            <a:gdLst>
              <a:gd name="textAreaLeft" fmla="*/ 583560 w 2335320"/>
              <a:gd name="textAreaRight" fmla="*/ 1751760 w 2335320"/>
              <a:gd name="textAreaTop" fmla="*/ 0 h 912960"/>
              <a:gd name="textAreaBottom" fmla="*/ 798840 h 9129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上凸带形 12"/>
          <p:cNvSpPr/>
          <p:nvPr/>
        </p:nvSpPr>
        <p:spPr>
          <a:xfrm>
            <a:off x="6165720" y="2643120"/>
            <a:ext cx="2335320" cy="912960"/>
          </a:xfrm>
          <a:custGeom>
            <a:avLst/>
            <a:gdLst>
              <a:gd name="textAreaLeft" fmla="*/ 583560 w 2335320"/>
              <a:gd name="textAreaRight" fmla="*/ 1751760 w 2335320"/>
              <a:gd name="textAreaTop" fmla="*/ 0 h 912960"/>
              <a:gd name="textAreaBottom" fmla="*/ 798840 h 9129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3808440" y="293832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体奖：颁发奖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6418440" y="2895480"/>
            <a:ext cx="201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育单项设一、二等奖各一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5"/>
          <p:cNvSpPr/>
          <p:nvPr/>
        </p:nvSpPr>
        <p:spPr>
          <a:xfrm>
            <a:off x="969840" y="2786040"/>
            <a:ext cx="157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游园活动每赢一次就获得糖果或其他一些实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0" descr="4.png"/>
          <p:cNvPicPr/>
          <p:nvPr/>
        </p:nvPicPr>
        <p:blipFill>
          <a:blip r:embed="rId2"/>
          <a:stretch/>
        </p:blipFill>
        <p:spPr>
          <a:xfrm>
            <a:off x="358920" y="168120"/>
            <a:ext cx="8356320" cy="5975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1143000" y="2620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1643040" y="2500200"/>
            <a:ext cx="5929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年一度的“六一” 儿童节到了，为了增添节日氛围，让学生过得开心有意义，丰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少年儿童的学习生活，使之从中得到锻炼，让学生度过一个快乐、精彩、向上的“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”儿童节。希望通过活动，使学生人人自主地参与活动之中，在活动中陶冶情操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中获取知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活动中培养能力。经校领导小组研究决定，我校将举行丰富多彩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，为使活动开展得安全有序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将活动内容拟订如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5857920" y="464328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特发此状，以资鼓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1165320" y="285840"/>
            <a:ext cx="41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内容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队员入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0" descr="20110603100700243.jpg"/>
          <p:cNvPicPr/>
          <p:nvPr/>
        </p:nvPicPr>
        <p:blipFill>
          <a:blip r:embed="rId2"/>
          <a:stretch/>
        </p:blipFill>
        <p:spPr>
          <a:xfrm>
            <a:off x="2000160" y="1643040"/>
            <a:ext cx="5651640" cy="3753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圆角矩形 16"/>
          <p:cNvSpPr/>
          <p:nvPr/>
        </p:nvSpPr>
        <p:spPr>
          <a:xfrm>
            <a:off x="3286080" y="4156200"/>
            <a:ext cx="2786040" cy="428400"/>
          </a:xfrm>
          <a:prstGeom prst="roundRect">
            <a:avLst>
              <a:gd name="adj" fmla="val 16667"/>
            </a:avLst>
          </a:pr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 17"/>
          <p:cNvSpPr/>
          <p:nvPr/>
        </p:nvSpPr>
        <p:spPr>
          <a:xfrm>
            <a:off x="3286080" y="4727520"/>
            <a:ext cx="2786040" cy="428760"/>
          </a:xfrm>
          <a:prstGeom prst="roundRect">
            <a:avLst>
              <a:gd name="adj" fmla="val 16667"/>
            </a:avLst>
          </a:pr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 14"/>
          <p:cNvSpPr/>
          <p:nvPr/>
        </p:nvSpPr>
        <p:spPr>
          <a:xfrm>
            <a:off x="3286080" y="3013200"/>
            <a:ext cx="2786040" cy="428400"/>
          </a:xfrm>
          <a:prstGeom prst="roundRect">
            <a:avLst>
              <a:gd name="adj" fmla="val 16667"/>
            </a:avLst>
          </a:pr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15"/>
          <p:cNvSpPr/>
          <p:nvPr/>
        </p:nvSpPr>
        <p:spPr>
          <a:xfrm>
            <a:off x="3286080" y="3584520"/>
            <a:ext cx="2786040" cy="428760"/>
          </a:xfrm>
          <a:prstGeom prst="roundRect">
            <a:avLst>
              <a:gd name="adj" fmla="val 16667"/>
            </a:avLst>
          </a:pr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12"/>
          <p:cNvSpPr/>
          <p:nvPr/>
        </p:nvSpPr>
        <p:spPr>
          <a:xfrm>
            <a:off x="3286080" y="1870200"/>
            <a:ext cx="2786040" cy="428400"/>
          </a:xfrm>
          <a:prstGeom prst="roundRect">
            <a:avLst>
              <a:gd name="adj" fmla="val 16667"/>
            </a:avLst>
          </a:pr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13"/>
          <p:cNvSpPr/>
          <p:nvPr/>
        </p:nvSpPr>
        <p:spPr>
          <a:xfrm>
            <a:off x="3286080" y="2441520"/>
            <a:ext cx="2786040" cy="428760"/>
          </a:xfrm>
          <a:prstGeom prst="roundRect">
            <a:avLst>
              <a:gd name="adj" fmla="val 16667"/>
            </a:avLst>
          </a:pr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1165320" y="285840"/>
            <a:ext cx="41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内容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育项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3857760" y="1928880"/>
            <a:ext cx="200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篮球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乒乓球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拔河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赛跑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跳绳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呼啦圈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14"/>
          <p:cNvGrpSpPr/>
          <p:nvPr/>
        </p:nvGrpSpPr>
        <p:grpSpPr>
          <a:xfrm>
            <a:off x="2787480" y="1429920"/>
            <a:ext cx="2070360" cy="4213800"/>
            <a:chOff x="2787480" y="1429920"/>
            <a:chExt cx="2070360" cy="4213800"/>
          </a:xfrm>
        </p:grpSpPr>
        <p:sp>
          <p:nvSpPr>
            <p:cNvPr id="75" name="泪滴形 12"/>
            <p:cNvSpPr/>
            <p:nvPr/>
          </p:nvSpPr>
          <p:spPr>
            <a:xfrm>
              <a:off x="2787480" y="3573360"/>
              <a:ext cx="2070360" cy="2070360"/>
            </a:xfrm>
            <a:prstGeom prst="pie">
              <a:avLst/>
            </a:prstGeom>
            <a:solidFill>
              <a:srgbClr val="ad0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泪滴形 13"/>
            <p:cNvSpPr/>
            <p:nvPr/>
          </p:nvSpPr>
          <p:spPr>
            <a:xfrm flipV="1">
              <a:off x="2787480" y="1429200"/>
              <a:ext cx="2070360" cy="2070360"/>
            </a:xfrm>
            <a:prstGeom prst="pie">
              <a:avLst/>
            </a:prstGeom>
            <a:solidFill>
              <a:srgbClr val="228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15"/>
          <p:cNvGrpSpPr/>
          <p:nvPr/>
        </p:nvGrpSpPr>
        <p:grpSpPr>
          <a:xfrm>
            <a:off x="4930920" y="1422360"/>
            <a:ext cx="2070000" cy="4213800"/>
            <a:chOff x="4930920" y="1422360"/>
            <a:chExt cx="2070000" cy="4213800"/>
          </a:xfrm>
        </p:grpSpPr>
        <p:sp>
          <p:nvSpPr>
            <p:cNvPr id="78" name="泪滴形 16"/>
            <p:cNvSpPr/>
            <p:nvPr/>
          </p:nvSpPr>
          <p:spPr>
            <a:xfrm flipH="1" flipV="1">
              <a:off x="4930920" y="1422000"/>
              <a:ext cx="2070000" cy="2070360"/>
            </a:xfrm>
            <a:prstGeom prst="pie">
              <a:avLst/>
            </a:prstGeom>
            <a:solidFill>
              <a:srgbClr val="ad0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泪滴形 17"/>
            <p:cNvSpPr/>
            <p:nvPr/>
          </p:nvSpPr>
          <p:spPr>
            <a:xfrm flipH="1">
              <a:off x="4930920" y="3565800"/>
              <a:ext cx="2070000" cy="2070360"/>
            </a:xfrm>
            <a:prstGeom prst="pie">
              <a:avLst/>
            </a:prstGeom>
            <a:solidFill>
              <a:srgbClr val="228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1165320" y="285840"/>
            <a:ext cx="41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内容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游园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18"/>
          <p:cNvSpPr/>
          <p:nvPr/>
        </p:nvSpPr>
        <p:spPr>
          <a:xfrm>
            <a:off x="4154400" y="2790720"/>
            <a:ext cx="1417680" cy="14176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3429000" y="2279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钓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5357880" y="22082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蒙眼打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3657600" y="333864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套圈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2"/>
          <p:cNvSpPr/>
          <p:nvPr/>
        </p:nvSpPr>
        <p:spPr>
          <a:xfrm>
            <a:off x="5500800" y="44942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点投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3"/>
          <p:cNvSpPr/>
          <p:nvPr/>
        </p:nvSpPr>
        <p:spPr>
          <a:xfrm>
            <a:off x="3071880" y="46371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拍乒乓球步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圆角矩形 12"/>
          <p:cNvSpPr/>
          <p:nvPr/>
        </p:nvSpPr>
        <p:spPr>
          <a:xfrm>
            <a:off x="1214280" y="1778040"/>
            <a:ext cx="6858000" cy="3714840"/>
          </a:xfrm>
          <a:prstGeom prst="roundRect">
            <a:avLst>
              <a:gd name="adj" fmla="val 16667"/>
            </a:avLst>
          </a:pr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689760" y="285840"/>
            <a:ext cx="32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活动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1643040" y="1992240"/>
            <a:ext cx="71438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新队员入队仪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跳绳比赛：分低、中、高年级组 ，每班男女生各选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队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赛跑比赛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项跑：分男女生两组，且分低、中、高年级组同组比赛。每班选送男女生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队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力赛：分男女生两组，且分低、中、高年级组同组比赛。每班选送男女生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队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乒乓球比赛：每班选送男女生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队员队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拔河比赛：分低、中、高年级组，人数根据实际情况来定，男女生分组进行比赛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呼啦圈比赛：每班选送男女生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队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篮球赛：五、六年级，只限男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6" descr="jbh0912091926be20da6b3e303464.jpg"/>
          <p:cNvPicPr/>
          <p:nvPr/>
        </p:nvPicPr>
        <p:blipFill>
          <a:blip r:embed="rId2"/>
          <a:stretch/>
        </p:blipFill>
        <p:spPr>
          <a:xfrm>
            <a:off x="2608200" y="4943520"/>
            <a:ext cx="1031760" cy="6033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2" descr="1.jpg"/>
          <p:cNvPicPr/>
          <p:nvPr/>
        </p:nvPicPr>
        <p:blipFill>
          <a:blip r:embed="rId3"/>
          <a:stretch/>
        </p:blipFill>
        <p:spPr>
          <a:xfrm>
            <a:off x="2898720" y="3992400"/>
            <a:ext cx="673200" cy="9511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3" descr="2-1402240TG1504.jpg"/>
          <p:cNvPicPr/>
          <p:nvPr/>
        </p:nvPicPr>
        <p:blipFill>
          <a:blip r:embed="rId4"/>
          <a:stretch/>
        </p:blipFill>
        <p:spPr>
          <a:xfrm>
            <a:off x="2571840" y="2585880"/>
            <a:ext cx="788760" cy="78912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5" descr="13820967193.jpg"/>
          <p:cNvPicPr/>
          <p:nvPr/>
        </p:nvPicPr>
        <p:blipFill>
          <a:blip r:embed="rId5"/>
          <a:stretch/>
        </p:blipFill>
        <p:spPr>
          <a:xfrm>
            <a:off x="2722680" y="1800360"/>
            <a:ext cx="788760" cy="7887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0"/>
          <p:cNvSpPr/>
          <p:nvPr/>
        </p:nvSpPr>
        <p:spPr>
          <a:xfrm>
            <a:off x="1143000" y="1371600"/>
            <a:ext cx="19288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“跳绳”的裁判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“拔河”的裁判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“赛跑” 的裁判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“接力赛” 的裁判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“篮球赛” 的裁判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  负责登记、拍照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  总负责人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1" descr="[s]1007122212d0872d62e2800ff0.jpg"/>
          <p:cNvPicPr/>
          <p:nvPr/>
        </p:nvPicPr>
        <p:blipFill>
          <a:blip r:embed="rId6"/>
          <a:stretch/>
        </p:blipFill>
        <p:spPr>
          <a:xfrm>
            <a:off x="2714760" y="1093680"/>
            <a:ext cx="601560" cy="8496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4" descr="12I2422a3Z34K7.gif"/>
          <p:cNvPicPr/>
          <p:nvPr/>
        </p:nvPicPr>
        <p:blipFill>
          <a:blip r:embed="rId7"/>
          <a:stretch/>
        </p:blipFill>
        <p:spPr>
          <a:xfrm>
            <a:off x="2928960" y="3443400"/>
            <a:ext cx="747720" cy="5238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54432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裁判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五边形 17"/>
          <p:cNvSpPr/>
          <p:nvPr/>
        </p:nvSpPr>
        <p:spPr>
          <a:xfrm>
            <a:off x="3571920" y="1300320"/>
            <a:ext cx="3857760" cy="35712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五边形 18"/>
          <p:cNvSpPr/>
          <p:nvPr/>
        </p:nvSpPr>
        <p:spPr>
          <a:xfrm flipH="1">
            <a:off x="4071960" y="2014560"/>
            <a:ext cx="3857760" cy="357120"/>
          </a:xfrm>
          <a:custGeom>
            <a:avLst/>
            <a:gdLst>
              <a:gd name="textAreaLeft" fmla="*/ 360 w 3857760"/>
              <a:gd name="textAreaRight" fmla="*/ 3858480 w 38577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五边形 19"/>
          <p:cNvSpPr/>
          <p:nvPr/>
        </p:nvSpPr>
        <p:spPr>
          <a:xfrm>
            <a:off x="3429000" y="2800440"/>
            <a:ext cx="3857760" cy="35712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五边形 20"/>
          <p:cNvSpPr/>
          <p:nvPr/>
        </p:nvSpPr>
        <p:spPr>
          <a:xfrm flipH="1">
            <a:off x="4071960" y="3514680"/>
            <a:ext cx="3857760" cy="357120"/>
          </a:xfrm>
          <a:custGeom>
            <a:avLst/>
            <a:gdLst>
              <a:gd name="textAreaLeft" fmla="*/ 360 w 3857760"/>
              <a:gd name="textAreaRight" fmla="*/ 3858480 w 38577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五边形 21"/>
          <p:cNvSpPr/>
          <p:nvPr/>
        </p:nvSpPr>
        <p:spPr>
          <a:xfrm>
            <a:off x="4286160" y="4371840"/>
            <a:ext cx="3857760" cy="35748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五边形 22"/>
          <p:cNvSpPr/>
          <p:nvPr/>
        </p:nvSpPr>
        <p:spPr>
          <a:xfrm flipH="1">
            <a:off x="3571920" y="5014800"/>
            <a:ext cx="3857760" cy="357480"/>
          </a:xfrm>
          <a:custGeom>
            <a:avLst/>
            <a:gdLst>
              <a:gd name="textAreaLeft" fmla="*/ 360 w 3857760"/>
              <a:gd name="textAreaRight" fmla="*/ 3858480 w 38577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五边形 23"/>
          <p:cNvSpPr/>
          <p:nvPr/>
        </p:nvSpPr>
        <p:spPr>
          <a:xfrm>
            <a:off x="2928960" y="5657760"/>
            <a:ext cx="3857760" cy="35712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689760" y="285840"/>
            <a:ext cx="32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游园活动负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3643200" y="1714680"/>
            <a:ext cx="32860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钓鱼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xx     xx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蒙眼打球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xx     xx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套圈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xx     xx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乒乓球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xx     xx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手持乒乓球拍顶乒乓球步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xx     xx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左弧形箭头 11"/>
          <p:cNvSpPr/>
          <p:nvPr/>
        </p:nvSpPr>
        <p:spPr>
          <a:xfrm>
            <a:off x="3143160" y="1857240"/>
            <a:ext cx="428760" cy="712800"/>
          </a:xfrm>
          <a:custGeom>
            <a:avLst/>
            <a:gdLst>
              <a:gd name="textAreaLeft" fmla="*/ 57240 w 428760"/>
              <a:gd name="textAreaRight" fmla="*/ 371520 w 428760"/>
              <a:gd name="textAreaTop" fmla="*/ 137880 h 712800"/>
              <a:gd name="textAreaBottom" fmla="*/ 521280 h 71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6" stAng="-5400000" swAng="-5400000"/>
                <a:lnTo>
                  <a:pt x="0" y="11612"/>
                </a:lnTo>
                <a:arcTo wR="21600" hR="8366" stAng="10800000" swAng="-3378569"/>
                <a:lnTo>
                  <a:pt x="16200" y="21334"/>
                </a:lnTo>
                <a:lnTo>
                  <a:pt x="21600" y="18354"/>
                </a:lnTo>
                <a:lnTo>
                  <a:pt x="16200" y="14842"/>
                </a:lnTo>
                <a:lnTo>
                  <a:pt x="16200" y="16465"/>
                </a:lnTo>
                <a:arcTo wR="21600" hR="8366" stAng="7421431" swAng="3115770"/>
                <a:lnTo>
                  <a:pt x="410" y="9989"/>
                </a:lnTo>
                <a:arcTo wR="21600" hR="8366" stAng="-10537202" swAng="5137202"/>
                <a:close/>
              </a:path>
              <a:path fill="darkenLess" w="21600" h="21600">
                <a:moveTo>
                  <a:pt x="21600" y="0"/>
                </a:moveTo>
                <a:arcTo wR="21600" hR="8366" stAng="-5400000" swAng="-5400000"/>
                <a:lnTo>
                  <a:pt x="0" y="8366"/>
                </a:lnTo>
                <a:arcTo wR="21600" hR="8366" stAng="10800000" swAng="-262798"/>
                <a:lnTo>
                  <a:pt x="410" y="9989"/>
                </a:lnTo>
                <a:arcTo wR="21600" hR="8366" stAng="-10537202" swAng="5137202"/>
                <a:close/>
              </a:path>
            </a:pathLst>
          </a:custGeom>
          <a:solidFill>
            <a:srgbClr val="ad081d"/>
          </a:solidFill>
          <a:ln w="25560">
            <a:solidFill>
              <a:srgbClr val="ad0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左弧形箭头 12"/>
          <p:cNvSpPr/>
          <p:nvPr/>
        </p:nvSpPr>
        <p:spPr>
          <a:xfrm flipH="1">
            <a:off x="5428440" y="2643120"/>
            <a:ext cx="428760" cy="712800"/>
          </a:xfrm>
          <a:custGeom>
            <a:avLst/>
            <a:gdLst>
              <a:gd name="textAreaLeft" fmla="*/ 57240 w 428760"/>
              <a:gd name="textAreaRight" fmla="*/ 371520 w 428760"/>
              <a:gd name="textAreaTop" fmla="*/ 137880 h 712800"/>
              <a:gd name="textAreaBottom" fmla="*/ 521280 h 71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4" stAng="-5400000" swAng="-5400000"/>
                <a:lnTo>
                  <a:pt x="0" y="11612"/>
                </a:lnTo>
                <a:arcTo wR="21600" hR="8364" stAng="10800000" swAng="-3378189"/>
                <a:lnTo>
                  <a:pt x="16200" y="21334"/>
                </a:lnTo>
                <a:lnTo>
                  <a:pt x="21600" y="18351"/>
                </a:lnTo>
                <a:lnTo>
                  <a:pt x="16200" y="14836"/>
                </a:lnTo>
                <a:lnTo>
                  <a:pt x="16200" y="16461"/>
                </a:lnTo>
                <a:arcTo wR="21600" hR="8364" stAng="7421811" swAng="3115221"/>
                <a:lnTo>
                  <a:pt x="411" y="9988"/>
                </a:lnTo>
                <a:arcTo wR="21600" hR="8364" stAng="-10537031" swAng="5137031"/>
                <a:close/>
              </a:path>
              <a:path fill="darkenLess" w="21600" h="21600">
                <a:moveTo>
                  <a:pt x="21600" y="0"/>
                </a:moveTo>
                <a:arcTo wR="21600" hR="8364" stAng="-5400000" swAng="-5400000"/>
                <a:lnTo>
                  <a:pt x="0" y="8364"/>
                </a:lnTo>
                <a:arcTo wR="21600" hR="8364" stAng="10800000" swAng="-262969"/>
                <a:lnTo>
                  <a:pt x="411" y="9988"/>
                </a:lnTo>
                <a:arcTo wR="21600" hR="8364" stAng="-10537031" swAng="5137031"/>
                <a:close/>
              </a:path>
            </a:pathLst>
          </a:custGeom>
          <a:solidFill>
            <a:srgbClr val="2284c7"/>
          </a:solidFill>
          <a:ln w="25560">
            <a:solidFill>
              <a:srgbClr val="2284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左弧形箭头 13"/>
          <p:cNvSpPr/>
          <p:nvPr/>
        </p:nvSpPr>
        <p:spPr>
          <a:xfrm>
            <a:off x="3286080" y="3359160"/>
            <a:ext cx="428760" cy="712800"/>
          </a:xfrm>
          <a:custGeom>
            <a:avLst/>
            <a:gdLst>
              <a:gd name="textAreaLeft" fmla="*/ 57240 w 428760"/>
              <a:gd name="textAreaRight" fmla="*/ 371520 w 428760"/>
              <a:gd name="textAreaTop" fmla="*/ 137880 h 712800"/>
              <a:gd name="textAreaBottom" fmla="*/ 521280 h 71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6" stAng="-5400000" swAng="-5400000"/>
                <a:lnTo>
                  <a:pt x="0" y="11612"/>
                </a:lnTo>
                <a:arcTo wR="21600" hR="8366" stAng="10800000" swAng="-3378569"/>
                <a:lnTo>
                  <a:pt x="16200" y="21334"/>
                </a:lnTo>
                <a:lnTo>
                  <a:pt x="21600" y="18354"/>
                </a:lnTo>
                <a:lnTo>
                  <a:pt x="16200" y="14842"/>
                </a:lnTo>
                <a:lnTo>
                  <a:pt x="16200" y="16465"/>
                </a:lnTo>
                <a:arcTo wR="21600" hR="8366" stAng="7421431" swAng="3115770"/>
                <a:lnTo>
                  <a:pt x="410" y="9989"/>
                </a:lnTo>
                <a:arcTo wR="21600" hR="8366" stAng="-10537202" swAng="5137202"/>
                <a:close/>
              </a:path>
              <a:path fill="darkenLess" w="21600" h="21600">
                <a:moveTo>
                  <a:pt x="21600" y="0"/>
                </a:moveTo>
                <a:arcTo wR="21600" hR="8366" stAng="-5400000" swAng="-5400000"/>
                <a:lnTo>
                  <a:pt x="0" y="8366"/>
                </a:lnTo>
                <a:arcTo wR="21600" hR="8366" stAng="10800000" swAng="-262798"/>
                <a:lnTo>
                  <a:pt x="410" y="9989"/>
                </a:lnTo>
                <a:arcTo wR="21600" hR="8366" stAng="-10537202" swAng="5137202"/>
                <a:close/>
              </a:path>
            </a:pathLst>
          </a:custGeom>
          <a:solidFill>
            <a:srgbClr val="ad081d"/>
          </a:solidFill>
          <a:ln w="25560">
            <a:solidFill>
              <a:srgbClr val="ad0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左弧形箭头 14"/>
          <p:cNvSpPr/>
          <p:nvPr/>
        </p:nvSpPr>
        <p:spPr>
          <a:xfrm flipH="1">
            <a:off x="5357880" y="4002120"/>
            <a:ext cx="428400" cy="712800"/>
          </a:xfrm>
          <a:custGeom>
            <a:avLst/>
            <a:gdLst>
              <a:gd name="textAreaLeft" fmla="*/ 57240 w 428400"/>
              <a:gd name="textAreaRight" fmla="*/ 371160 w 428400"/>
              <a:gd name="textAreaTop" fmla="*/ 137880 h 712800"/>
              <a:gd name="textAreaBottom" fmla="*/ 521280 h 71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4" stAng="-5400000" swAng="-5400000"/>
                <a:lnTo>
                  <a:pt x="0" y="11612"/>
                </a:lnTo>
                <a:arcTo wR="21600" hR="8364" stAng="10800000" swAng="-3378189"/>
                <a:lnTo>
                  <a:pt x="16200" y="21334"/>
                </a:lnTo>
                <a:lnTo>
                  <a:pt x="21600" y="18351"/>
                </a:lnTo>
                <a:lnTo>
                  <a:pt x="16200" y="14836"/>
                </a:lnTo>
                <a:lnTo>
                  <a:pt x="16200" y="16461"/>
                </a:lnTo>
                <a:arcTo wR="21600" hR="8364" stAng="7421811" swAng="3115221"/>
                <a:lnTo>
                  <a:pt x="411" y="9988"/>
                </a:lnTo>
                <a:arcTo wR="21600" hR="8364" stAng="-10537031" swAng="5137031"/>
                <a:close/>
              </a:path>
              <a:path fill="darkenLess" w="21600" h="21600">
                <a:moveTo>
                  <a:pt x="21600" y="0"/>
                </a:moveTo>
                <a:arcTo wR="21600" hR="8364" stAng="-5400000" swAng="-5400000"/>
                <a:lnTo>
                  <a:pt x="0" y="8364"/>
                </a:lnTo>
                <a:arcTo wR="21600" hR="8364" stAng="10800000" swAng="-262969"/>
                <a:lnTo>
                  <a:pt x="411" y="9988"/>
                </a:lnTo>
                <a:arcTo wR="21600" hR="8364" stAng="-10537031" swAng="5137031"/>
                <a:close/>
              </a:path>
            </a:pathLst>
          </a:custGeom>
          <a:solidFill>
            <a:srgbClr val="2284c7"/>
          </a:solidFill>
          <a:ln w="25560">
            <a:solidFill>
              <a:srgbClr val="2284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剪去同侧角的矩形 24"/>
          <p:cNvSpPr/>
          <p:nvPr/>
        </p:nvSpPr>
        <p:spPr>
          <a:xfrm>
            <a:off x="6643800" y="1785960"/>
            <a:ext cx="1285920" cy="3571920"/>
          </a:xfrm>
          <a:prstGeom prst="pie">
            <a:avLst/>
          </a:pr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剪去同侧角的矩形 21"/>
          <p:cNvSpPr/>
          <p:nvPr/>
        </p:nvSpPr>
        <p:spPr>
          <a:xfrm>
            <a:off x="5286240" y="1785960"/>
            <a:ext cx="1285920" cy="3571920"/>
          </a:xfrm>
          <a:prstGeom prst="pie">
            <a:avLst/>
          </a:pr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剪去同侧角的矩形 22"/>
          <p:cNvSpPr/>
          <p:nvPr/>
        </p:nvSpPr>
        <p:spPr>
          <a:xfrm>
            <a:off x="3929040" y="1785960"/>
            <a:ext cx="1285920" cy="3571920"/>
          </a:xfrm>
          <a:prstGeom prst="pie">
            <a:avLst/>
          </a:pr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剪去同侧角的矩形 20"/>
          <p:cNvSpPr/>
          <p:nvPr/>
        </p:nvSpPr>
        <p:spPr>
          <a:xfrm>
            <a:off x="2571840" y="1785960"/>
            <a:ext cx="1285920" cy="3571920"/>
          </a:xfrm>
          <a:prstGeom prst="pie">
            <a:avLst/>
          </a:pr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剪去同侧角的矩形 11"/>
          <p:cNvSpPr/>
          <p:nvPr/>
        </p:nvSpPr>
        <p:spPr>
          <a:xfrm>
            <a:off x="1214280" y="1785960"/>
            <a:ext cx="1285920" cy="3571920"/>
          </a:xfrm>
          <a:prstGeom prst="pie">
            <a:avLst/>
          </a:pr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/>
          <p:cNvSpPr/>
          <p:nvPr/>
        </p:nvSpPr>
        <p:spPr>
          <a:xfrm>
            <a:off x="54432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1500120" y="2000160"/>
            <a:ext cx="5540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篮球赛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下午课外活动课进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2714760" y="2000160"/>
            <a:ext cx="6458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乒乓球赛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下午课外活动课进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4098960" y="2000160"/>
            <a:ext cx="83016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新队员入队仪式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上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0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行。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xx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5456160" y="1928880"/>
            <a:ext cx="830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其它项目比赛顺序：呼啦圈、跳绳、单项跑、接力赛、拔河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赛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上午进行。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6858000" y="2000160"/>
            <a:ext cx="646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游园活动下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开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pc</dc:creator>
  <dc:description>www.eeppt.com;</dc:description>
  <cp:keywords>www.eeppt.com</cp:keywords>
  <dc:language>en-US</dc:language>
  <cp:lastModifiedBy>a</cp:lastModifiedBy>
  <dcterms:modified xsi:type="dcterms:W3CDTF">2015-09-18T13:16:28Z</dcterms:modified>
  <cp:revision>321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