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</p:sldIdLst>
  <p:sldSz cx="10799763" cy="6065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2B300-D471-4078-84F5-1AE0DF4C54E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D125-7BE2-45D6-BDAC-6E6E13AF611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22F9C-6084-470A-828B-110E1E3DBD7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C99AF-FB56-4C95-8A9E-1AAC451B3EE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529F-4EA9-422E-A8C0-6DB4285EC5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7A28-FCE5-4137-AE21-3D46201C7B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D9FE9-D5F1-4877-BBB1-D39A5820F3A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FDEB-0A54-423B-88B5-CFD1846C0FB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14B36-596B-4027-A158-6F68B0E5B32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00755-83A7-42C2-9218-1050F0155E3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BB4FA-F7B0-4AC2-8E73-224DBDD0854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9BA9A-6DC0-4736-AC7A-A1CC176FF87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A86C8-22E3-489F-B987-92829ADC773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B1D2-A1FE-438E-B803-9EA761C2BAD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2DBE6-0B0A-4C76-8FE8-6AD5E9B84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9591E-C4BA-434E-8977-BE541D02092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98368-6EDE-4D52-BA07-30220227C0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D1C7-86E3-4EE6-AFBE-0B8458C5E153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E1587-D956-40BB-BD93-DD12F00E281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BD220-C3B8-4DE3-BF78-CCA8EB5C675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3972-4DE6-412E-8FA2-B4139A3CE79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4B46A-5FA3-4904-9C08-31F47120C911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4C315-9770-4911-BA1E-7E9EBDD826D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52EDD-0C77-486E-ADA1-815696F731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4503600" y="22446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4759200" y="2244600"/>
            <a:ext cx="42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5027760" y="224460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10"/>
          <p:cNvSpPr/>
          <p:nvPr/>
        </p:nvSpPr>
        <p:spPr>
          <a:xfrm>
            <a:off x="5367240" y="224460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1"/>
          <p:cNvSpPr/>
          <p:nvPr/>
        </p:nvSpPr>
        <p:spPr>
          <a:xfrm>
            <a:off x="5619600" y="22446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Text Box 12"/>
          <p:cNvSpPr/>
          <p:nvPr/>
        </p:nvSpPr>
        <p:spPr>
          <a:xfrm>
            <a:off x="5950080" y="224460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Text Box 13"/>
          <p:cNvSpPr/>
          <p:nvPr/>
        </p:nvSpPr>
        <p:spPr>
          <a:xfrm>
            <a:off x="6218280" y="2244600"/>
            <a:ext cx="42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14"/>
          <p:cNvSpPr/>
          <p:nvPr/>
        </p:nvSpPr>
        <p:spPr>
          <a:xfrm>
            <a:off x="6470640" y="22446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15"/>
          <p:cNvSpPr/>
          <p:nvPr/>
        </p:nvSpPr>
        <p:spPr>
          <a:xfrm>
            <a:off x="4777560" y="26719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6" descr="logo"/>
          <p:cNvPicPr/>
          <p:nvPr/>
        </p:nvPicPr>
        <p:blipFill>
          <a:blip r:embed="rId2"/>
          <a:stretch/>
        </p:blipFill>
        <p:spPr>
          <a:xfrm>
            <a:off x="3681360" y="2235240"/>
            <a:ext cx="924120" cy="65232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17" descr="logo2"/>
          <p:cNvPicPr/>
          <p:nvPr/>
        </p:nvPicPr>
        <p:blipFill>
          <a:blip r:embed="rId3"/>
          <a:stretch/>
        </p:blipFill>
        <p:spPr>
          <a:xfrm>
            <a:off x="3029040" y="2077920"/>
            <a:ext cx="4522680" cy="1171800"/>
          </a:xfrm>
          <a:prstGeom prst="rect">
            <a:avLst/>
          </a:prstGeom>
          <a:ln w="0">
            <a:noFill/>
          </a:ln>
        </p:spPr>
      </p:pic>
      <p:sp>
        <p:nvSpPr>
          <p:cNvPr id="11" name="Rectangle 18">
            <a:hlinkClick r:id="rId4"/>
          </p:cNvPr>
          <p:cNvSpPr/>
          <p:nvPr/>
        </p:nvSpPr>
        <p:spPr>
          <a:xfrm>
            <a:off x="2975040" y="1469880"/>
            <a:ext cx="491976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6" descr="祥云3.png"/>
          <p:cNvPicPr/>
          <p:nvPr/>
        </p:nvPicPr>
        <p:blipFill>
          <a:blip r:embed="rId3"/>
          <a:stretch/>
        </p:blipFill>
        <p:spPr>
          <a:xfrm>
            <a:off x="0" y="162000"/>
            <a:ext cx="1352520" cy="949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1"/>
          </p:nvPr>
        </p:nvSpPr>
        <p:spPr>
          <a:xfrm>
            <a:off x="9123120" y="5578200"/>
            <a:ext cx="1515960" cy="4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0E85-B3D3-41AB-8537-EF66EBA9019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矩形 6" descr=""/>
          <p:cNvPicPr/>
          <p:nvPr/>
        </p:nvPicPr>
        <p:blipFill>
          <a:blip r:embed="rId2"/>
          <a:stretch/>
        </p:blipFill>
        <p:spPr>
          <a:xfrm>
            <a:off x="4834080" y="2792520"/>
            <a:ext cx="5449680" cy="99360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7" descr="神兽2.png"/>
          <p:cNvPicPr/>
          <p:nvPr/>
        </p:nvPicPr>
        <p:blipFill>
          <a:blip r:embed="rId3"/>
          <a:stretch/>
        </p:blipFill>
        <p:spPr>
          <a:xfrm>
            <a:off x="-19080" y="-6480"/>
            <a:ext cx="5273640" cy="7839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2"/>
          </p:nvPr>
        </p:nvSpPr>
        <p:spPr>
          <a:xfrm>
            <a:off x="7740720" y="5524200"/>
            <a:ext cx="2520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D6BFF-0698-4341-903F-AC2605BA7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975120" y="2428560"/>
            <a:ext cx="637704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龙与祥云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229280" y="3900240"/>
            <a:ext cx="5967360" cy="5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方正姚体"/>
              <a:ea typeface="方正姚体"/>
            </a:endParaRPr>
          </a:p>
        </p:txBody>
      </p:sp>
      <p:sp>
        <p:nvSpPr>
          <p:cNvPr id="169" name=""/>
          <p:cNvSpPr/>
          <p:nvPr/>
        </p:nvSpPr>
        <p:spPr>
          <a:xfrm>
            <a:off x="111240" y="562932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52240" y="431280"/>
            <a:ext cx="9721800" cy="8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方正姚体"/>
              <a:ea typeface="方正姚体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546120" y="1498680"/>
            <a:ext cx="9715320" cy="42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54040" y="168120"/>
            <a:ext cx="9694800" cy="5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7080" y="1123920"/>
            <a:ext cx="10547280" cy="46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607600" y="295200"/>
            <a:ext cx="1641240" cy="3081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CDFD-1874-48EF-A914-E3C72FF298CA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14:49:32Z</dcterms:created>
  <dc:creator>pc</dc:creator>
  <dc:description>www.eeppt.com;</dc:description>
  <cp:keywords>www.eeppt.com</cp:keywords>
  <dc:language>en-US</dc:language>
  <cp:lastModifiedBy>pc</cp:lastModifiedBy>
  <dcterms:modified xsi:type="dcterms:W3CDTF">2015-09-18T13:26:31Z</dcterms:modified>
  <cp:revision>22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