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E21-C27B-4249-BBF4-4DA90E24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475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871-5349-4B40-A8A1-3D791C85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6FFF-C558-4A11-A8D2-7B4DA057D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AA1-77EA-4191-B657-6036E61B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972-76C4-42CC-9880-15D8EFF8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E434-F27D-4738-A706-1BC4E740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CFAA-06C6-4A90-9F09-C86CA173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1483-475D-4BBF-AE23-A5FD1D73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8421-0DDF-4A5D-BB5B-4ECDA5BE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F423-42ED-4680-8733-F1CFCE2C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85D3-A427-4C5D-8E2A-AC26C0FB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02D-FE42-49B1-BF60-D9BF3A8B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0063-D943-4394-8D75-192A912B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82C-9964-487D-B912-B38BE726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475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64D4-4D2B-49FC-81AC-520E56DA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D28C-91E9-4557-B1D6-5DC954F4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327672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475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869F-B181-4219-87B2-F38021FA6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DFF8-2C19-42BC-BA0E-77DD8800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473-E1A5-435A-9839-A6F9273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67D9-F6C3-454C-B6E3-98E2AE3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8E3-8397-4454-AD56-21819497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7145-F517-4844-9946-12D6320E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475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A9A0-BCF4-4551-AB7D-DC0DA87A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327672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475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589-E66E-4490-BB9B-95263678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81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81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8D738-51E3-46F7-9981-2F536ACCE13B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3C58-E95E-4B72-A920-51CB9C9F6F9C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  <a:p>
            <a:pPr lvl="2" marL="914400" algn="ctr">
              <a:spcBef>
                <a:spcPts val="400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1600" spc="-1" strike="noStrike">
              <a:solidFill>
                <a:srgbClr val="336699"/>
              </a:solidFill>
              <a:latin typeface="Tahom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lvl="4" marL="1828800" algn="ctr">
              <a:spcBef>
                <a:spcPts val="349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Franklin Gothic Medium"/>
              </a:rPr>
              <a:t>On Target</a:t>
            </a:r>
            <a:endParaRPr b="1" lang="en-US" sz="48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6699"/>
                </a:solidFill>
                <a:latin typeface="Tahoma"/>
              </a:rPr>
              <a:t>Your Subtitle Goes Here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32560" y="9144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目标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Medium"/>
              </a:rPr>
              <a:t>Transitional Page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22096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38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Your subtopic goes here</a:t>
            </a: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4188-CF5D-4E79-89A8-A0AD23A7E00C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ranklin Gothic Medium"/>
              </a:rPr>
              <a:t>Elements</a:t>
            </a:r>
            <a:endParaRPr b="1" lang="en-US" sz="4400" spc="-1" strike="noStrike">
              <a:solidFill>
                <a:srgbClr val="336699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8600" y="5181480"/>
            <a:ext cx="198108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2767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37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