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FF0-81A0-430E-86E2-3B380547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8FD-DE3B-4398-918E-F2DB43D8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107-2C64-4893-820E-DD59EC2E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EE6-B782-4917-9E33-5239CC6E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C43-B2E3-4975-AEB2-C1FEA440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B5B-0AF0-4F33-9F23-4B0F690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A4F-20C7-4ACF-A1A8-A72E7ED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07C-38FB-4EB7-972D-AA928BEE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26E-91E3-43CB-91E6-EE8D4A6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CA0-EB3A-4E27-B083-7D902E4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EFB-8C67-43E8-8506-50F0305E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64A-90BC-452B-B01E-74D7C6E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c06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123-6CD3-4969-A79F-2BA51D78BC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512A-59B3-47BA-A9D2-2FD4707E74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81404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Name of presentation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809880"/>
            <a:ext cx="3886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71d7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68560" y="189000"/>
            <a:ext cx="31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b0b9"/>
                </a:solidFill>
                <a:latin typeface="Arial"/>
                <a:ea typeface="宋体"/>
              </a:rPr>
              <a:t>木板上的一朵花欧美风</a:t>
            </a:r>
            <a:r>
              <a:rPr b="1" lang="en-US" sz="4000" spc="-1" strike="noStrike">
                <a:solidFill>
                  <a:srgbClr val="03b0b9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3b0b9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440" y="144792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24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Print Slide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1680" y="1412640"/>
            <a:ext cx="775476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04472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c06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6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FE4-7D0A-466C-8D37-D25F398EC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76320"/>
            <a:ext cx="7755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dobe Caslon Pro"/>
              </a:rPr>
              <a:t>MyTemplatesShop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More templates, graphics and charts are available 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dobe Caslon Pro"/>
              </a:rPr>
              <a:t>www.MyTemplatesShop.com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5:0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