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B007-C2B2-410D-B866-63A854002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4EC2-F57F-4BD3-8F15-87445EA8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904D-A22B-4FF7-BE21-FE8BE4877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A16B-2823-4CC8-9B94-03855BE2C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EE91-A08B-4129-B1CA-C895EA84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03D8-1FAC-4B50-8418-D7BC4151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2E8A-561D-484A-ACB7-B1FD5E4E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74C9-DD91-439A-9522-69C1AE1C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F078-8CB3-4BEA-B09E-365BBB4F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967C-4C81-48A0-9FD0-D59A4EF7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B77F-5084-4388-B453-F272750C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3FA4-2891-4259-AE44-1E7E7527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2D15-7376-42D6-9ADE-D2678F37173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4D4A-95AB-46EB-8CAF-108C1A98F76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647720" y="4038480"/>
            <a:ext cx="638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马到成功新年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3"/>
          <p:cNvGrpSpPr/>
          <p:nvPr/>
        </p:nvGrpSpPr>
        <p:grpSpPr>
          <a:xfrm>
            <a:off x="2611440" y="2333520"/>
            <a:ext cx="4896000" cy="682560"/>
            <a:chOff x="2611440" y="2333520"/>
            <a:chExt cx="4896000" cy="682560"/>
          </a:xfrm>
        </p:grpSpPr>
        <p:sp>
          <p:nvSpPr>
            <p:cNvPr id="44" name="任意多边形 5"/>
            <p:cNvSpPr/>
            <p:nvPr/>
          </p:nvSpPr>
          <p:spPr>
            <a:xfrm>
              <a:off x="2611440" y="2333520"/>
              <a:ext cx="4896000" cy="682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任意多边形 6"/>
            <p:cNvSpPr/>
            <p:nvPr/>
          </p:nvSpPr>
          <p:spPr>
            <a:xfrm>
              <a:off x="2659320" y="2350080"/>
              <a:ext cx="4799880" cy="649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46464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Group 6"/>
          <p:cNvGrpSpPr/>
          <p:nvPr/>
        </p:nvGrpSpPr>
        <p:grpSpPr>
          <a:xfrm>
            <a:off x="2611440" y="3098880"/>
            <a:ext cx="4896000" cy="682560"/>
            <a:chOff x="2611440" y="3098880"/>
            <a:chExt cx="4896000" cy="682560"/>
          </a:xfrm>
        </p:grpSpPr>
        <p:sp>
          <p:nvSpPr>
            <p:cNvPr id="47" name="任意多边形 8"/>
            <p:cNvSpPr/>
            <p:nvPr/>
          </p:nvSpPr>
          <p:spPr>
            <a:xfrm>
              <a:off x="2611440" y="3098880"/>
              <a:ext cx="4896000" cy="682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任意多边形 9"/>
            <p:cNvSpPr/>
            <p:nvPr/>
          </p:nvSpPr>
          <p:spPr>
            <a:xfrm>
              <a:off x="2659320" y="3115440"/>
              <a:ext cx="4799880" cy="649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46464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9"/>
          <p:cNvGrpSpPr/>
          <p:nvPr/>
        </p:nvGrpSpPr>
        <p:grpSpPr>
          <a:xfrm>
            <a:off x="2611440" y="3863880"/>
            <a:ext cx="4896000" cy="685800"/>
            <a:chOff x="2611440" y="3863880"/>
            <a:chExt cx="4896000" cy="685800"/>
          </a:xfrm>
        </p:grpSpPr>
        <p:sp>
          <p:nvSpPr>
            <p:cNvPr id="50" name="任意多边形 11"/>
            <p:cNvSpPr/>
            <p:nvPr/>
          </p:nvSpPr>
          <p:spPr>
            <a:xfrm>
              <a:off x="2611440" y="3863880"/>
              <a:ext cx="4896000" cy="685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任意多边形 12"/>
            <p:cNvSpPr/>
            <p:nvPr/>
          </p:nvSpPr>
          <p:spPr>
            <a:xfrm>
              <a:off x="2659320" y="3880440"/>
              <a:ext cx="4799880" cy="65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46464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2"/>
          <p:cNvGrpSpPr/>
          <p:nvPr/>
        </p:nvGrpSpPr>
        <p:grpSpPr>
          <a:xfrm>
            <a:off x="2611440" y="4632480"/>
            <a:ext cx="4896000" cy="682560"/>
            <a:chOff x="2611440" y="4632480"/>
            <a:chExt cx="4896000" cy="682560"/>
          </a:xfrm>
        </p:grpSpPr>
        <p:sp>
          <p:nvSpPr>
            <p:cNvPr id="53" name="任意多边形 14"/>
            <p:cNvSpPr/>
            <p:nvPr/>
          </p:nvSpPr>
          <p:spPr>
            <a:xfrm>
              <a:off x="2611440" y="4632480"/>
              <a:ext cx="4896000" cy="682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任意多边形 15"/>
            <p:cNvSpPr/>
            <p:nvPr/>
          </p:nvSpPr>
          <p:spPr>
            <a:xfrm>
              <a:off x="2659320" y="4649040"/>
              <a:ext cx="4799880" cy="649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46464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5"/>
          <p:cNvGrpSpPr/>
          <p:nvPr/>
        </p:nvGrpSpPr>
        <p:grpSpPr>
          <a:xfrm>
            <a:off x="2611440" y="5397480"/>
            <a:ext cx="4896000" cy="682560"/>
            <a:chOff x="2611440" y="5397480"/>
            <a:chExt cx="4896000" cy="682560"/>
          </a:xfrm>
        </p:grpSpPr>
        <p:sp>
          <p:nvSpPr>
            <p:cNvPr id="56" name="任意多边形 17"/>
            <p:cNvSpPr/>
            <p:nvPr/>
          </p:nvSpPr>
          <p:spPr>
            <a:xfrm>
              <a:off x="2611440" y="5397480"/>
              <a:ext cx="4896000" cy="682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任意多边形 18"/>
            <p:cNvSpPr/>
            <p:nvPr/>
          </p:nvSpPr>
          <p:spPr>
            <a:xfrm>
              <a:off x="2659320" y="5414040"/>
              <a:ext cx="4799880" cy="649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46464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8"/>
          <p:cNvGrpSpPr/>
          <p:nvPr/>
        </p:nvGrpSpPr>
        <p:grpSpPr>
          <a:xfrm>
            <a:off x="1674720" y="1527120"/>
            <a:ext cx="5832720" cy="682560"/>
            <a:chOff x="1674720" y="1527120"/>
            <a:chExt cx="5832720" cy="682560"/>
          </a:xfrm>
        </p:grpSpPr>
        <p:sp>
          <p:nvSpPr>
            <p:cNvPr id="59" name="任意多边形 23"/>
            <p:cNvSpPr/>
            <p:nvPr/>
          </p:nvSpPr>
          <p:spPr>
            <a:xfrm>
              <a:off x="1674720" y="1527120"/>
              <a:ext cx="5832720" cy="682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20"/>
            <p:cNvGrpSpPr/>
            <p:nvPr/>
          </p:nvGrpSpPr>
          <p:grpSpPr>
            <a:xfrm>
              <a:off x="1710000" y="1540440"/>
              <a:ext cx="5760000" cy="657360"/>
              <a:chOff x="1710000" y="1540440"/>
              <a:chExt cx="5760000" cy="657360"/>
            </a:xfrm>
          </p:grpSpPr>
          <p:pic>
            <p:nvPicPr>
              <p:cNvPr id="61" name="任意多边形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1710000" y="1540440"/>
                <a:ext cx="5760000" cy="65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Text Box 22"/>
              <p:cNvSpPr/>
              <p:nvPr/>
            </p:nvSpPr>
            <p:spPr>
              <a:xfrm>
                <a:off x="1721520" y="1543320"/>
                <a:ext cx="5738400" cy="64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23"/>
          <p:cNvGrpSpPr/>
          <p:nvPr/>
        </p:nvGrpSpPr>
        <p:grpSpPr>
          <a:xfrm>
            <a:off x="1676520" y="2333520"/>
            <a:ext cx="718920" cy="682560"/>
            <a:chOff x="1676520" y="2333520"/>
            <a:chExt cx="718920" cy="682560"/>
          </a:xfrm>
        </p:grpSpPr>
        <p:sp>
          <p:nvSpPr>
            <p:cNvPr id="64" name="圆角矩形 26"/>
            <p:cNvSpPr/>
            <p:nvPr/>
          </p:nvSpPr>
          <p:spPr>
            <a:xfrm>
              <a:off x="1676520" y="2333520"/>
              <a:ext cx="718920" cy="682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25"/>
            <p:cNvGrpSpPr/>
            <p:nvPr/>
          </p:nvGrpSpPr>
          <p:grpSpPr>
            <a:xfrm>
              <a:off x="1705680" y="2344680"/>
              <a:ext cx="658800" cy="663480"/>
              <a:chOff x="1705680" y="2344680"/>
              <a:chExt cx="658800" cy="663480"/>
            </a:xfrm>
          </p:grpSpPr>
          <p:pic>
            <p:nvPicPr>
              <p:cNvPr id="66" name="圆角矩形 27" descr=""/>
              <p:cNvPicPr/>
              <p:nvPr/>
            </p:nvPicPr>
            <p:blipFill>
              <a:blip r:embed="rId3"/>
              <a:stretch/>
            </p:blipFill>
            <p:spPr>
              <a:xfrm>
                <a:off x="1705680" y="2344680"/>
                <a:ext cx="658800" cy="66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Text Box 27"/>
              <p:cNvSpPr/>
              <p:nvPr/>
            </p:nvSpPr>
            <p:spPr>
              <a:xfrm>
                <a:off x="1742760" y="2381760"/>
                <a:ext cx="586080" cy="58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" name="Group 28"/>
          <p:cNvGrpSpPr/>
          <p:nvPr/>
        </p:nvGrpSpPr>
        <p:grpSpPr>
          <a:xfrm>
            <a:off x="1676520" y="3098880"/>
            <a:ext cx="718920" cy="682560"/>
            <a:chOff x="1676520" y="3098880"/>
            <a:chExt cx="718920" cy="682560"/>
          </a:xfrm>
        </p:grpSpPr>
        <p:sp>
          <p:nvSpPr>
            <p:cNvPr id="69" name="圆角矩形 29"/>
            <p:cNvSpPr/>
            <p:nvPr/>
          </p:nvSpPr>
          <p:spPr>
            <a:xfrm>
              <a:off x="1676520" y="3098880"/>
              <a:ext cx="718920" cy="682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Group 30"/>
            <p:cNvGrpSpPr/>
            <p:nvPr/>
          </p:nvGrpSpPr>
          <p:grpSpPr>
            <a:xfrm>
              <a:off x="1705680" y="3112200"/>
              <a:ext cx="658800" cy="657360"/>
              <a:chOff x="1705680" y="3112200"/>
              <a:chExt cx="658800" cy="657360"/>
            </a:xfrm>
          </p:grpSpPr>
          <p:pic>
            <p:nvPicPr>
              <p:cNvPr id="71" name="圆角矩形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1705680" y="3112200"/>
                <a:ext cx="658800" cy="65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Text Box 32"/>
              <p:cNvSpPr/>
              <p:nvPr/>
            </p:nvSpPr>
            <p:spPr>
              <a:xfrm>
                <a:off x="1742760" y="3146760"/>
                <a:ext cx="586080" cy="58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" name="Group 33"/>
          <p:cNvGrpSpPr/>
          <p:nvPr/>
        </p:nvGrpSpPr>
        <p:grpSpPr>
          <a:xfrm>
            <a:off x="1676520" y="3863880"/>
            <a:ext cx="718920" cy="685800"/>
            <a:chOff x="1676520" y="3863880"/>
            <a:chExt cx="718920" cy="685800"/>
          </a:xfrm>
        </p:grpSpPr>
        <p:sp>
          <p:nvSpPr>
            <p:cNvPr id="74" name="圆角矩形 32"/>
            <p:cNvSpPr/>
            <p:nvPr/>
          </p:nvSpPr>
          <p:spPr>
            <a:xfrm>
              <a:off x="1676520" y="3863880"/>
              <a:ext cx="71892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Group 35"/>
            <p:cNvGrpSpPr/>
            <p:nvPr/>
          </p:nvGrpSpPr>
          <p:grpSpPr>
            <a:xfrm>
              <a:off x="1705680" y="3873240"/>
              <a:ext cx="658800" cy="666720"/>
              <a:chOff x="1705680" y="3873240"/>
              <a:chExt cx="658800" cy="666720"/>
            </a:xfrm>
          </p:grpSpPr>
          <p:pic>
            <p:nvPicPr>
              <p:cNvPr id="76" name="圆角矩形 33" descr=""/>
              <p:cNvPicPr/>
              <p:nvPr/>
            </p:nvPicPr>
            <p:blipFill>
              <a:blip r:embed="rId5"/>
              <a:stretch/>
            </p:blipFill>
            <p:spPr>
              <a:xfrm>
                <a:off x="1705680" y="3873240"/>
                <a:ext cx="658800" cy="66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Text Box 37"/>
              <p:cNvSpPr/>
              <p:nvPr/>
            </p:nvSpPr>
            <p:spPr>
              <a:xfrm>
                <a:off x="1742760" y="3912120"/>
                <a:ext cx="586080" cy="58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" name="Group 38"/>
          <p:cNvGrpSpPr/>
          <p:nvPr/>
        </p:nvGrpSpPr>
        <p:grpSpPr>
          <a:xfrm>
            <a:off x="1676520" y="4632480"/>
            <a:ext cx="718920" cy="682560"/>
            <a:chOff x="1676520" y="4632480"/>
            <a:chExt cx="718920" cy="682560"/>
          </a:xfrm>
        </p:grpSpPr>
        <p:sp>
          <p:nvSpPr>
            <p:cNvPr id="79" name="圆角矩形 35"/>
            <p:cNvSpPr/>
            <p:nvPr/>
          </p:nvSpPr>
          <p:spPr>
            <a:xfrm>
              <a:off x="1676520" y="4632480"/>
              <a:ext cx="718920" cy="682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Group 40"/>
            <p:cNvGrpSpPr/>
            <p:nvPr/>
          </p:nvGrpSpPr>
          <p:grpSpPr>
            <a:xfrm>
              <a:off x="1705680" y="4644000"/>
              <a:ext cx="658800" cy="663480"/>
              <a:chOff x="1705680" y="4644000"/>
              <a:chExt cx="658800" cy="663480"/>
            </a:xfrm>
          </p:grpSpPr>
          <p:pic>
            <p:nvPicPr>
              <p:cNvPr id="81" name="圆角矩形 36" descr=""/>
              <p:cNvPicPr/>
              <p:nvPr/>
            </p:nvPicPr>
            <p:blipFill>
              <a:blip r:embed="rId6"/>
              <a:stretch/>
            </p:blipFill>
            <p:spPr>
              <a:xfrm>
                <a:off x="1705680" y="4644000"/>
                <a:ext cx="658800" cy="66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Text Box 42"/>
              <p:cNvSpPr/>
              <p:nvPr/>
            </p:nvSpPr>
            <p:spPr>
              <a:xfrm>
                <a:off x="1742760" y="4680360"/>
                <a:ext cx="586080" cy="58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" name="Group 43"/>
          <p:cNvGrpSpPr/>
          <p:nvPr/>
        </p:nvGrpSpPr>
        <p:grpSpPr>
          <a:xfrm>
            <a:off x="1676520" y="5397480"/>
            <a:ext cx="718920" cy="682560"/>
            <a:chOff x="1676520" y="5397480"/>
            <a:chExt cx="718920" cy="682560"/>
          </a:xfrm>
        </p:grpSpPr>
        <p:sp>
          <p:nvSpPr>
            <p:cNvPr id="84" name="圆角矩形 38"/>
            <p:cNvSpPr/>
            <p:nvPr/>
          </p:nvSpPr>
          <p:spPr>
            <a:xfrm>
              <a:off x="1676520" y="5397480"/>
              <a:ext cx="718920" cy="682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45"/>
            <p:cNvGrpSpPr/>
            <p:nvPr/>
          </p:nvGrpSpPr>
          <p:grpSpPr>
            <a:xfrm>
              <a:off x="1705680" y="5405040"/>
              <a:ext cx="658800" cy="663480"/>
              <a:chOff x="1705680" y="5405040"/>
              <a:chExt cx="658800" cy="663480"/>
            </a:xfrm>
          </p:grpSpPr>
          <p:pic>
            <p:nvPicPr>
              <p:cNvPr id="86" name="圆角矩形 39" descr=""/>
              <p:cNvPicPr/>
              <p:nvPr/>
            </p:nvPicPr>
            <p:blipFill>
              <a:blip r:embed="rId7"/>
              <a:stretch/>
            </p:blipFill>
            <p:spPr>
              <a:xfrm>
                <a:off x="1705680" y="5405040"/>
                <a:ext cx="658800" cy="66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Text Box 47"/>
              <p:cNvSpPr/>
              <p:nvPr/>
            </p:nvSpPr>
            <p:spPr>
              <a:xfrm>
                <a:off x="1742760" y="5445360"/>
                <a:ext cx="586080" cy="58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0C9D-7033-414A-92EA-2C35195ADE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3"/>
          <p:cNvSpPr/>
          <p:nvPr/>
        </p:nvSpPr>
        <p:spPr>
          <a:xfrm>
            <a:off x="1647720" y="4038480"/>
            <a:ext cx="638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谢谢观看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/>
          <p:cNvSpPr/>
          <p:nvPr/>
        </p:nvSpPr>
        <p:spPr>
          <a:xfrm>
            <a:off x="8388360" y="333360"/>
            <a:ext cx="647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ceaee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ceaee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ceaee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ceaee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ceaee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ceaee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ceaee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ceaee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ceaee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ceaee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ceaee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ceaee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ceaee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ceaee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ceaee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ceaee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ceaee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ceaee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ceaee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ceaee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ceaee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ceaee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ceaee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ceaee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ceaee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fceaee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ceaee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ceaee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ceaee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ceaee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ceaee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ceaee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ceaee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ceaee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ceaee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ceaee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ceaee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ceaee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ceaee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ceaee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pc</dc:creator>
  <dc:description>www.eeppt.com;</dc:description>
  <cp:keywords>www.eeppt.com</cp:keywords>
  <dc:language>en-US</dc:language>
  <cp:lastModifiedBy>lenovo</cp:lastModifiedBy>
  <dcterms:modified xsi:type="dcterms:W3CDTF">2015-09-18T13:26:15Z</dcterms:modified>
  <cp:revision>12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