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BAA68C-5EFE-4AA3-B861-9F66586CE4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0C2C69-028E-4468-8B5D-52486ED556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7CC960-B820-461A-B7ED-91911C25DA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AD3A5F-33B4-4627-900E-641939BBB3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A3DB31-3441-47F6-9C3D-5A880AD6D1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DB5685-B5E6-41C6-9A89-C981D75AF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2EC813-E80D-4E7C-8ACC-9D45F4C6DE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5E4078-6131-4339-BADE-D5853EFF99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8ED82D-1CE7-4A95-84B8-92D447EADE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203A8-CD99-4093-A878-D5446E2A9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13899-3E5E-48FE-9468-67DCC517D2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8F7BC-B03A-4119-BCE3-2EF845F1B8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509A8-2603-48C6-94C2-60AC9D11C1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玫瑰花瓣</a:t>
            </a:r>
            <a:r>
              <a:rPr b="0" lang="en-US" sz="4000" spc="-1" strike="noStrike">
                <a:solidFill>
                  <a:srgbClr val="ffffff"/>
                </a:solidFill>
                <a:latin typeface="Arial"/>
              </a:rPr>
              <a:t>PPT</a:t>
            </a:r>
            <a:r>
              <a:rPr b="0" lang="zh-CN" sz="4000" spc="-1" strike="noStrike">
                <a:solidFill>
                  <a:srgbClr val="ffffff"/>
                </a:solidFill>
                <a:latin typeface="Arial"/>
              </a:rPr>
              <a:t>模板打包下载</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
          <p:cNvSpPr/>
          <p:nvPr/>
        </p:nvSpPr>
        <p:spPr>
          <a:xfrm>
            <a:off x="3636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幻灯片之家 </a:t>
            </a:r>
            <a:r>
              <a:rPr b="1" lang="en-US" sz="1600" spc="-1" strike="noStrike">
                <a:solidFill>
                  <a:srgbClr val="ffffff"/>
                </a:solidFill>
                <a:latin typeface="宋体"/>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826920" y="2060640"/>
            <a:ext cx="7428240" cy="47815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Gulim"/>
              </a:rPr>
              <a:t>Your Text he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1331640" y="1916280"/>
            <a:ext cx="7427880" cy="47815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Gulim"/>
              </a:rPr>
              <a:t>Your Text he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
          <p:cNvSpPr/>
          <p:nvPr/>
        </p:nvSpPr>
        <p:spPr>
          <a:xfrm>
            <a:off x="755640" y="134136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2"/>
              </a:rPr>
              <a:t>ppt模版免费下载</a:t>
            </a:r>
            <a:r>
              <a:rPr b="0" lang="en-US" sz="1600" spc="-1" strike="noStrike">
                <a:solidFill>
                  <a:srgbClr val="ffffff"/>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48"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9999"/>
                </a:solidFill>
                <a:uFillTx/>
                <a:latin typeface="Calibri"/>
                <a:ea typeface="宋体"/>
                <a:hlinkClick r:id="rId7"/>
              </a:rPr>
              <a:t> </a:t>
            </a:r>
            <a:r>
              <a:rPr b="0" lang="zh-CN" sz="1200" spc="-1" strike="noStrike" u="sng">
                <a:solidFill>
                  <a:srgbClr val="009999"/>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9999"/>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9999"/>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9999"/>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9999"/>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9999"/>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9999"/>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9999"/>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9999"/>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9999"/>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184F01B6-7050-4100-829F-45E3AF1A4AC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68000" y="836640"/>
            <a:ext cx="7427880" cy="47815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Gulim"/>
              </a:rPr>
              <a:t>Your Text he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1T01:26:21Z</dcterms:created>
  <dc:creator>pc</dc:creator>
  <dc:description>www.eeppt.com;</dc:description>
  <cp:keywords>www.eeppt.com</cp:keywords>
  <dc:language>en-US</dc:language>
  <cp:lastModifiedBy>admin</cp:lastModifiedBy>
  <dcterms:modified xsi:type="dcterms:W3CDTF">2015-09-18T13:22:22Z</dcterms:modified>
  <cp:revision>5</cp:revision>
  <dc:subject/>
  <dc:title>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