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3910-173B-42FE-92AE-3117A960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E8BC-6038-4DB6-824D-DF1C09B9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003C-9AA8-4283-945A-7C05BAD6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C04-40CC-438F-89AC-F8538797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BEAB-212F-4F9C-91F5-75D9BC59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13B-2A2D-46EE-BAE8-25535C40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15D-8262-4F2A-AFAA-2D343DDD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E47-7CD7-4EB5-B96E-676BA2D2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ABC-2C13-4375-96A4-8AB18F53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352C-1D42-4F5F-B5D4-88B9678F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04E7-4502-4A00-BEFA-8680D355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8A42-C4F4-4962-994E-BBCDEC91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8641-6ADB-48EF-8464-9A27F3D4A3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18240" y="2755800"/>
            <a:ext cx="448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23003"/>
                </a:solidFill>
                <a:latin typeface="Arial"/>
                <a:ea typeface="微软雅黑"/>
              </a:rPr>
              <a:t>如何快乐工作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382280" y="17575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23003"/>
                </a:solidFill>
                <a:latin typeface="Arial"/>
                <a:ea typeface="微软雅黑"/>
              </a:rPr>
              <a:t>同事之间和睦相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3830760" y="26938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23003"/>
                </a:solidFill>
                <a:latin typeface="Arial"/>
                <a:ea typeface="微软雅黑"/>
              </a:rPr>
              <a:t>正确处理与上司的关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4187880" y="3557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23003"/>
                </a:solidFill>
                <a:latin typeface="Arial"/>
                <a:ea typeface="微软雅黑"/>
              </a:rPr>
              <a:t>保持平常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4484160" y="4437000"/>
            <a:ext cx="22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23003"/>
                </a:solidFill>
                <a:latin typeface="微软雅黑"/>
                <a:ea typeface="微软雅黑"/>
              </a:rPr>
              <a:t>调节心情  甩掉坏脾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006560" y="825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046400" y="3097080"/>
            <a:ext cx="50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003"/>
                </a:solidFill>
                <a:latin typeface="Arial"/>
                <a:ea typeface="微软雅黑"/>
              </a:rPr>
              <a:t>同事之间和睦相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1542960"/>
            <a:ext cx="11485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23003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523003"/>
                </a:solidFill>
                <a:latin typeface="微软雅黑"/>
                <a:ea typeface="微软雅黑"/>
              </a:rPr>
              <a:t>假如以每个人每天工作</a:t>
            </a:r>
            <a:r>
              <a:rPr b="0" lang="en-US" sz="1800" spc="-1" strike="noStrike">
                <a:solidFill>
                  <a:srgbClr val="523003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523003"/>
                </a:solidFill>
                <a:latin typeface="微软雅黑"/>
                <a:ea typeface="微软雅黑"/>
              </a:rPr>
              <a:t>小时来计算的话，人们从参加工作到正式退休，差不多有</a:t>
            </a:r>
            <a:r>
              <a:rPr b="0" lang="en-US" sz="1800" spc="-1" strike="noStrike">
                <a:solidFill>
                  <a:srgbClr val="523003"/>
                </a:solidFill>
                <a:latin typeface="微软雅黑"/>
                <a:ea typeface="微软雅黑"/>
              </a:rPr>
              <a:t>1/3</a:t>
            </a:r>
            <a:r>
              <a:rPr b="0" lang="zh-CN" sz="1800" spc="-1" strike="noStrike">
                <a:solidFill>
                  <a:srgbClr val="523003"/>
                </a:solidFill>
                <a:latin typeface="微软雅黑"/>
                <a:ea typeface="微软雅黑"/>
              </a:rPr>
              <a:t>的时间都在跟同事相处。所以，同事关系对于一个人来讲是最重要的人际关系。同事之间最容易形成利益关系，如果对一些小事不能正确对待就容易形成沟壑。在职场中一定要记住，与我们面对面的是同事而不是冤家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23003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523003"/>
                </a:solidFill>
                <a:latin typeface="微软雅黑"/>
                <a:ea typeface="微软雅黑"/>
              </a:rPr>
              <a:t>同事之间经常会出现一些磕磕碰碰，如果不及时妥善处理，就会形成大矛盾。俗话讲，冤家宜解不宜结。在与同事发生矛盾时，要主动忍让，从自身找原因，换位为他人多想想，避免矛盾激化。如果已经形成矛盾，自己又的确不对，要放下面子，学会道歉，以诚心感人。退一步海阔天空，如有一方主动打破僵局，就会发现彼此之间并没有什么大不了的隔阂。面对自己的不利情形，我们为什么不微笑地面对生活，友善地对待周围同事呢！在现实生活中，有的人并没有把重要的精力都用在工作上，而是用在了计算同事上。任何事都是一把双刃剑，你这样做的次数越多，所受到的伤害就越大。结果使得你与同事的关系越来越复杂，那时你的工作效率怎么能不降低呢</a:t>
            </a:r>
            <a:r>
              <a:rPr b="0" lang="zh-CN" sz="1800" spc="-1" strike="noStrike">
                <a:solidFill>
                  <a:srgbClr val="523003"/>
                </a:solidFill>
                <a:latin typeface="Arial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37DF-C8F7-4CDA-A3F2-71A570342A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：www.eeppt.com; zuazua W</dc:creator>
  <dc:description>幻灯片之家：www.eeppt.com</dc:description>
  <cp:keywords>幻灯片之家：www.eeppt.com</cp:keywords>
  <dc:language>en-US</dc:language>
  <cp:lastModifiedBy>微软用户</cp:lastModifiedBy>
  <dcterms:modified xsi:type="dcterms:W3CDTF">2015-09-18T13:22:02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