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9297-DAEA-42AC-B55E-C4A9A4F13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58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43040"/>
            <a:ext cx="8229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94200"/>
            <a:ext cx="8229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632D-6F1A-4A99-A705-82134FC6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758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43040"/>
            <a:ext cx="40158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43040"/>
            <a:ext cx="40158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94200"/>
            <a:ext cx="40158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94200"/>
            <a:ext cx="40158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254F-CAE2-48C6-9EEB-E6EA4AC66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58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43040"/>
            <a:ext cx="2649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43040"/>
            <a:ext cx="2649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43040"/>
            <a:ext cx="2649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94200"/>
            <a:ext cx="2649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94200"/>
            <a:ext cx="2649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94200"/>
            <a:ext cx="2649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2A1B-CAFA-46EB-A115-4353C5C44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D6CA-DF90-4411-8690-5CABDADC0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58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430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58F5-5C8F-48A3-9D97-8509FEC6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58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430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B6E4-85D3-4C80-8D44-E8949B9A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58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43040"/>
            <a:ext cx="40158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43040"/>
            <a:ext cx="40158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2302-4E83-49D9-8DCB-CF256E38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58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36D1-5F36-4474-A4BA-CA2CE5A5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758880"/>
            <a:ext cx="822960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0C00-64C2-4B3F-883B-D2C76FFB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58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43040"/>
            <a:ext cx="40158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43040"/>
            <a:ext cx="40158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94200"/>
            <a:ext cx="40158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8BBAA-477C-4D8D-8504-8345BE17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758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430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3542-0583-4EAA-BF0A-170AD9F9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58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43040"/>
            <a:ext cx="40158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43040"/>
            <a:ext cx="40158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94200"/>
            <a:ext cx="40158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FAA1-CC87-41C6-AA0F-5E4F175A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58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43040"/>
            <a:ext cx="40158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43040"/>
            <a:ext cx="40158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94200"/>
            <a:ext cx="8229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3F2E7-7D79-4104-81DE-1449BA8D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58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43040"/>
            <a:ext cx="8229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94200"/>
            <a:ext cx="8229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16FB-E06B-43BF-AC5E-32888609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58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3040"/>
            <a:ext cx="40158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43040"/>
            <a:ext cx="40158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94200"/>
            <a:ext cx="40158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94200"/>
            <a:ext cx="40158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ECD7-95FB-4D30-9289-E4FBCDE26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58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43040"/>
            <a:ext cx="2649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43040"/>
            <a:ext cx="2649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43040"/>
            <a:ext cx="2649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94200"/>
            <a:ext cx="2649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94200"/>
            <a:ext cx="2649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94200"/>
            <a:ext cx="2649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BA8F4-DB51-45D0-B331-AE5C9DFD2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58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430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9E33-308F-4A8E-9E22-29D25531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58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3040"/>
            <a:ext cx="40158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43040"/>
            <a:ext cx="40158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A5C1-ADB3-4EB3-9513-6BE77AA3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758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2F65-45ED-4EF7-BAA0-52C504C4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758880"/>
            <a:ext cx="822960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6DBF-6E63-43EA-B5F9-E3C4F535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58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43040"/>
            <a:ext cx="40158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43040"/>
            <a:ext cx="40158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94200"/>
            <a:ext cx="40158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75BC-C8D7-46A2-8FC1-DE8B6EFB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58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43040"/>
            <a:ext cx="40158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43040"/>
            <a:ext cx="40158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94200"/>
            <a:ext cx="40158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E077-2192-4FFE-AD1D-2B577398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58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43040"/>
            <a:ext cx="40158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43040"/>
            <a:ext cx="40158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94200"/>
            <a:ext cx="8229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4F41-A832-4C0E-95EB-1E0A4C7A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:\Documents and Settings\鱼不愚\桌面\虎啊副本2.jpg"/>
          <p:cNvPicPr/>
          <p:nvPr/>
        </p:nvPicPr>
        <p:blipFill>
          <a:blip r:embed="rId2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58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粗倩简体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430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60A4-E0A3-44BE-A5F8-60D5E61CE8F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C:\Documents and Settings\鱼不愚\桌面\虎啊副本2.jpg"/>
          <p:cNvPicPr/>
          <p:nvPr/>
        </p:nvPicPr>
        <p:blipFill>
          <a:blip r:embed="rId2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Documents and Settings\鱼不愚\桌面\虎啊副本.jpg"/>
          <p:cNvPicPr/>
          <p:nvPr/>
        </p:nvPicPr>
        <p:blipFill>
          <a:blip r:embed="rId3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58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粗倩简体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430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D5E9-A615-4171-AFBD-F7900B7E9E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71640" y="2777760"/>
            <a:ext cx="619128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粗倩简体"/>
              </a:rPr>
              <a:t>猛虎贺岁幻灯片在线下载</a:t>
            </a:r>
            <a:endParaRPr b="0" lang="en-US" sz="40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91000" y="3873240"/>
            <a:ext cx="357192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7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7580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粗倩简体"/>
              </a:rPr>
              <a:t>模板使用说明</a:t>
            </a: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5717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添加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</a:rPr>
              <a:t>LOGO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03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版本选择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视图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】——【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母版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】——【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幻灯片母版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下调整；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07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版本选择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视图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】——【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幻灯片母版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在模板中添加您的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图片。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字体格式的设置：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本模板默认标题字体为“方正粗倩简体”，文本字体为“微软雅黑”，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如需修改字体请在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视图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母版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幻灯片母版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下调整。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下载使用须知：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转载时请注明原创作者，请勿私自改动后提供该模板的下载，免费模板设计素材来自网络共享资源，请勿将模板应用于任何商业行为。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127008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粗倩简体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7090-FCF9-48F7-A614-649008B0A6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71600" y="2500200"/>
            <a:ext cx="5143320" cy="13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粗倩简体"/>
              </a:rPr>
              <a:t>       </a:t>
            </a:r>
            <a:r>
              <a:rPr b="0" i="1" lang="zh-CN" sz="4800" spc="-1" strike="noStrike">
                <a:solidFill>
                  <a:srgbClr val="ffffff"/>
                </a:solidFill>
                <a:latin typeface="方正粗倩简体"/>
              </a:rPr>
              <a:t>感谢聆听！</a:t>
            </a:r>
            <a:endParaRPr b="0" lang="en-US" sz="4800" spc="-1" strike="noStrike">
              <a:solidFill>
                <a:srgbClr val="000000"/>
              </a:solidFill>
              <a:latin typeface="方正粗倩简体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1640" y="3571560"/>
            <a:ext cx="4714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微软雅黑"/>
              </a:rPr>
              <a:t>Thanks for your time!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6T02:12:04Z</dcterms:created>
  <dc:creator>pc</dc:creator>
  <dc:description>www.eeppt.com;</dc:description>
  <cp:keywords>www.eeppt.com</cp:keywords>
  <dc:language>en-US</dc:language>
  <cp:lastModifiedBy>jccook</cp:lastModifiedBy>
  <dcterms:modified xsi:type="dcterms:W3CDTF">2015-09-18T13:22:20Z</dcterms:modified>
  <cp:revision>14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