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3C1-0696-4257-A1D8-02444AD0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FB4-B32E-494D-AF30-D842AE4A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D30-D143-446F-9209-B3CBFAED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91C-1690-4CDB-8410-D041B8DB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DF0-52AC-4014-B6EF-5398D0E6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331-6806-4AD1-B595-3F4390C0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0BD-D90C-494B-AD21-776C4B51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656-CB5D-4A00-AC5E-4902CB82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69D-1113-46C5-B234-6D82DE8F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EF1-232E-40B3-B211-CD20287A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3E7-39B0-4AA9-B991-15BF72F3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3C7-923A-484D-BF46-DEA9F335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CE80-A297-4C97-BA97-6F841148AA3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B218-F557-46C6-90A2-FD9459322A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rcRect l="0" t="0" r="0" b="1876"/>
          <a:stretch/>
        </p:blipFill>
        <p:spPr>
          <a:xfrm>
            <a:off x="111240" y="109440"/>
            <a:ext cx="8921520" cy="492444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111240" y="2592360"/>
            <a:ext cx="8921520" cy="1871640"/>
          </a:xfrm>
          <a:prstGeom prst="rect">
            <a:avLst/>
          </a:prstGeom>
          <a:solidFill>
            <a:srgbClr val="dc2f22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7"/>
          <p:cNvSpPr/>
          <p:nvPr/>
        </p:nvSpPr>
        <p:spPr>
          <a:xfrm>
            <a:off x="990720" y="3076560"/>
            <a:ext cx="7200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934920" y="2736720"/>
            <a:ext cx="77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18thCentury"/>
              </a:rPr>
              <a:t>FACING BUSINESS CHALLENGES  AT HOLIDAY WORLDWIDE SENDING INVITATIONS ACRO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2"/>
          <p:cNvSpPr/>
          <p:nvPr/>
        </p:nvSpPr>
        <p:spPr>
          <a:xfrm>
            <a:off x="990720" y="3889440"/>
            <a:ext cx="7200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787320" y="301608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unkFive"/>
              </a:rPr>
              <a:t>THE TITLE CONT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5"/>
          <p:cNvSpPr/>
          <p:nvPr/>
        </p:nvSpPr>
        <p:spPr>
          <a:xfrm>
            <a:off x="954000" y="3867120"/>
            <a:ext cx="77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18thCentury"/>
              </a:rPr>
              <a:t>FACING BUSINESS CHALLENGES  AT HOLIDAY WORLDWIDE SENDING INVITATIONS ACRO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46609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7280" y="33984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美女简约复古欧美风格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9"/>
          <p:cNvSpPr/>
          <p:nvPr/>
        </p:nvSpPr>
        <p:spPr>
          <a:xfrm>
            <a:off x="108000" y="108000"/>
            <a:ext cx="4464000" cy="4927680"/>
          </a:xfrm>
          <a:prstGeom prst="rect">
            <a:avLst/>
          </a:prstGeom>
          <a:solidFill>
            <a:srgbClr val="dc2f22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912960" y="1338120"/>
            <a:ext cx="29509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ChunkFive"/>
              </a:rPr>
              <a:t>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unkFive"/>
              </a:rPr>
              <a:t>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ChunkFive"/>
              </a:rPr>
              <a:t>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Fame, wealth and knowledge are merely worldly possessions that are within the reach of anybody striving for the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568760" y="1438200"/>
            <a:ext cx="3672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In the eternal universe, every hu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being has a one-off chance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live --his existence 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unique and irretrievabl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for the mold with which 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was made, as Rousseau said.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full awareness of this will point out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you that the most important thing in your existence is your distinctive individuality or something special of you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84C-6FDF-4EC4-8EE0-4F612790CE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3"/>
          <p:cNvSpPr/>
          <p:nvPr/>
        </p:nvSpPr>
        <p:spPr>
          <a:xfrm>
            <a:off x="18432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47560" y="339840"/>
            <a:ext cx="835344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2f22"/>
                </a:solidFill>
                <a:latin typeface="ChunkFive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hunkFive"/>
              </a:rPr>
              <a:t>UR</a:t>
            </a:r>
            <a:r>
              <a:rPr b="0" lang="en-US" sz="2800" spc="-1" strike="noStrike">
                <a:solidFill>
                  <a:srgbClr val="dc2f22"/>
                </a:solidFill>
                <a:latin typeface="ChunkFive"/>
              </a:rPr>
              <a:t> </a:t>
            </a:r>
            <a:r>
              <a:rPr b="0" lang="en-US" sz="4000" spc="-1" strike="noStrike">
                <a:solidFill>
                  <a:srgbClr val="dc2f22"/>
                </a:solidFill>
                <a:latin typeface="ChunkFive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ChunkFive"/>
              </a:rPr>
              <a:t>EAD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Aldine721 Lt BT"/>
              </a:rPr>
              <a:t>There is many a person in the world who is ordinary  in our lif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1030320" y="3633840"/>
            <a:ext cx="511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Fame, wealth and knowledge are merely worldly possessions that are within the reach of anybody striving for the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菱形 8"/>
          <p:cNvSpPr/>
          <p:nvPr/>
        </p:nvSpPr>
        <p:spPr>
          <a:xfrm>
            <a:off x="2755800" y="1946160"/>
            <a:ext cx="1258920" cy="1260720"/>
          </a:xfrm>
          <a:prstGeom prst="diamond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菱形 9"/>
          <p:cNvSpPr/>
          <p:nvPr/>
        </p:nvSpPr>
        <p:spPr>
          <a:xfrm>
            <a:off x="4257720" y="2046240"/>
            <a:ext cx="1176120" cy="1150920"/>
          </a:xfrm>
          <a:prstGeom prst="diamond">
            <a:avLst/>
          </a:prstGeom>
          <a:solidFill>
            <a:srgbClr val="d7e4b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菱形 10"/>
          <p:cNvSpPr/>
          <p:nvPr/>
        </p:nvSpPr>
        <p:spPr>
          <a:xfrm>
            <a:off x="6080040" y="2490840"/>
            <a:ext cx="1619280" cy="1620720"/>
          </a:xfrm>
          <a:prstGeom prst="diamond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菱形 14"/>
          <p:cNvSpPr/>
          <p:nvPr/>
        </p:nvSpPr>
        <p:spPr>
          <a:xfrm>
            <a:off x="6367320" y="1347840"/>
            <a:ext cx="1043280" cy="1042920"/>
          </a:xfrm>
          <a:prstGeom prst="diamond">
            <a:avLst/>
          </a:prstGeom>
          <a:solidFill>
            <a:srgbClr val="ccc1da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菱形 15"/>
          <p:cNvSpPr/>
          <p:nvPr/>
        </p:nvSpPr>
        <p:spPr>
          <a:xfrm>
            <a:off x="7102440" y="1685880"/>
            <a:ext cx="1403280" cy="1403280"/>
          </a:xfrm>
          <a:prstGeom prst="diamond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4"/>
          <p:cNvSpPr/>
          <p:nvPr/>
        </p:nvSpPr>
        <p:spPr>
          <a:xfrm>
            <a:off x="2673360" y="2622600"/>
            <a:ext cx="679320" cy="67932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6"/>
          <p:cNvSpPr/>
          <p:nvPr/>
        </p:nvSpPr>
        <p:spPr>
          <a:xfrm flipV="1">
            <a:off x="3349800" y="2571840"/>
            <a:ext cx="728640" cy="73008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18"/>
          <p:cNvSpPr/>
          <p:nvPr/>
        </p:nvSpPr>
        <p:spPr>
          <a:xfrm>
            <a:off x="4076640" y="2565360"/>
            <a:ext cx="736560" cy="73656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22"/>
          <p:cNvSpPr/>
          <p:nvPr/>
        </p:nvSpPr>
        <p:spPr>
          <a:xfrm>
            <a:off x="6273720" y="1844640"/>
            <a:ext cx="574920" cy="57456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24"/>
          <p:cNvSpPr/>
          <p:nvPr/>
        </p:nvSpPr>
        <p:spPr>
          <a:xfrm flipH="1">
            <a:off x="5985000" y="2421000"/>
            <a:ext cx="868320" cy="86508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34"/>
          <p:cNvSpPr/>
          <p:nvPr/>
        </p:nvSpPr>
        <p:spPr>
          <a:xfrm flipV="1">
            <a:off x="4811760" y="1839600"/>
            <a:ext cx="1461960" cy="146196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42"/>
          <p:cNvSpPr/>
          <p:nvPr/>
        </p:nvSpPr>
        <p:spPr>
          <a:xfrm>
            <a:off x="5987880" y="3281400"/>
            <a:ext cx="905040" cy="90324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菱形 44"/>
          <p:cNvSpPr/>
          <p:nvPr/>
        </p:nvSpPr>
        <p:spPr>
          <a:xfrm>
            <a:off x="573120" y="1593720"/>
            <a:ext cx="1944720" cy="1944720"/>
          </a:xfrm>
          <a:prstGeom prst="diamond">
            <a:avLst/>
          </a:prstGeom>
          <a:solidFill>
            <a:srgbClr val="dc2f22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5"/>
          <p:cNvSpPr/>
          <p:nvPr/>
        </p:nvSpPr>
        <p:spPr>
          <a:xfrm>
            <a:off x="860400" y="2343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6"/>
          <p:cNvSpPr/>
          <p:nvPr/>
        </p:nvSpPr>
        <p:spPr>
          <a:xfrm>
            <a:off x="6226200" y="3076560"/>
            <a:ext cx="13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7"/>
          <p:cNvSpPr/>
          <p:nvPr/>
        </p:nvSpPr>
        <p:spPr>
          <a:xfrm>
            <a:off x="7480440" y="2052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8"/>
          <p:cNvSpPr/>
          <p:nvPr/>
        </p:nvSpPr>
        <p:spPr>
          <a:xfrm>
            <a:off x="1030320" y="4110120"/>
            <a:ext cx="511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Fame, wealth and knowledge are merely worldly possessions that are within the reach of anybody striving for the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9"/>
          <p:cNvSpPr/>
          <p:nvPr/>
        </p:nvSpPr>
        <p:spPr>
          <a:xfrm>
            <a:off x="2768760" y="23781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ldine721 Lt BT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ldine721 Lt BT"/>
              </a:rPr>
              <a:t>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0"/>
          <p:cNvSpPr/>
          <p:nvPr/>
        </p:nvSpPr>
        <p:spPr>
          <a:xfrm>
            <a:off x="4259160" y="2438280"/>
            <a:ext cx="1370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ldine721 Lt BT"/>
              </a:rPr>
              <a:t>th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ldine721 Lt BT"/>
              </a:rPr>
              <a:t>pict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2DC-EEE7-489F-99AE-061F38B335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6"/>
          <p:cNvSpPr/>
          <p:nvPr/>
        </p:nvSpPr>
        <p:spPr>
          <a:xfrm>
            <a:off x="3333600" y="461880"/>
            <a:ext cx="2648160" cy="490680"/>
          </a:xfrm>
          <a:prstGeom prst="rect">
            <a:avLst/>
          </a:prstGeom>
          <a:solidFill>
            <a:srgbClr val="dc2f2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7"/>
          <p:cNvSpPr/>
          <p:nvPr/>
        </p:nvSpPr>
        <p:spPr>
          <a:xfrm>
            <a:off x="3308400" y="43164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unkFive"/>
              </a:rPr>
              <a:t>INT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4"/>
          <p:cNvSpPr/>
          <p:nvPr/>
        </p:nvSpPr>
        <p:spPr>
          <a:xfrm>
            <a:off x="2482920" y="1387440"/>
            <a:ext cx="58323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f3f3f"/>
                </a:solidFill>
                <a:latin typeface="Aldine721 Lt BT"/>
              </a:rPr>
              <a:t>Fame, wealth and knowledge are merely worldly possessions that are within the reach of anybody striving for the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6"/>
          <p:cNvSpPr/>
          <p:nvPr/>
        </p:nvSpPr>
        <p:spPr>
          <a:xfrm>
            <a:off x="504720" y="1351080"/>
            <a:ext cx="19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unkFive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29"/>
          <p:cNvSpPr/>
          <p:nvPr/>
        </p:nvSpPr>
        <p:spPr>
          <a:xfrm flipV="1">
            <a:off x="2444760" y="1501560"/>
            <a:ext cx="0" cy="431640"/>
          </a:xfrm>
          <a:prstGeom prst="line">
            <a:avLst/>
          </a:prstGeom>
          <a:ln w="28440">
            <a:solidFill>
              <a:srgbClr val="dc2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1504800" y="2355840"/>
            <a:ext cx="67392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Fame, wealth and knowledge are merely worldly possessions that are within the reach of anybody striving for the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          </a:t>
            </a: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A full awareness of this will point out to you that the most important thing in   your existence is your distinctive individuality or something special of you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                   </a:t>
            </a: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What really counts is not your worldly success but your peculiar insight into the meaning of life and your commitment to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3D0F-39BB-40F3-B0BA-AC808D9ACB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1" descr=""/>
          <p:cNvPicPr/>
          <p:nvPr/>
        </p:nvPicPr>
        <p:blipFill>
          <a:blip r:embed="rId1"/>
          <a:srcRect l="18501" t="14867" r="25036" b="28893"/>
          <a:stretch/>
        </p:blipFill>
        <p:spPr>
          <a:xfrm>
            <a:off x="426960" y="3600360"/>
            <a:ext cx="2148120" cy="12034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2" descr=""/>
          <p:cNvPicPr/>
          <p:nvPr/>
        </p:nvPicPr>
        <p:blipFill>
          <a:blip r:embed="rId2"/>
          <a:srcRect l="0" t="0" r="5213" b="16053"/>
          <a:stretch/>
        </p:blipFill>
        <p:spPr>
          <a:xfrm>
            <a:off x="426960" y="2327400"/>
            <a:ext cx="2148120" cy="118908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4" descr=""/>
          <p:cNvPicPr/>
          <p:nvPr/>
        </p:nvPicPr>
        <p:blipFill>
          <a:blip r:embed="rId3"/>
          <a:srcRect l="0" t="15519" r="4673" b="0"/>
          <a:stretch/>
        </p:blipFill>
        <p:spPr>
          <a:xfrm>
            <a:off x="415800" y="1050840"/>
            <a:ext cx="2159280" cy="1197000"/>
          </a:xfrm>
          <a:prstGeom prst="rect">
            <a:avLst/>
          </a:prstGeom>
          <a:ln w="0">
            <a:noFill/>
          </a:ln>
        </p:spPr>
      </p:pic>
      <p:sp>
        <p:nvSpPr>
          <p:cNvPr id="172" name="矩形 5"/>
          <p:cNvSpPr/>
          <p:nvPr/>
        </p:nvSpPr>
        <p:spPr>
          <a:xfrm>
            <a:off x="2666880" y="1187280"/>
            <a:ext cx="56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Aldine721 Lt BT"/>
              </a:rPr>
              <a:t>A full awareness of this will point out to you that the most important thing in your existence is your distinctive individuality or something special of you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5"/>
          <p:cNvSpPr/>
          <p:nvPr/>
        </p:nvSpPr>
        <p:spPr>
          <a:xfrm>
            <a:off x="2666880" y="2467080"/>
            <a:ext cx="56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Aldine721 Lt BT"/>
              </a:rPr>
              <a:t>A full awareness of this will point out to you that the most important thing in your existence is your distinctive individuality or something special of you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7"/>
          <p:cNvSpPr/>
          <p:nvPr/>
        </p:nvSpPr>
        <p:spPr>
          <a:xfrm>
            <a:off x="2666880" y="3711600"/>
            <a:ext cx="56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Aldine721 Lt BT"/>
              </a:rPr>
              <a:t>A full awareness of this will point out to you that the most important thing in your existence is your distinctive individuality or something special of you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1"/>
          <p:cNvSpPr/>
          <p:nvPr/>
        </p:nvSpPr>
        <p:spPr>
          <a:xfrm>
            <a:off x="108000" y="1050840"/>
            <a:ext cx="199800" cy="1197000"/>
          </a:xfrm>
          <a:prstGeom prst="rect">
            <a:avLst/>
          </a:prstGeom>
          <a:solidFill>
            <a:srgbClr val="dc2f2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2"/>
          <p:cNvSpPr/>
          <p:nvPr/>
        </p:nvSpPr>
        <p:spPr>
          <a:xfrm>
            <a:off x="108000" y="2327400"/>
            <a:ext cx="199800" cy="1197000"/>
          </a:xfrm>
          <a:prstGeom prst="rect">
            <a:avLst/>
          </a:prstGeom>
          <a:solidFill>
            <a:srgbClr val="dc2f2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3"/>
          <p:cNvSpPr/>
          <p:nvPr/>
        </p:nvSpPr>
        <p:spPr>
          <a:xfrm>
            <a:off x="108000" y="3606840"/>
            <a:ext cx="199800" cy="1197000"/>
          </a:xfrm>
          <a:prstGeom prst="rect">
            <a:avLst/>
          </a:prstGeom>
          <a:solidFill>
            <a:srgbClr val="dc2f2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7"/>
          <p:cNvSpPr/>
          <p:nvPr/>
        </p:nvSpPr>
        <p:spPr>
          <a:xfrm rot="10800000">
            <a:off x="-3600" y="1303560"/>
            <a:ext cx="43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ldine721 Lt BT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4"/>
          <p:cNvSpPr/>
          <p:nvPr/>
        </p:nvSpPr>
        <p:spPr>
          <a:xfrm rot="10800000">
            <a:off x="-3240" y="2619360"/>
            <a:ext cx="4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ldine721 Lt BT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5"/>
          <p:cNvSpPr/>
          <p:nvPr/>
        </p:nvSpPr>
        <p:spPr>
          <a:xfrm rot="10800000">
            <a:off x="-360" y="3841920"/>
            <a:ext cx="43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ldine721 Lt BT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6"/>
          <p:cNvSpPr/>
          <p:nvPr/>
        </p:nvSpPr>
        <p:spPr>
          <a:xfrm>
            <a:off x="2303640" y="247680"/>
            <a:ext cx="45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unkFive"/>
              </a:rPr>
              <a:t>OUR</a:t>
            </a:r>
            <a:r>
              <a:rPr b="0" lang="en-US" sz="2800" spc="-1" strike="noStrike">
                <a:solidFill>
                  <a:srgbClr val="dc2f22"/>
                </a:solidFill>
                <a:latin typeface="ChunkFiv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hunkFive"/>
              </a:rPr>
              <a:t>HEAD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B9D-7814-457B-96F0-FD7E08ECD3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6"/>
          <p:cNvSpPr/>
          <p:nvPr/>
        </p:nvSpPr>
        <p:spPr>
          <a:xfrm flipV="1">
            <a:off x="2168640" y="1275840"/>
            <a:ext cx="0" cy="2519640"/>
          </a:xfrm>
          <a:prstGeom prst="line">
            <a:avLst/>
          </a:prstGeom>
          <a:ln w="38160">
            <a:solidFill>
              <a:srgbClr val="dc2f22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17"/>
          <p:cNvSpPr/>
          <p:nvPr/>
        </p:nvSpPr>
        <p:spPr>
          <a:xfrm flipV="1">
            <a:off x="2247840" y="1275840"/>
            <a:ext cx="1800" cy="2519640"/>
          </a:xfrm>
          <a:prstGeom prst="line">
            <a:avLst/>
          </a:prstGeom>
          <a:ln w="38160">
            <a:solidFill>
              <a:srgbClr val="3f3f3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3"/>
          <p:cNvSpPr/>
          <p:nvPr/>
        </p:nvSpPr>
        <p:spPr>
          <a:xfrm>
            <a:off x="2392200" y="1392120"/>
            <a:ext cx="59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ChunkFive"/>
              </a:rPr>
              <a:t>THERE IS MANG A PERSON IN THE WORLD WHO IS ORDINARY IN OUR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6"/>
          <p:cNvSpPr/>
          <p:nvPr/>
        </p:nvSpPr>
        <p:spPr>
          <a:xfrm rot="16200000">
            <a:off x="605520" y="2197440"/>
            <a:ext cx="25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unkFive"/>
              </a:rPr>
              <a:t>INTRO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2EB-42B8-42B1-83D6-C18F4A87EB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D87-8B93-4CEA-AE96-43E87BE73B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8"/>
          <p:cNvSpPr/>
          <p:nvPr/>
        </p:nvSpPr>
        <p:spPr>
          <a:xfrm>
            <a:off x="2700360" y="1987560"/>
            <a:ext cx="1871640" cy="584280"/>
          </a:xfrm>
          <a:prstGeom prst="rect">
            <a:avLst/>
          </a:prstGeom>
          <a:solidFill>
            <a:srgbClr val="dc2f2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2700360" y="19875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unkFive"/>
              </a:rPr>
              <a:t>THANK   YO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885-11C3-4C92-892F-DC0F0C05C6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2625840" y="992160"/>
            <a:ext cx="3892320" cy="716040"/>
          </a:xfrm>
          <a:prstGeom prst="rect">
            <a:avLst/>
          </a:prstGeom>
          <a:solidFill>
            <a:srgbClr val="dc2f2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664000" y="979560"/>
            <a:ext cx="38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unkFive"/>
              </a:rPr>
              <a:t>INTRODU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095560" y="2282760"/>
            <a:ext cx="497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Aldine721 Lt BT"/>
              </a:rPr>
              <a:t>IN THE ETERNAL UNIVERSE, EVERU HUMAN BEING HAS A ONE-OFF CHANCE TO LIVE—HIS EXISTENCE IS UNIQUE AND IRRETRIEVABL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17"/>
          <p:cNvSpPr/>
          <p:nvPr/>
        </p:nvSpPr>
        <p:spPr>
          <a:xfrm>
            <a:off x="2446200" y="1924200"/>
            <a:ext cx="4251600" cy="0"/>
          </a:xfrm>
          <a:prstGeom prst="line">
            <a:avLst/>
          </a:prstGeom>
          <a:ln w="38160">
            <a:solidFill>
              <a:srgbClr val="dc2f22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23"/>
          <p:cNvSpPr/>
          <p:nvPr/>
        </p:nvSpPr>
        <p:spPr>
          <a:xfrm>
            <a:off x="2446200" y="1995480"/>
            <a:ext cx="4251600" cy="1440"/>
          </a:xfrm>
          <a:prstGeom prst="line">
            <a:avLst/>
          </a:prstGeom>
          <a:ln w="38160">
            <a:solidFill>
              <a:srgbClr val="3f3f3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1ED-090B-401D-B7AC-11B6F8BB42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3"/>
          <p:cNvSpPr/>
          <p:nvPr/>
        </p:nvSpPr>
        <p:spPr>
          <a:xfrm>
            <a:off x="108000" y="114480"/>
            <a:ext cx="8928000" cy="492732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0"/>
          <p:cNvSpPr/>
          <p:nvPr/>
        </p:nvSpPr>
        <p:spPr>
          <a:xfrm>
            <a:off x="1089000" y="577800"/>
            <a:ext cx="2647800" cy="488880"/>
          </a:xfrm>
          <a:prstGeom prst="rect">
            <a:avLst/>
          </a:prstGeom>
          <a:solidFill>
            <a:srgbClr val="dc2f2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1095480" y="54612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unkFive"/>
              </a:rPr>
              <a:t>INT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1012680" y="1185840"/>
            <a:ext cx="5400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Aldine721 Lt BT"/>
              </a:rPr>
              <a:t>WAS BROKEN BY G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Aldine721 Lt BT"/>
              </a:rPr>
              <a:t>IMMEDIATELY AFTERWR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1047600" y="2716200"/>
            <a:ext cx="7124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Fame, wealth and knowledge are merely worldly possessions that are within the reach of anybody striving for the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A full awareness of this will point out to you that the most important thing in your existence is your distinctive individuality or something special of you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What really counts is not your worldly success but your peculiar insight into the meaning of life and your commitment to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67280" y="411120"/>
            <a:ext cx="423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3f3f"/>
                </a:solidFill>
                <a:latin typeface="Aldine721 Lt BT"/>
              </a:rPr>
              <a:t>Marilyn Monr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459240" y="9237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Aldine721 Lt BT"/>
              </a:rPr>
              <a:t>the actr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1353960" y="1625760"/>
            <a:ext cx="3894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Marilyn Monroe personified Hollywood glamour with an unparalleled glow and energy that enamored the world. Although she was an alluring beauty with voluptuous curves and a generous pout, Marilyn was more than a '50s sex goddes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949320" y="3222720"/>
            <a:ext cx="79423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unkFive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hunkFive"/>
              </a:rPr>
              <a:t>H</a:t>
            </a:r>
            <a:r>
              <a:rPr b="0" lang="en-US" sz="4000" spc="-1" strike="noStrike">
                <a:solidFill>
                  <a:srgbClr val="ffffff"/>
                </a:solidFill>
                <a:latin typeface="ChunkFive"/>
              </a:rPr>
              <a:t>E WOMAN W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unkFive"/>
              </a:rPr>
              <a:t>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ChunkFive"/>
              </a:rPr>
              <a:t>STARTED IT ALL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3"/>
          <p:cNvSpPr/>
          <p:nvPr/>
        </p:nvSpPr>
        <p:spPr>
          <a:xfrm>
            <a:off x="682560" y="3079800"/>
            <a:ext cx="1152720" cy="1150920"/>
          </a:xfrm>
          <a:prstGeom prst="ellipse">
            <a:avLst/>
          </a:prstGeom>
          <a:solidFill>
            <a:srgbClr val="dc2f22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8" descr=""/>
          <p:cNvPicPr/>
          <p:nvPr/>
        </p:nvPicPr>
        <p:blipFill>
          <a:blip r:embed="rId1"/>
          <a:stretch/>
        </p:blipFill>
        <p:spPr>
          <a:xfrm>
            <a:off x="6588000" y="1042920"/>
            <a:ext cx="1343160" cy="1317600"/>
          </a:xfrm>
          <a:prstGeom prst="rect">
            <a:avLst/>
          </a:prstGeom>
          <a:ln w="0">
            <a:noFill/>
          </a:ln>
        </p:spPr>
      </p:pic>
      <p:sp>
        <p:nvSpPr>
          <p:cNvPr id="68" name="椭圆 11"/>
          <p:cNvSpPr/>
          <p:nvPr/>
        </p:nvSpPr>
        <p:spPr>
          <a:xfrm>
            <a:off x="5994360" y="1701720"/>
            <a:ext cx="1368360" cy="1368360"/>
          </a:xfrm>
          <a:prstGeom prst="ellipse">
            <a:avLst/>
          </a:prstGeom>
          <a:solidFill>
            <a:srgbClr val="d7e4b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2"/>
          <p:cNvSpPr/>
          <p:nvPr/>
        </p:nvSpPr>
        <p:spPr>
          <a:xfrm>
            <a:off x="7093080" y="1738440"/>
            <a:ext cx="1368360" cy="1368360"/>
          </a:xfrm>
          <a:prstGeom prst="ellipse">
            <a:avLst/>
          </a:prstGeom>
          <a:solidFill>
            <a:srgbClr val="ccc1da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2"/>
          <p:cNvSpPr/>
          <p:nvPr/>
        </p:nvSpPr>
        <p:spPr>
          <a:xfrm>
            <a:off x="6575400" y="1041480"/>
            <a:ext cx="1368360" cy="1319040"/>
          </a:xfrm>
          <a:prstGeom prst="ellipse">
            <a:avLst/>
          </a:prstGeom>
          <a:solidFill>
            <a:srgbClr val="b9cde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6126120" y="225432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ldine721 Lt BT"/>
              </a:rPr>
              <a:t>FAMO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7213680" y="225576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ldine721 Lt BT"/>
              </a:rPr>
              <a:t>BEAUTIFU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885-D7E7-445C-8E9F-AE89235DDD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3"/>
          <p:cNvSpPr/>
          <p:nvPr/>
        </p:nvSpPr>
        <p:spPr>
          <a:xfrm>
            <a:off x="136440" y="108000"/>
            <a:ext cx="892836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8"/>
          <p:cNvSpPr/>
          <p:nvPr/>
        </p:nvSpPr>
        <p:spPr>
          <a:xfrm>
            <a:off x="2538360" y="635040"/>
            <a:ext cx="2222640" cy="6480"/>
          </a:xfrm>
          <a:prstGeom prst="line">
            <a:avLst/>
          </a:prstGeom>
          <a:ln w="38160">
            <a:solidFill>
              <a:srgbClr val="dc2f22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9"/>
          <p:cNvSpPr/>
          <p:nvPr/>
        </p:nvSpPr>
        <p:spPr>
          <a:xfrm>
            <a:off x="907920" y="1693800"/>
            <a:ext cx="2184480" cy="1800"/>
          </a:xfrm>
          <a:prstGeom prst="line">
            <a:avLst/>
          </a:prstGeom>
          <a:ln w="38160">
            <a:solidFill>
              <a:srgbClr val="dc2f22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1008000" y="630360"/>
            <a:ext cx="37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unkFive"/>
              </a:rPr>
              <a:t>THEY MAKE TH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5"/>
          <p:cNvSpPr/>
          <p:nvPr/>
        </p:nvSpPr>
        <p:spPr>
          <a:xfrm>
            <a:off x="4908600" y="1851120"/>
            <a:ext cx="3384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In the eternal universe, every human being has a one-off chance to live --his existence is unique and irretrievable, for the mold with which he was made, as Rousseau sai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A full awareness of this will point out to you that the most important thing in your existence is your distinctive individuality or something special of you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955800" y="2282760"/>
            <a:ext cx="3609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A full awareness of this will point out to you that the most important thing in your existence is your distinctive individuality or something special of you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What really counts is not your worldly success but your peculiar insight into the meaning of life and your commitment to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1"/>
          <p:cNvSpPr/>
          <p:nvPr/>
        </p:nvSpPr>
        <p:spPr>
          <a:xfrm>
            <a:off x="6156360" y="782640"/>
            <a:ext cx="720720" cy="719280"/>
          </a:xfrm>
          <a:prstGeom prst="ellipse">
            <a:avLst/>
          </a:prstGeom>
          <a:solidFill>
            <a:srgbClr val="d7e4b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3"/>
          <p:cNvSpPr/>
          <p:nvPr/>
        </p:nvSpPr>
        <p:spPr>
          <a:xfrm>
            <a:off x="7292880" y="768240"/>
            <a:ext cx="735120" cy="733680"/>
          </a:xfrm>
          <a:prstGeom prst="ellipse">
            <a:avLst/>
          </a:prstGeom>
          <a:solidFill>
            <a:srgbClr val="ccc1da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14"/>
          <p:cNvSpPr/>
          <p:nvPr/>
        </p:nvSpPr>
        <p:spPr>
          <a:xfrm>
            <a:off x="5003640" y="760320"/>
            <a:ext cx="735120" cy="74304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con-Discussion"/>
          <p:cNvSpPr/>
          <p:nvPr/>
        </p:nvSpPr>
        <p:spPr>
          <a:xfrm>
            <a:off x="5065560" y="934920"/>
            <a:ext cx="595440" cy="392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9" descr="C:\Users\v-jtobey.REDMOND\AppData\Local\MetroStyleAddIn\Icons\Data Download.wmf"/>
          <p:cNvPicPr/>
          <p:nvPr/>
        </p:nvPicPr>
        <p:blipFill>
          <a:blip r:embed="rId1"/>
          <a:stretch/>
        </p:blipFill>
        <p:spPr>
          <a:xfrm>
            <a:off x="7400880" y="920880"/>
            <a:ext cx="519120" cy="444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\\MAGNUM\Projects\Microsoft\Cloud Power FY12\Design\Icons\PNGs\Pooled.png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6167520" y="809640"/>
            <a:ext cx="703080" cy="70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C5E-DF76-409F-BF3A-172D85A8ED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1260360" y="1563840"/>
            <a:ext cx="35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unkFive"/>
              </a:rPr>
              <a:t>THE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625920" y="2055960"/>
            <a:ext cx="3610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A full awareness of this will point out to you that the most important thing in your existence is your distinctive individuality or something special of you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ldine721 Lt BT"/>
              </a:rPr>
              <a:t>What really counts is not your worldly success but your peculiar insight into the meaning of life and your commitment to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0"/>
          <p:cNvSpPr/>
          <p:nvPr/>
        </p:nvSpPr>
        <p:spPr>
          <a:xfrm>
            <a:off x="4575240" y="1930320"/>
            <a:ext cx="144360" cy="144720"/>
          </a:xfrm>
          <a:prstGeom prst="ellipse">
            <a:avLst/>
          </a:prstGeom>
          <a:solidFill>
            <a:srgbClr val="dc2f22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6DD9-13FB-418D-8DD2-26A12EEE0F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108000" y="339840"/>
            <a:ext cx="199800" cy="488880"/>
          </a:xfrm>
          <a:prstGeom prst="rect">
            <a:avLst/>
          </a:prstGeom>
          <a:solidFill>
            <a:srgbClr val="dc2f2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7"/>
          <p:cNvSpPr/>
          <p:nvPr/>
        </p:nvSpPr>
        <p:spPr>
          <a:xfrm>
            <a:off x="565200" y="3459240"/>
            <a:ext cx="2590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ldine721 Lt BT"/>
              </a:rPr>
              <a:t>In the eternal universe, every human being has a one-off chance to live --his existence is unique and irretrievable, for the mold with which he was made, as Rousseau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8"/>
          <p:cNvSpPr/>
          <p:nvPr/>
        </p:nvSpPr>
        <p:spPr>
          <a:xfrm>
            <a:off x="3352680" y="3459240"/>
            <a:ext cx="2590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ldine721 Lt BT"/>
              </a:rPr>
              <a:t>In the eternal universe, every human being has a one-off chance to live --his existence is unique and irretrievable, for the mold with which he was made, as Rousseau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9"/>
          <p:cNvSpPr/>
          <p:nvPr/>
        </p:nvSpPr>
        <p:spPr>
          <a:xfrm>
            <a:off x="6056280" y="3459240"/>
            <a:ext cx="2590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ldine721 Lt BT"/>
              </a:rPr>
              <a:t>In the eternal universe, every human being has a one-off chance to live --his existence is unique and irretrievable, for the mold with which he was made, as Rousseau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601560" y="1576440"/>
            <a:ext cx="828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ldine721 Lt BT"/>
              </a:rPr>
              <a:t>In the eternal universe, every human being has a one-off chance to live --his existence is unique and irretrievable, for the mold with which he was made, as Rousseau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778320" y="119700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hunkFive"/>
              </a:rPr>
              <a:t>THEY MAKE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324000" y="258840"/>
            <a:ext cx="25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unkFive"/>
              </a:rPr>
              <a:t>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25"/>
          <p:cNvGrpSpPr/>
          <p:nvPr/>
        </p:nvGrpSpPr>
        <p:grpSpPr>
          <a:xfrm>
            <a:off x="988920" y="2212920"/>
            <a:ext cx="1584360" cy="960480"/>
            <a:chOff x="988920" y="2212920"/>
            <a:chExt cx="1584360" cy="960480"/>
          </a:xfrm>
        </p:grpSpPr>
        <p:sp>
          <p:nvSpPr>
            <p:cNvPr id="98" name="圆角矩形 26"/>
            <p:cNvSpPr/>
            <p:nvPr/>
          </p:nvSpPr>
          <p:spPr>
            <a:xfrm>
              <a:off x="988920" y="2212920"/>
              <a:ext cx="1584360" cy="960480"/>
            </a:xfrm>
            <a:prstGeom prst="roundRect">
              <a:avLst>
                <a:gd name="adj" fmla="val 23880"/>
              </a:avLst>
            </a:prstGeom>
            <a:solidFill>
              <a:srgbClr val="cc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27"/>
            <p:cNvSpPr/>
            <p:nvPr/>
          </p:nvSpPr>
          <p:spPr>
            <a:xfrm>
              <a:off x="988920" y="2474640"/>
              <a:ext cx="1202040" cy="698760"/>
            </a:xfrm>
            <a:prstGeom prst="rect">
              <a:avLst/>
            </a:prstGeom>
            <a:solidFill>
              <a:srgbClr val="cc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28"/>
            <p:cNvSpPr/>
            <p:nvPr/>
          </p:nvSpPr>
          <p:spPr>
            <a:xfrm>
              <a:off x="1371240" y="2212920"/>
              <a:ext cx="1202040" cy="698760"/>
            </a:xfrm>
            <a:prstGeom prst="rect">
              <a:avLst/>
            </a:prstGeom>
            <a:solidFill>
              <a:srgbClr val="cc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29"/>
          <p:cNvGrpSpPr/>
          <p:nvPr/>
        </p:nvGrpSpPr>
        <p:grpSpPr>
          <a:xfrm>
            <a:off x="3716280" y="2212920"/>
            <a:ext cx="1584360" cy="960480"/>
            <a:chOff x="3716280" y="2212920"/>
            <a:chExt cx="1584360" cy="960480"/>
          </a:xfrm>
        </p:grpSpPr>
        <p:sp>
          <p:nvSpPr>
            <p:cNvPr id="102" name="圆角矩形 30"/>
            <p:cNvSpPr/>
            <p:nvPr/>
          </p:nvSpPr>
          <p:spPr>
            <a:xfrm>
              <a:off x="3716280" y="2212920"/>
              <a:ext cx="1584360" cy="960480"/>
            </a:xfrm>
            <a:prstGeom prst="roundRect">
              <a:avLst>
                <a:gd name="adj" fmla="val 23880"/>
              </a:avLst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31"/>
            <p:cNvSpPr/>
            <p:nvPr/>
          </p:nvSpPr>
          <p:spPr>
            <a:xfrm>
              <a:off x="3716280" y="2474640"/>
              <a:ext cx="1202040" cy="69876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32"/>
            <p:cNvSpPr/>
            <p:nvPr/>
          </p:nvSpPr>
          <p:spPr>
            <a:xfrm>
              <a:off x="4098600" y="2212920"/>
              <a:ext cx="1202040" cy="69876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33"/>
          <p:cNvGrpSpPr/>
          <p:nvPr/>
        </p:nvGrpSpPr>
        <p:grpSpPr>
          <a:xfrm>
            <a:off x="6443640" y="2212920"/>
            <a:ext cx="1584360" cy="960480"/>
            <a:chOff x="6443640" y="2212920"/>
            <a:chExt cx="1584360" cy="960480"/>
          </a:xfrm>
        </p:grpSpPr>
        <p:sp>
          <p:nvSpPr>
            <p:cNvPr id="106" name="圆角矩形 34"/>
            <p:cNvSpPr/>
            <p:nvPr/>
          </p:nvSpPr>
          <p:spPr>
            <a:xfrm>
              <a:off x="6443640" y="2212920"/>
              <a:ext cx="1584360" cy="960480"/>
            </a:xfrm>
            <a:prstGeom prst="roundRect">
              <a:avLst>
                <a:gd name="adj" fmla="val 23880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35"/>
            <p:cNvSpPr/>
            <p:nvPr/>
          </p:nvSpPr>
          <p:spPr>
            <a:xfrm>
              <a:off x="6443640" y="2474640"/>
              <a:ext cx="1202040" cy="6987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36"/>
            <p:cNvSpPr/>
            <p:nvPr/>
          </p:nvSpPr>
          <p:spPr>
            <a:xfrm>
              <a:off x="6825960" y="2212920"/>
              <a:ext cx="1202040" cy="6987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矩形 8"/>
          <p:cNvSpPr/>
          <p:nvPr/>
        </p:nvSpPr>
        <p:spPr>
          <a:xfrm>
            <a:off x="4071960" y="2387520"/>
            <a:ext cx="10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7"/>
          <p:cNvSpPr/>
          <p:nvPr/>
        </p:nvSpPr>
        <p:spPr>
          <a:xfrm>
            <a:off x="1243440" y="2387520"/>
            <a:ext cx="10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8"/>
          <p:cNvSpPr/>
          <p:nvPr/>
        </p:nvSpPr>
        <p:spPr>
          <a:xfrm>
            <a:off x="6804000" y="2387520"/>
            <a:ext cx="10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2720" y="8445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743-AEF0-43E1-A6CB-EB8F9F700B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12" descr=""/>
          <p:cNvPicPr/>
          <p:nvPr/>
        </p:nvPicPr>
        <p:blipFill>
          <a:blip r:embed="rId1"/>
          <a:srcRect l="-7244" t="0" r="21266" b="2539"/>
          <a:stretch/>
        </p:blipFill>
        <p:spPr>
          <a:xfrm>
            <a:off x="3247920" y="122400"/>
            <a:ext cx="5772240" cy="49068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4"/>
          <p:cNvSpPr/>
          <p:nvPr/>
        </p:nvSpPr>
        <p:spPr>
          <a:xfrm>
            <a:off x="372960" y="-452520"/>
            <a:ext cx="576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ffff"/>
                </a:solidFill>
                <a:latin typeface="Hancock"/>
                <a:ea typeface="宋体"/>
              </a:rPr>
              <a:t>kelly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"/>
          <p:cNvSpPr/>
          <p:nvPr/>
        </p:nvSpPr>
        <p:spPr>
          <a:xfrm flipV="1">
            <a:off x="3825720" y="1901520"/>
            <a:ext cx="0" cy="3136680"/>
          </a:xfrm>
          <a:prstGeom prst="line">
            <a:avLst/>
          </a:prstGeom>
          <a:ln w="203040">
            <a:solidFill>
              <a:srgbClr val="dc2f22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042920" y="1347840"/>
            <a:ext cx="28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3f3f"/>
                </a:solidFill>
                <a:latin typeface="Aldine721 Lt BT"/>
              </a:rPr>
              <a:t>WHY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3f3f"/>
                </a:solidFill>
                <a:latin typeface="Aldine721 Lt BT"/>
              </a:rPr>
              <a:t>STILL HAVEN’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3f3f"/>
                </a:solidFill>
                <a:latin typeface="Aldine721 Lt BT"/>
              </a:rPr>
              <a:t>MARRIEO BILLY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181080" y="2500200"/>
            <a:ext cx="342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ldine721 Lt BT"/>
              </a:rPr>
              <a:t>In the eternal universe, every human being has a one-off chance to live --his existence is unique and irretriev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1033560" y="3233880"/>
            <a:ext cx="1233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ldine721 Lt BT"/>
              </a:rPr>
              <a:t>In the eternal universe, every human being has a one-off chance to live --his existence is unique and irretriev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2349360" y="3233880"/>
            <a:ext cx="1252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ldine721 Lt BT"/>
              </a:rPr>
              <a:t>In the eternal universe, every human being has a one-off chance to live --his existence is unique and irretriev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FE5-47EF-446A-8183-67D97351E2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3"/>
          <p:cNvSpPr/>
          <p:nvPr/>
        </p:nvSpPr>
        <p:spPr>
          <a:xfrm>
            <a:off x="108000" y="108000"/>
            <a:ext cx="8928000" cy="4927680"/>
          </a:xfrm>
          <a:prstGeom prst="rect">
            <a:avLst/>
          </a:prstGeom>
          <a:solidFill>
            <a:srgbClr val="aaa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4716360" y="555480"/>
            <a:ext cx="37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dine721 Lt BT"/>
              </a:rPr>
              <a:t>IT IS NOT EASY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dine721 Lt BT"/>
              </a:rPr>
              <a:t>BE </a:t>
            </a:r>
            <a:r>
              <a:rPr b="1" lang="en-US" sz="2800" spc="-1" strike="noStrike">
                <a:solidFill>
                  <a:srgbClr val="3f3f3f"/>
                </a:solidFill>
                <a:latin typeface="Aldine721 Lt BT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Aldine721 Lt BT"/>
              </a:rPr>
              <a:t> </a:t>
            </a:r>
            <a:r>
              <a:rPr b="1" lang="en-US" sz="2800" spc="-1" strike="noStrike">
                <a:solidFill>
                  <a:srgbClr val="3f3f3f"/>
                </a:solidFill>
                <a:latin typeface="Aldine721 Lt BT"/>
              </a:rPr>
              <a:t>ONE </a:t>
            </a:r>
            <a:r>
              <a:rPr b="1" lang="en-US" sz="2800" spc="-1" strike="noStrike">
                <a:solidFill>
                  <a:srgbClr val="ffffff"/>
                </a:solidFill>
                <a:latin typeface="Aldine721 Lt BT"/>
              </a:rPr>
              <a:t>REALLY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819680" y="2279520"/>
            <a:ext cx="34257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ldine721 Lt BT"/>
              </a:rPr>
              <a:t>Fame, wealth and knowledge are merely worldly possessions that are within the reach of anybody striving for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ldine721 Lt BT"/>
              </a:rPr>
              <a:t>A full awareness of this will point out to you that the most important thing in your existence is your distinctive individuality or something special of y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ldine721 Lt BT"/>
              </a:rPr>
              <a:t>What really counts is not your worldly success but your peculiar insight into the meaning of life and your commitment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"/>
          <p:cNvSpPr/>
          <p:nvPr/>
        </p:nvSpPr>
        <p:spPr>
          <a:xfrm>
            <a:off x="971640" y="627120"/>
            <a:ext cx="3024000" cy="679320"/>
          </a:xfrm>
          <a:prstGeom prst="rect">
            <a:avLst/>
          </a:prstGeom>
          <a:solidFill>
            <a:srgbClr val="dc2f2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1082520" y="703440"/>
            <a:ext cx="30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unkFive"/>
              </a:rPr>
              <a:t>INT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1"/>
          <p:cNvSpPr/>
          <p:nvPr/>
        </p:nvSpPr>
        <p:spPr>
          <a:xfrm>
            <a:off x="682560" y="2643120"/>
            <a:ext cx="1501920" cy="150012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9"/>
          <p:cNvSpPr/>
          <p:nvPr/>
        </p:nvSpPr>
        <p:spPr>
          <a:xfrm>
            <a:off x="1851120" y="2935440"/>
            <a:ext cx="1280880" cy="1280880"/>
          </a:xfrm>
          <a:prstGeom prst="ellipse">
            <a:avLst/>
          </a:prstGeom>
          <a:solidFill>
            <a:srgbClr val="d7e4b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0"/>
          <p:cNvSpPr/>
          <p:nvPr/>
        </p:nvSpPr>
        <p:spPr>
          <a:xfrm>
            <a:off x="2832120" y="3270240"/>
            <a:ext cx="1019160" cy="1019160"/>
          </a:xfrm>
          <a:prstGeom prst="ellipse">
            <a:avLst/>
          </a:prstGeom>
          <a:solidFill>
            <a:srgbClr val="ccc1da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971640" y="2994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dine721 Lt BT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2050920" y="3282840"/>
            <a:ext cx="100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ldine721 Lt BT"/>
              </a:rPr>
              <a:t>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ldine721 Lt BT"/>
              </a:rPr>
              <a:t>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4"/>
          <p:cNvSpPr/>
          <p:nvPr/>
        </p:nvSpPr>
        <p:spPr>
          <a:xfrm>
            <a:off x="2987640" y="354960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ldine721 Lt BT"/>
              </a:rPr>
              <a:t>TH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ldine721 Lt BT"/>
              </a:rPr>
              <a:t>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611280" y="1852560"/>
            <a:ext cx="146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Aldine721 Lt BT"/>
              </a:rPr>
              <a:t>The 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7"/>
          <p:cNvSpPr/>
          <p:nvPr/>
        </p:nvSpPr>
        <p:spPr>
          <a:xfrm>
            <a:off x="3156120" y="26431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Aldine721 Lt BT"/>
              </a:rPr>
              <a:t>The 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1901880" y="2211480"/>
            <a:ext cx="15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Aldine721 Lt BT"/>
              </a:rPr>
              <a:t>The si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EC5-83A4-4967-B563-30025B0B73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1:48:1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16Z</dcterms:modified>
  <cp:revision>8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