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0B9-9E64-4F27-B85E-2C21EAF6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921-A265-4644-9240-B9417022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35F-4914-4A58-923A-74877BD5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486-C3F6-4A83-91A8-50487978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8ADB-3C63-42BD-8718-7FB6E40B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9664-CDD9-43B6-B09C-8727C3A0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A427-60D1-48BE-9D33-AD0552E2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5FDF-CB52-4A14-B995-31B0F57B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C420-42BF-4D69-B343-95FD34B4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9F39-75CD-4192-95B2-1938A66E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A9DE-5F30-4217-A93B-E13FDC98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611-6EFD-4302-8BDB-859E3F8D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49EA-16E6-45FB-A990-D1B56784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A379-6D94-404E-BEC4-B612B5E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725C-D8B4-4A67-80D7-2849E5C0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95C6-8FFF-4D5F-828A-3650F899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BD78-98EC-4FEE-ACFD-B2306474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7661F-ED75-4D81-B7DA-236E171A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95FC-DF73-4DC6-B2FD-A869B818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58462-AE5E-4925-BB82-14CED016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EFB09-1497-4D33-9503-A7CB42E8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7A02-A69C-49F5-A820-9F2CA409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58A-D5D7-490E-ADAA-CF00FF33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9243-AB0C-45DE-B3AB-3188B33E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E5E54-3280-4F08-BD5B-0B7FA6A4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B317-156E-4C32-A550-CE5C8927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5848-F817-404C-8418-53219340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F3024-E4FA-4A6B-B24A-53A3061E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FB53-DD19-4B60-B491-6A86C063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2A059-844D-4DFC-B6D6-E2686B58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664A3-C208-4549-BF85-CC96ECC1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65868-112B-4DC0-9060-3153C434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57888-DB4E-42AD-A408-F38818DD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C33-42D0-4C94-B6F2-B6534F2A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C5F6-A810-4923-B72A-8ACBAF93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DED09-D155-4CE6-86F6-77E6247F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C67E-EDDC-44A8-A80B-A627C2F5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6A20B-2DB5-4144-B711-B1508A6C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D0652-9DE7-4E05-AE58-E545823C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8ED12-9ECD-4222-B8F4-758CA274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01985-4DCF-43E4-8022-A6D04C8A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6C9AC-AEA0-4FB7-854C-B14F920C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3B454-1143-43FC-B585-B0C3F650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9CD-E27B-4D30-A95E-C8881B71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4A0-2E18-4A5F-9999-C3F7397A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8F6-0757-48A2-825B-BBBBD6D9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A03-3A05-44B8-B440-5A02EFE8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BA4-B116-4F87-A160-2A869007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62B4-886F-411B-B9B8-039B7012A4C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DE14-343B-427B-88DA-A5A28C28A6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E232-9DD1-416E-9012-C1314D36B6E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7CA0-2FD6-4AE2-B5BC-B1ECA4C92F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25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D986-9D55-467F-8DAC-27C241326F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B0AE-5BCE-48F1-92AE-A63F9514E4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0EB1-C09A-4AAC-9A77-3F93D63E9A1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A45D-1CE3-4816-BB75-DE18110A58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6" descr=""/>
          <p:cNvPicPr/>
          <p:nvPr/>
        </p:nvPicPr>
        <p:blipFill>
          <a:blip r:embed="rId2"/>
          <a:stretch/>
        </p:blipFill>
        <p:spPr>
          <a:xfrm>
            <a:off x="0" y="336600"/>
            <a:ext cx="5472000" cy="2271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81080" y="516240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49560" y="122400"/>
            <a:ext cx="448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马年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321000" y="912960"/>
            <a:ext cx="2430360" cy="3240000"/>
            <a:chOff x="3321000" y="912960"/>
            <a:chExt cx="2430360" cy="3240000"/>
          </a:xfrm>
        </p:grpSpPr>
        <p:sp>
          <p:nvSpPr>
            <p:cNvPr id="169" name=""/>
            <p:cNvSpPr/>
            <p:nvPr/>
          </p:nvSpPr>
          <p:spPr>
            <a:xfrm>
              <a:off x="3321000" y="912960"/>
              <a:ext cx="2430360" cy="498240"/>
            </a:xfrm>
            <a:prstGeom prst="roundRect">
              <a:avLst>
                <a:gd name="adj" fmla="val 1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6680" y="912960"/>
              <a:ext cx="1894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、分段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70680" y="962640"/>
              <a:ext cx="486000" cy="39852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21000" y="1461240"/>
              <a:ext cx="2430360" cy="498240"/>
            </a:xfrm>
            <a:prstGeom prst="roundRect">
              <a:avLst>
                <a:gd name="adj" fmla="val 1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56680" y="1461240"/>
              <a:ext cx="1894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、分段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70680" y="1510920"/>
              <a:ext cx="486000" cy="39852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21000" y="2009520"/>
              <a:ext cx="2430360" cy="498240"/>
            </a:xfrm>
            <a:prstGeom prst="roundRect">
              <a:avLst>
                <a:gd name="adj" fmla="val 1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56680" y="2009520"/>
              <a:ext cx="1894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、分段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70680" y="2059200"/>
              <a:ext cx="486000" cy="39852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21000" y="2557800"/>
              <a:ext cx="2430360" cy="498240"/>
            </a:xfrm>
            <a:prstGeom prst="roundRect">
              <a:avLst>
                <a:gd name="adj" fmla="val 1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56680" y="2557800"/>
              <a:ext cx="1894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、分段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70680" y="2607840"/>
              <a:ext cx="486000" cy="398520"/>
            </a:xfrm>
            <a:prstGeom prst="roundRect">
              <a:avLst>
                <a:gd name="adj" fmla="val 1000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21000" y="3106080"/>
              <a:ext cx="2430360" cy="498240"/>
            </a:xfrm>
            <a:prstGeom prst="roundRect">
              <a:avLst>
                <a:gd name="adj" fmla="val 1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56680" y="3106080"/>
              <a:ext cx="1894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、分段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70680" y="3156120"/>
              <a:ext cx="486000" cy="398520"/>
            </a:xfrm>
            <a:prstGeom prst="roundRect">
              <a:avLst>
                <a:gd name="adj" fmla="val 1000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21000" y="3654720"/>
              <a:ext cx="2430360" cy="498240"/>
            </a:xfrm>
            <a:prstGeom prst="roundRect">
              <a:avLst>
                <a:gd name="adj" fmla="val 1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56680" y="3654720"/>
              <a:ext cx="1894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、分段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70680" y="3704400"/>
              <a:ext cx="486000" cy="398520"/>
            </a:xfrm>
            <a:prstGeom prst="roundRect">
              <a:avLst>
                <a:gd name="adj" fmla="val 1000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6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1" descr=""/>
          <p:cNvPicPr/>
          <p:nvPr/>
        </p:nvPicPr>
        <p:blipFill>
          <a:blip r:embed="rId2"/>
          <a:stretch/>
        </p:blipFill>
        <p:spPr>
          <a:xfrm>
            <a:off x="108000" y="841320"/>
            <a:ext cx="1947960" cy="184932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2" descr=""/>
          <p:cNvPicPr/>
          <p:nvPr/>
        </p:nvPicPr>
        <p:blipFill>
          <a:blip r:embed="rId3"/>
          <a:stretch/>
        </p:blipFill>
        <p:spPr>
          <a:xfrm>
            <a:off x="3708360" y="2641680"/>
            <a:ext cx="1720800" cy="7048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3" descr=""/>
          <p:cNvPicPr/>
          <p:nvPr/>
        </p:nvPicPr>
        <p:blipFill>
          <a:blip r:embed="rId4"/>
          <a:stretch/>
        </p:blipFill>
        <p:spPr>
          <a:xfrm>
            <a:off x="4203720" y="1025640"/>
            <a:ext cx="728640" cy="147960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4" descr=""/>
          <p:cNvPicPr/>
          <p:nvPr/>
        </p:nvPicPr>
        <p:blipFill>
          <a:blip r:embed="rId5"/>
          <a:stretch/>
        </p:blipFill>
        <p:spPr>
          <a:xfrm>
            <a:off x="2055960" y="946080"/>
            <a:ext cx="2092320" cy="16398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5" descr=""/>
          <p:cNvPicPr/>
          <p:nvPr/>
        </p:nvPicPr>
        <p:blipFill>
          <a:blip r:embed="rId6"/>
          <a:stretch/>
        </p:blipFill>
        <p:spPr>
          <a:xfrm>
            <a:off x="5076720" y="909720"/>
            <a:ext cx="1812960" cy="152244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6" descr=""/>
          <p:cNvPicPr/>
          <p:nvPr/>
        </p:nvPicPr>
        <p:blipFill>
          <a:blip r:embed="rId7"/>
          <a:stretch/>
        </p:blipFill>
        <p:spPr>
          <a:xfrm>
            <a:off x="6889680" y="1031760"/>
            <a:ext cx="2000160" cy="134640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7" descr=""/>
          <p:cNvPicPr/>
          <p:nvPr/>
        </p:nvPicPr>
        <p:blipFill>
          <a:blip r:embed="rId8"/>
          <a:stretch/>
        </p:blipFill>
        <p:spPr>
          <a:xfrm>
            <a:off x="5364000" y="2584440"/>
            <a:ext cx="2303640" cy="11811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8" descr=""/>
          <p:cNvPicPr/>
          <p:nvPr/>
        </p:nvPicPr>
        <p:blipFill>
          <a:blip r:embed="rId9"/>
          <a:stretch/>
        </p:blipFill>
        <p:spPr>
          <a:xfrm>
            <a:off x="4119480" y="3433680"/>
            <a:ext cx="898560" cy="21067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9" descr=""/>
          <p:cNvPicPr/>
          <p:nvPr/>
        </p:nvPicPr>
        <p:blipFill>
          <a:blip r:embed="rId10"/>
          <a:stretch/>
        </p:blipFill>
        <p:spPr>
          <a:xfrm>
            <a:off x="7515360" y="2209680"/>
            <a:ext cx="1373040" cy="141768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0" descr=""/>
          <p:cNvPicPr/>
          <p:nvPr/>
        </p:nvPicPr>
        <p:blipFill>
          <a:blip r:embed="rId11"/>
          <a:stretch/>
        </p:blipFill>
        <p:spPr>
          <a:xfrm flipH="1">
            <a:off x="5292360" y="3765600"/>
            <a:ext cx="1978200" cy="11556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1" descr=""/>
          <p:cNvPicPr/>
          <p:nvPr/>
        </p:nvPicPr>
        <p:blipFill>
          <a:blip r:embed="rId12"/>
          <a:stretch/>
        </p:blipFill>
        <p:spPr>
          <a:xfrm>
            <a:off x="7237440" y="3629160"/>
            <a:ext cx="1604880" cy="13888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2" descr=""/>
          <p:cNvPicPr/>
          <p:nvPr/>
        </p:nvPicPr>
        <p:blipFill>
          <a:blip r:embed="rId13"/>
          <a:stretch/>
        </p:blipFill>
        <p:spPr>
          <a:xfrm flipH="1">
            <a:off x="0" y="2641680"/>
            <a:ext cx="1541520" cy="12333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3" descr=""/>
          <p:cNvPicPr/>
          <p:nvPr/>
        </p:nvPicPr>
        <p:blipFill>
          <a:blip r:embed="rId14"/>
          <a:stretch/>
        </p:blipFill>
        <p:spPr>
          <a:xfrm>
            <a:off x="1736640" y="2462040"/>
            <a:ext cx="1979640" cy="159408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4" descr=""/>
          <p:cNvPicPr/>
          <p:nvPr/>
        </p:nvPicPr>
        <p:blipFill>
          <a:blip r:embed="rId15"/>
          <a:stretch/>
        </p:blipFill>
        <p:spPr>
          <a:xfrm>
            <a:off x="5200560" y="4867200"/>
            <a:ext cx="2038320" cy="7542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5" descr=""/>
          <p:cNvPicPr/>
          <p:nvPr/>
        </p:nvPicPr>
        <p:blipFill>
          <a:blip r:embed="rId16"/>
          <a:stretch/>
        </p:blipFill>
        <p:spPr>
          <a:xfrm flipH="1">
            <a:off x="1954080" y="3992400"/>
            <a:ext cx="2486160" cy="108108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16" descr=""/>
          <p:cNvPicPr/>
          <p:nvPr/>
        </p:nvPicPr>
        <p:blipFill>
          <a:blip r:embed="rId17"/>
          <a:stretch/>
        </p:blipFill>
        <p:spPr>
          <a:xfrm>
            <a:off x="0" y="4343400"/>
            <a:ext cx="2798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2FB0-B489-46BE-8336-E67FB19FA6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2"/>
          <p:cNvSpPr/>
          <p:nvPr/>
        </p:nvSpPr>
        <p:spPr>
          <a:xfrm>
            <a:off x="5796000" y="291456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2T14:33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6:16Z</dcterms:modified>
  <cp:revision>15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