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6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3.png" ContentType="image/png"/>
  <Override PartName="/ppt/media/image17.jpeg" ContentType="image/jpeg"/>
  <Override PartName="/ppt/media/image22.jpeg" ContentType="image/jpeg"/>
  <Override PartName="/ppt/media/image39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6477120" y="5562720"/>
            <a:ext cx="2447640" cy="1074600"/>
          </a:xfrm>
          <a:prstGeom prst="rect">
            <a:avLst/>
          </a:prstGeom>
          <a:ln w="0">
            <a:noFill/>
          </a:ln>
        </p:spPr>
      </p:pic>
      <p:pic>
        <p:nvPicPr>
          <p:cNvPr id="2" name="白色新华标" descr=""/>
          <p:cNvPicPr/>
          <p:nvPr/>
        </p:nvPicPr>
        <p:blipFill>
          <a:blip r:embed="rId4"/>
          <a:stretch/>
        </p:blipFill>
        <p:spPr>
          <a:xfrm>
            <a:off x="133200" y="133200"/>
            <a:ext cx="2362320" cy="3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3360" cy="6858000"/>
            <a:chOff x="0" y="0"/>
            <a:chExt cx="9153360" cy="685800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9153360" cy="6858000"/>
              <a:chOff x="0" y="0"/>
              <a:chExt cx="9153360" cy="6858000"/>
            </a:xfrm>
          </p:grpSpPr>
          <p:pic>
            <p:nvPicPr>
              <p:cNvPr id="4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9153360" cy="685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85800" y="1295280"/>
                <a:ext cx="5372280" cy="1781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5" name="白色新华标" descr=""/>
            <p:cNvPicPr/>
            <p:nvPr/>
          </p:nvPicPr>
          <p:blipFill>
            <a:blip r:embed="rId4"/>
            <a:stretch/>
          </p:blipFill>
          <p:spPr>
            <a:xfrm>
              <a:off x="1981080" y="3505320"/>
              <a:ext cx="2362320" cy="36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71720" y="434340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母亲节幻灯片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90720" y="176364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当你</a:t>
            </a:r>
            <a:r>
              <a:rPr b="0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20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岁的时候，她问你“你整天去哪”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而你回答：我不想像你一样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当你</a:t>
            </a:r>
            <a:r>
              <a:rPr b="0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23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岁的时候，她给你买家具布置你的新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而你对朋友说她买的家具真糟糕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当你</a:t>
            </a:r>
            <a:r>
              <a:rPr b="0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30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岁的时候，她对怎样照顾小孩提出劝告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而你对她说：妈，时代不同了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66680" y="929520"/>
            <a:ext cx="693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当你</a:t>
            </a:r>
            <a:r>
              <a:rPr b="0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40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岁的时候，她给你打电话，说今天生日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而你回答：妈，我很忙没时间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当你</a:t>
            </a:r>
            <a:r>
              <a:rPr b="0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50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岁的时候，她常常患病，需要你的看护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而你却为你的儿女在奔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143000" y="3200400"/>
            <a:ext cx="4572000" cy="3048120"/>
            <a:chOff x="1143000" y="3200400"/>
            <a:chExt cx="4572000" cy="304812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1143000" y="3200400"/>
              <a:ext cx="2286000" cy="30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3429000" y="3200400"/>
              <a:ext cx="2286000" cy="3048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09680" y="98892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终于有一天，她去世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突然你想起了所有从来没做过的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它们像榔头般痛击着你的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14400" y="2411280"/>
            <a:ext cx="3962520" cy="3067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05520" y="2411280"/>
            <a:ext cx="3219480" cy="3071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19320" y="729360"/>
            <a:ext cx="6705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如果母亲仍健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那么别忘了比以往任何时候都更深地爱着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如果她已经不幸永远离开了你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那么你必须记得，母爱才是天底下最无私的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3021120"/>
            <a:ext cx="3581280" cy="2388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800600" y="3016080"/>
            <a:ext cx="3352680" cy="2387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2120" y="5715000"/>
            <a:ext cx="5038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0" y="2868480"/>
            <a:ext cx="3809880" cy="2533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母亲"/>
          <p:cNvPicPr/>
          <p:nvPr/>
        </p:nvPicPr>
        <p:blipFill>
          <a:blip r:embed="rId2"/>
          <a:stretch/>
        </p:blipFill>
        <p:spPr>
          <a:xfrm>
            <a:off x="609480" y="2868480"/>
            <a:ext cx="3810240" cy="2541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219320" y="109512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其实为我们付出一生的母亲要求并不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想想她曾为我们做过的事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我们为她做过几件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38080" y="863280"/>
            <a:ext cx="8077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母亲最大的愿望是我们平平安安、健健康康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母亲最大的奢望是我们能有更多的时间看看她、陪陪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如果你不能说出：“妈妈，我爱你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就说一句：“妈，你辛苦啦！节日快乐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如果你含蓄的无法吐露自己的感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就带上家人去陪陪老人家，吃顿饭、唠唠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如果你忙得抽不出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就认认真真干好你的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让妈妈放心也算是一种孝顺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257800" cy="3724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38080" y="83664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不管妈妈在哪，她年龄多大，只要能听到我们的消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就会笑的何不拢嘴，你还等什么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800600" y="914400"/>
            <a:ext cx="3375000" cy="4419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066680" y="801000"/>
            <a:ext cx="411480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你入学的新书包有人给你拿</a:t>
            </a:r>
            <a:br>
              <a:rPr sz="1600"/>
            </a:b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你雨中的花折伞有人给你打</a:t>
            </a:r>
            <a:br>
              <a:rPr sz="1600"/>
            </a:b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你爱吃的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(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那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)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三鲜馅有人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(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他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)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给你包</a:t>
            </a:r>
            <a:br>
              <a:rPr sz="1600"/>
            </a:b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你委屈的泪花有人给你擦</a:t>
            </a:r>
            <a:br>
              <a:rPr sz="1600"/>
            </a:b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啊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,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这个人就是娘</a:t>
            </a:r>
            <a:br>
              <a:rPr sz="1600"/>
            </a:b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啊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,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这个人就是妈</a:t>
            </a:r>
            <a:br>
              <a:rPr sz="1600"/>
            </a:b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这个人给了我生命，给我一个家</a:t>
            </a:r>
            <a:br>
              <a:rPr sz="1600"/>
            </a:b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啊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,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不管你走多远，无论你在干啥</a:t>
            </a:r>
            <a:br>
              <a:rPr sz="1600"/>
            </a:b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到什么时候也离不开 咱的妈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你身在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(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那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)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他乡住有人在牵挂</a:t>
            </a:r>
            <a:br>
              <a:rPr sz="1600"/>
            </a:b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你回到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(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那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)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家里边有人沏热茶</a:t>
            </a:r>
            <a:br>
              <a:rPr sz="1600"/>
            </a:b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你躺在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(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那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)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病床上有人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(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他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)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掉眼泪</a:t>
            </a:r>
            <a:br>
              <a:rPr sz="1600"/>
            </a:b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你露出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(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那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)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笑容时有人乐开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啊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,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不管你多富有，无论你官多大</a:t>
            </a:r>
            <a:br>
              <a:rPr sz="1600"/>
            </a:b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到什么时候也不能忘 咱的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——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阎维文  歌曲《母亲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505320" cy="2628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172200" y="1752480"/>
            <a:ext cx="2624040" cy="3733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57200" y="365760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809880" y="3124080"/>
            <a:ext cx="2205000" cy="2895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3429000" y="533520"/>
            <a:ext cx="3454560" cy="2423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676520" y="685800"/>
            <a:ext cx="579096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</a:rPr>
              <a:t>让我们一起说：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</a:rPr>
              <a:t>妈妈，您辛苦啦！</a:t>
            </a:r>
            <a:endParaRPr b="1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</a:rPr>
              <a:t>祝您节日快乐！</a:t>
            </a:r>
            <a:endParaRPr b="1" lang="en-US" sz="1800" spc="-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</a:rPr>
              <a:t>我们会好好工作的！</a:t>
            </a:r>
            <a:endParaRPr b="1" lang="en-US" sz="1800" spc="-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</a:rPr>
              <a:t>您放心！</a:t>
            </a:r>
            <a:endParaRPr b="1" lang="en-US" sz="1800" spc="-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143000" y="762120"/>
            <a:ext cx="69343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新魏"/>
              </a:rPr>
              <a:t>母亲是谁？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3258360"/>
            <a:ext cx="723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母亲像秋夜中的明月，在我孤独、无助时，她会陪伴我、支持我，给我充满信心。她一天到晚为了我而忙碌，不辞辛劳，无怨无悔，所以，在这一年一度的母亲节，我要说，妈妈感谢您！我爱您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——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冰心  《母亲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14400" y="1161720"/>
            <a:ext cx="7391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细黑"/>
                <a:ea typeface="华文细黑"/>
              </a:rPr>
              <a:t>老吾老以及人之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细黑"/>
                <a:ea typeface="华文细黑"/>
              </a:rPr>
              <a:t>不仅仅是我们自己的母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细黑"/>
                <a:ea typeface="华文细黑"/>
              </a:rPr>
              <a:t>每一个母亲都是我们应当想到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细黑"/>
                <a:ea typeface="华文细黑"/>
              </a:rPr>
              <a:t>她们把一切奉献给了孩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细黑"/>
                <a:ea typeface="华文细黑"/>
              </a:rPr>
              <a:t>自己却承担了各种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细黑"/>
                <a:ea typeface="华文细黑"/>
              </a:rPr>
              <a:t>病痛、老去、意外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细黑"/>
                <a:ea typeface="华文细黑"/>
              </a:rPr>
              <a:t>为人子女，我们在今天这样一个特殊的日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细黑"/>
                <a:ea typeface="华文细黑"/>
              </a:rPr>
              <a:t>能为母亲们做些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609480"/>
            <a:ext cx="5038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76240" y="1476720"/>
            <a:ext cx="7391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如果你不能保证今后每个月给妈妈一笔养老金，就为她存一份吉星高照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如果你不想做一个拖累母亲的“啃老族”就为自己存一份吉星高照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38080" y="10195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各营业区可自行添加主推产品或典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276640" y="2403360"/>
            <a:ext cx="4590720" cy="20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5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再看吉星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152360" y="3429000"/>
            <a:ext cx="6837480" cy="16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</a:rPr>
              <a:t>你要让谁拥有吉星？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468440" y="1371600"/>
            <a:ext cx="6205680" cy="16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</a:rPr>
              <a:t>你要去拜访谁？</a:t>
            </a:r>
            <a:endParaRPr b="1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533520" y="1447920"/>
            <a:ext cx="80010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</a:rPr>
              <a:t>爱母亲就让她拥有吉星高照吧！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</a:rPr>
              <a:t>让母亲放心就让全家吉星高照吧！</a:t>
            </a:r>
            <a:endParaRPr b="1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</a:rPr>
              <a:t>吉星高高照！护佑母亲！护佑全家！</a:t>
            </a:r>
            <a:endParaRPr b="1" lang="en-US" sz="1800" spc="-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5800" y="3124080"/>
            <a:ext cx="3581280" cy="2390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495680" y="3124080"/>
            <a:ext cx="3581640" cy="2381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108216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当你还未出生的时候，她承担你的重量，为你欣喜、呵护；而你作为报答</a:t>
            </a:r>
            <a:r>
              <a:rPr b="0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给了她前所未有的疼痛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当你</a:t>
            </a:r>
            <a:r>
              <a:rPr b="0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岁的时候，她喂你吃奶并给你洗澡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而作为报答，你整晚的哭着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3514680" cy="2787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181480" y="2819520"/>
            <a:ext cx="2544840" cy="2819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14400" y="759600"/>
            <a:ext cx="71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当你</a:t>
            </a:r>
            <a:r>
              <a:rPr b="0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岁的时候，她怜爱的为你做菜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而作为报答，你把一盘她做的菜扔在地上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当你</a:t>
            </a:r>
            <a:r>
              <a:rPr b="0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岁的时候，她给你买下彩笔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而作为报答，你涂了满墙的抽象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6019920"/>
            <a:ext cx="5038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14400" y="835560"/>
            <a:ext cx="71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当你</a:t>
            </a:r>
            <a:r>
              <a:rPr b="0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岁的时候，她给你买了漂亮的衣服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而作为报答，你穿着它到泥坑里玩耍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当你</a:t>
            </a:r>
            <a:r>
              <a:rPr b="0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7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岁的时候，她给你买了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而作为报答，你用球打破了邻居的玻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066680" y="3048120"/>
            <a:ext cx="3219480" cy="2571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0" y="3048120"/>
            <a:ext cx="3809880" cy="2539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38080" y="899280"/>
            <a:ext cx="723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当你</a:t>
            </a:r>
            <a:r>
              <a:rPr b="0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9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岁的时候，她付了很多钱给你辅导钢琴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而作为报答，你常常旷课并不去练习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当你</a:t>
            </a:r>
            <a:r>
              <a:rPr b="0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11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岁的时候，她陪你还有你的朋友们去看电影；而作为报答，你让她坐另一排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3343320" cy="2521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343400" y="3124080"/>
            <a:ext cx="3733920" cy="24735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90720" y="77688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当你</a:t>
            </a:r>
            <a:r>
              <a:rPr b="0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岁的时候，她建议你去把头发剪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而你说她不懂什么是现在的时髦发型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当你</a:t>
            </a:r>
            <a:r>
              <a:rPr b="0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14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岁的时候，她付了你一个月的夏令营费用，而你却一整月没有打一个电话给她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8320" y="3048120"/>
            <a:ext cx="3352680" cy="2523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90720" y="3048120"/>
            <a:ext cx="3352680" cy="2512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90720" y="83556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当你</a:t>
            </a:r>
            <a:r>
              <a:rPr b="0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15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岁的时候，她下班回家想拥抱你一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而作为报答，你转身进屋把门插上了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当你</a:t>
            </a:r>
            <a:r>
              <a:rPr b="0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17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岁的时候，她在等一个重要的电话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而你却抱着电话和你的朋友聊了一晚上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43000" y="3124080"/>
            <a:ext cx="5181480" cy="2806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62120" y="988200"/>
            <a:ext cx="761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当你</a:t>
            </a:r>
            <a:r>
              <a:rPr b="0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18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岁的时候，她为你高中毕业感动得流下眼泪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而你却跟朋友在外聚会到天亮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当你</a:t>
            </a:r>
            <a:r>
              <a:rPr b="0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19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岁的时候，她付了你的大学学费又送你到学校，你却要求她在远点下车怕同学看见笑话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90720" y="3200400"/>
            <a:ext cx="4343400" cy="2892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06:45:22Z</dcterms:created>
  <dc:creator/>
  <dc:description>www.eeppt.com;</dc:description>
  <cp:keywords>www.eeppt.com</cp:keywords>
  <dc:language>en-US</dc:language>
  <cp:lastModifiedBy>微软用户</cp:lastModifiedBy>
  <dcterms:modified xsi:type="dcterms:W3CDTF">2015-09-18T13:21:20Z</dcterms:modified>
  <cp:revision>25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