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B394-3FEF-41E4-8490-63FB5F707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A13D-B87F-475D-B3B8-A18C2F6C8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11FE-B221-4213-9489-584783C30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5967-C384-4979-9FB1-970D87704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882720"/>
            <a:ext cx="51973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CB09-314D-405B-AA00-D6223F1EB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2E98-A632-470A-A6ED-F1D35DCFF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E479-A0AF-4CD8-B143-48DD05D1D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5654-4B3E-4AAC-9D9D-2BB38197D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882720"/>
            <a:ext cx="51973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BB23-CD49-47CB-A07F-088E45F96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5D32-49FE-4038-B1AE-241AE7624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4A05-B416-45B6-998C-C01953B8C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E2E7-30A1-472C-9535-168556811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4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8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8E561B3-AA85-463F-B7D6-30E12458AA81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882720"/>
            <a:ext cx="51973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3" descr="bg3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8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68000" y="882720"/>
            <a:ext cx="51973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41416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母亲节幻灯片在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80600" y="3493800"/>
            <a:ext cx="8194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单击添加署名或公司信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F2CEA5B-73AC-4D10-BD44-620440713DD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882720"/>
            <a:ext cx="51973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括标题和文本格式（包括字体，字体大小，对齐方式等）的设置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BF7B-27F2-4930-A5F1-4DC4548A66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B8149D1-EDDB-4C37-97E8-E8D4DDCC9BA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bg1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468360" y="2233440"/>
            <a:ext cx="82072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21:19Z</dcterms:modified>
  <cp:revision>16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