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0AA3-674B-4C60-A345-1410806A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2ACC-110A-43D0-A141-0028457C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2327-7C1F-4E3E-8760-5A64F3EB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D44C-E4EF-4009-87C1-1C874885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DB25-1EA9-4023-A37F-07735586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DA4C-39B5-4620-81B9-3C5FE9F5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A3D5-70EB-45C5-B147-F063325A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DF35-F7FB-4E65-A46F-99BF64CE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7E8A-DDF3-4A87-8311-1AF1A385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FB1C-C47F-4E8F-A0CB-61AE0772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FB4F-F835-49F5-807E-8DC5C61E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E7E9-41DC-4995-8FFB-6D4A2E12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4356-7F21-411F-B455-DB7E279FE8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jieri/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内容占位符 4" descr=""/>
          <p:cNvPicPr/>
          <p:nvPr/>
        </p:nvPicPr>
        <p:blipFill>
          <a:blip r:embed="rId2"/>
          <a:stretch/>
        </p:blipFill>
        <p:spPr>
          <a:xfrm>
            <a:off x="-44280" y="0"/>
            <a:ext cx="9188280" cy="6891480"/>
          </a:xfrm>
          <a:prstGeom prst="rect">
            <a:avLst/>
          </a:prstGeom>
          <a:ln w="0">
            <a:noFill/>
          </a:ln>
        </p:spPr>
      </p:pic>
      <p:sp>
        <p:nvSpPr>
          <p:cNvPr id="43" name="矩形 1"/>
          <p:cNvSpPr/>
          <p:nvPr/>
        </p:nvSpPr>
        <p:spPr>
          <a:xfrm>
            <a:off x="6516720" y="4076640"/>
            <a:ext cx="2087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ff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ff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1080" y="83664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母亲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8" descr="1.png"/>
          <p:cNvPicPr/>
          <p:nvPr/>
        </p:nvPicPr>
        <p:blipFill>
          <a:blip r:embed="rId2"/>
          <a:srcRect l="18705" t="7777" r="19908" b="12344"/>
          <a:stretch/>
        </p:blipFill>
        <p:spPr>
          <a:xfrm>
            <a:off x="1692360" y="614520"/>
            <a:ext cx="5613480" cy="54784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9" descr="2.png"/>
          <p:cNvPicPr/>
          <p:nvPr/>
        </p:nvPicPr>
        <p:blipFill>
          <a:blip r:embed="rId3"/>
          <a:srcRect l="26668" t="17035" r="27129" b="21110"/>
          <a:stretch/>
        </p:blipFill>
        <p:spPr>
          <a:xfrm>
            <a:off x="2411280" y="1197000"/>
            <a:ext cx="4224600" cy="4241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text"/>
          <p:cNvPicPr/>
          <p:nvPr/>
        </p:nvPicPr>
        <p:blipFill>
          <a:blip r:embed="rId4"/>
          <a:stretch/>
        </p:blipFill>
        <p:spPr>
          <a:xfrm>
            <a:off x="3397320" y="2284560"/>
            <a:ext cx="23256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1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760">
                                      <p:cBhvr>
                                        <p:cTn id="12" dur="20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3"/>
          <p:cNvSpPr/>
          <p:nvPr/>
        </p:nvSpPr>
        <p:spPr>
          <a:xfrm>
            <a:off x="2998080" y="3259080"/>
            <a:ext cx="31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jieri/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内容占位符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9640" y="19177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3E0B-5E2E-44E0-909F-8F3DFA8D6B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内容占位符 3" descr="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6:48:23Z</dcterms:created>
  <dc:creator>pc</dc:creator>
  <dc:description>www.eeppt.com;</dc:description>
  <cp:keywords>www.eeppt.com</cp:keywords>
  <dc:language>en-US</dc:language>
  <cp:lastModifiedBy>lenovo</cp:lastModifiedBy>
  <dcterms:modified xsi:type="dcterms:W3CDTF">2015-09-18T13:21:18Z</dcterms:modified>
  <cp:revision>6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