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E27F-6101-455E-8CA3-1AC871CBD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1480-A35C-484A-88AD-E063043F3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610B-4DE1-4313-A02A-51D499791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ACD8-E96B-41F0-9FAB-5A04CD066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37A8-E8F2-431D-BCBD-C76760B50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280B-8552-441E-8ACF-8DF61A6A2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02C4-C2A1-4C3F-B93F-111CE53B2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E7F5-AE76-4278-B37F-B8D1825BE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6DC1-67D9-4BE6-A128-C35CC1E5C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98A8-83C9-48E7-8B58-4AD7D576D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CE0F-5343-473D-8BB0-903A921A7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12ED-55D8-4A36-8A57-C050F2E6D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48C33E6-FE42-4993-A729-3A00D6344AE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3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41416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母亲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系列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80600" y="349380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7720" y="5543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9CBE50B-93C6-4BE5-B6DC-ADA273D2050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括标题和文本格式（包括字体，字体大小，对齐方式等）的设置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640" y="5168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5800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D661-4C4C-40A0-9549-03A1BC7694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6C9C946-B2E6-474D-A283-325781BA414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bg1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68360" y="2233440"/>
            <a:ext cx="82072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pc</dc:creator>
  <dc:description>www.eeppt.com;</dc:description>
  <cp:keywords>www.eeppt.com</cp:keywords>
  <dc:language>en-US</dc:language>
  <cp:lastModifiedBy>SUNNY-PC</cp:lastModifiedBy>
  <dcterms:modified xsi:type="dcterms:W3CDTF">2015-09-18T13:21:18Z</dcterms:modified>
  <cp:revision>16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