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0B7-BA9F-4376-9762-11422782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4BF-6052-4E98-A510-7507B0CC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EDA-83CF-4285-88CC-158639E2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69A-3F1D-4A17-88ED-BD5FBB68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EFF-B88B-42DD-AEC5-4C293638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09E-462A-4FD2-BAE5-645B0AE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95-75CE-4EC1-A1B7-B5778C4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0FF-6F14-4CC3-BC08-5594041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192-ABBB-4EF4-A395-1DF10CD0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67D-B8A7-4331-810B-8184773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D53-CAD2-4053-A9A8-C579E2E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B8A-66A9-41FB-AC9E-E52805F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2A3-B5B2-41CB-9EC8-9170F3CC8E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91AF-A6DC-47C9-82AC-5970ED20AA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250920" y="13399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rcRect l="0" t="3203" r="0" b="3545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851280" y="18651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六届中国杯帆船赛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2758680" y="256212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gency FB"/>
              </a:rPr>
              <a:t>6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gency FB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gency FB"/>
              </a:rPr>
              <a:t>   china   cup   international   rega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6"/>
          <p:cNvSpPr/>
          <p:nvPr/>
        </p:nvSpPr>
        <p:spPr>
          <a:xfrm>
            <a:off x="3924360" y="2701800"/>
            <a:ext cx="50403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680400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738036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7956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8532720" y="1411200"/>
            <a:ext cx="360360" cy="36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58600" y="484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梦想自由帆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rcRect l="0" t="4218" r="0" b="4983"/>
          <a:stretch/>
        </p:blipFill>
        <p:spPr>
          <a:xfrm>
            <a:off x="0" y="-66600"/>
            <a:ext cx="9180360" cy="521028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-4680" y="2643120"/>
            <a:ext cx="9186840" cy="10875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720720" y="283860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专业字体设计服务/WWW.ZTSGC.COM/"/>
                <a:ea typeface="专业字体设计服务/WWW.ZTSGC.COM/"/>
              </a:rPr>
              <a:t>追心中的海 </a:t>
            </a:r>
            <a:r>
              <a:rPr b="1" lang="en-US" sz="4800" spc="-1" strike="noStrike">
                <a:solidFill>
                  <a:srgbClr val="0070c0"/>
                </a:solidFill>
                <a:latin typeface="专业字体设计服务/WWW.ZTSGC.COM/"/>
                <a:ea typeface="专业字体设计服务/WWW.ZTSGC.COM/"/>
              </a:rPr>
              <a:t>   </a:t>
            </a:r>
            <a:r>
              <a:rPr b="1" lang="zh-CN" sz="4800" spc="-1" strike="noStrike">
                <a:solidFill>
                  <a:srgbClr val="0070c0"/>
                </a:solidFill>
                <a:latin typeface="专业字体设计服务/WWW.ZTSGC.COM/"/>
                <a:ea typeface="专业字体设计服务/WWW.ZTSGC.COM/"/>
              </a:rPr>
              <a:t>逐世界的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11B-63F0-4BBA-9DBB-C7AD388E5BC6}" type="slidenum">
              <a:t>2</a:t>
            </a:fld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096-09DC-46CE-A294-5CCA5A952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rcRect l="0" t="9640" r="0" b="0"/>
          <a:stretch/>
        </p:blipFill>
        <p:spPr>
          <a:xfrm>
            <a:off x="-2025720" y="-163440"/>
            <a:ext cx="11566440" cy="6532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4295880" y="555480"/>
            <a:ext cx="52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时间：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2012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26-29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日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地点：深圳大亚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4"/>
          <p:cNvSpPr/>
          <p:nvPr/>
        </p:nvSpPr>
        <p:spPr>
          <a:xfrm>
            <a:off x="3995640" y="555480"/>
            <a:ext cx="180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916360" y="555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&gt;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4282920" y="1441440"/>
            <a:ext cx="47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中国杯官网：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www.chncup.com</a:t>
            </a:r>
            <a:br>
              <a:rPr sz="1800"/>
            </a:br>
            <a:r>
              <a:rPr b="1" lang="zh-CN" sz="1800" spc="-1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中国杯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官微（新浪微博）： 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@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中国杯帆船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第一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网：</a:t>
            </a:r>
            <a:r>
              <a:rPr b="1" lang="en-US" sz="1800" spc="-1" strike="noStrike">
                <a:solidFill>
                  <a:srgbClr val="ffffff"/>
                </a:solidFill>
                <a:latin typeface="专业字体设计服务/WWW.ZTSGC.COM/"/>
                <a:ea typeface="专业字体设计服务/WWW.ZTSGC.COM/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4:16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5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