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FA3-D93D-42A2-AB3A-85B43B9A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17D-73C3-4CE4-8DD7-796E71CF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521-4A22-48C1-8D47-F9082758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D94-201F-43B1-86AA-1C988AF1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C760-8C00-4C3C-912F-9E0D8DC9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C98F-8360-4DE4-8D50-58A8CBD1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CF83-54FB-4477-9B8E-E957AC05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5C74-7F24-428B-97A0-AEC35B6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A41-F20D-4E8E-90CA-88D8DF4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9137-62E7-499B-94C8-2C1DC066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88B8-6798-437E-AD56-EF49F7B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223-1F4E-4919-A093-F1FFA523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ABAA-CACD-450F-AE14-2AD74818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B63-6D33-4F18-9FFC-D6FC4F5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B536-E600-4108-9932-804A1165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DF4-4EA1-4DC7-9849-52571E17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46A3-7A2A-4D33-8AC2-319D56B0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695-05C9-4E28-B3D7-2EE7A588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65E-8E3F-4C78-8B88-E8AF7F0E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280-6D57-4B10-9DE5-27C4D60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986-F46E-47FF-84FB-E979D14B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897-7624-4F05-BB68-B08CD46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49E-6077-4376-802F-637ECA9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3E7-44CE-43E8-9A91-4B8BA36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883-CD61-41F7-9D4B-B7E91D2B6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9720" y="279360"/>
            <a:ext cx="9144360" cy="963360"/>
            <a:chOff x="-9720" y="279360"/>
            <a:chExt cx="9144360" cy="963360"/>
          </a:xfrm>
        </p:grpSpPr>
        <p:sp>
          <p:nvSpPr>
            <p:cNvPr id="5" name=""/>
            <p:cNvSpPr/>
            <p:nvPr/>
          </p:nvSpPr>
          <p:spPr>
            <a:xfrm>
              <a:off x="-9360" y="279360"/>
              <a:ext cx="9144000" cy="7207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388c8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 flipH="1">
              <a:off x="-9720" y="1004040"/>
              <a:ext cx="7553160" cy="2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76320" y="324000"/>
            <a:ext cx="1079280" cy="604800"/>
            <a:chOff x="76320" y="324000"/>
            <a:chExt cx="1079280" cy="604800"/>
          </a:xfrm>
        </p:grpSpPr>
        <p:sp>
          <p:nvSpPr>
            <p:cNvPr id="8" name=""/>
            <p:cNvSpPr/>
            <p:nvPr/>
          </p:nvSpPr>
          <p:spPr>
            <a:xfrm>
              <a:off x="76320" y="499680"/>
              <a:ext cx="107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469440" y="29880"/>
              <a:ext cx="272520" cy="86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74C3-71DD-48A8-9116-3639C2DF6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2243160"/>
            <a:ext cx="9144000" cy="2729160"/>
            <a:chOff x="0" y="2243160"/>
            <a:chExt cx="9144000" cy="2729160"/>
          </a:xfrm>
        </p:grpSpPr>
        <p:grpSp>
          <p:nvGrpSpPr>
            <p:cNvPr id="54" name=""/>
            <p:cNvGrpSpPr/>
            <p:nvPr/>
          </p:nvGrpSpPr>
          <p:grpSpPr>
            <a:xfrm>
              <a:off x="395280" y="2243160"/>
              <a:ext cx="8302320" cy="2729160"/>
              <a:chOff x="395280" y="2243160"/>
              <a:chExt cx="8302320" cy="2729160"/>
            </a:xfrm>
          </p:grpSpPr>
          <p:sp>
            <p:nvSpPr>
              <p:cNvPr id="55" name=""/>
              <p:cNvSpPr/>
              <p:nvPr/>
            </p:nvSpPr>
            <p:spPr>
              <a:xfrm flipV="1">
                <a:off x="395280" y="2242800"/>
                <a:ext cx="8302320" cy="726480"/>
              </a:xfrm>
              <a:prstGeom prst="ellipse">
                <a:avLst/>
              </a:prstGeom>
              <a:gradFill rotWithShape="0">
                <a:gsLst>
                  <a:gs pos="0">
                    <a:srgbClr val="041d54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95280" y="4245480"/>
                <a:ext cx="8302320" cy="726480"/>
              </a:xfrm>
              <a:prstGeom prst="ellipse">
                <a:avLst/>
              </a:prstGeom>
              <a:gradFill rotWithShape="0">
                <a:gsLst>
                  <a:gs pos="0">
                    <a:srgbClr val="041d54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553840"/>
              <a:ext cx="9144000" cy="211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8c8">
                    <a:alpha val="0"/>
                  </a:srgbClr>
                </a:gs>
                <a:gs pos="50000">
                  <a:srgbClr val="ffffff"/>
                </a:gs>
                <a:gs pos="100000">
                  <a:srgbClr val="4388c8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95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度工作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7840" y="3927600"/>
            <a:ext cx="43257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XXXXX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745080" y="905040"/>
            <a:ext cx="2036160" cy="1168200"/>
            <a:chOff x="3745080" y="905040"/>
            <a:chExt cx="2036160" cy="1168200"/>
          </a:xfrm>
        </p:grpSpPr>
        <p:sp>
          <p:nvSpPr>
            <p:cNvPr id="98" name=""/>
            <p:cNvSpPr/>
            <p:nvPr/>
          </p:nvSpPr>
          <p:spPr>
            <a:xfrm>
              <a:off x="3745080" y="1308960"/>
              <a:ext cx="203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LOG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4431240" y="406800"/>
              <a:ext cx="626400" cy="162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117440" y="996840"/>
            <a:ext cx="7804080" cy="4362480"/>
            <a:chOff x="1117440" y="996840"/>
            <a:chExt cx="7804080" cy="4362480"/>
          </a:xfrm>
        </p:grpSpPr>
        <p:sp>
          <p:nvSpPr>
            <p:cNvPr id="368" name=""/>
            <p:cNvSpPr/>
            <p:nvPr/>
          </p:nvSpPr>
          <p:spPr>
            <a:xfrm>
              <a:off x="1117440" y="2730240"/>
              <a:ext cx="7010280" cy="26290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1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95640" y="996840"/>
              <a:ext cx="4025880" cy="1359000"/>
            </a:xfrm>
            <a:prstGeom prst="wedgeRoundRectCallout">
              <a:avLst>
                <a:gd name="adj1" fmla="val -8555"/>
                <a:gd name="adj2" fmla="val 76754"/>
                <a:gd name="adj3" fmla="val 16667"/>
              </a:avLst>
            </a:prstGeom>
            <a:solidFill>
              <a:srgbClr val="c0c0c0">
                <a:alpha val="41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XXXXXXXXX</a:t>
              </a:r>
              <a:r>
                <a:rPr b="0" lang="zh-CN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率波动相对较大，但均在</a:t>
              </a:r>
              <a:r>
                <a:rPr b="0" lang="en-US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3%</a:t>
              </a:r>
              <a:r>
                <a:rPr b="0" lang="zh-CN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以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130400" y="2000160"/>
            <a:ext cx="7010280" cy="3435480"/>
            <a:chOff x="1130400" y="2000160"/>
            <a:chExt cx="7010280" cy="3435480"/>
          </a:xfrm>
        </p:grpSpPr>
        <p:sp>
          <p:nvSpPr>
            <p:cNvPr id="371" name=""/>
            <p:cNvSpPr/>
            <p:nvPr/>
          </p:nvSpPr>
          <p:spPr>
            <a:xfrm>
              <a:off x="2482920" y="2000160"/>
              <a:ext cx="4025880" cy="1359000"/>
            </a:xfrm>
            <a:prstGeom prst="wedgeRoundRectCallout">
              <a:avLst>
                <a:gd name="adj1" fmla="val 45069"/>
                <a:gd name="adj2" fmla="val 139370"/>
                <a:gd name="adj3" fmla="val 16667"/>
              </a:avLst>
            </a:prstGeom>
            <a:solidFill>
              <a:srgbClr val="c0c0c0">
                <a:alpha val="41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XXXXXXXXXXXXX</a:t>
              </a:r>
              <a:r>
                <a:rPr b="0" lang="zh-CN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率基本维持在</a:t>
              </a:r>
              <a:r>
                <a:rPr b="0" lang="en-US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1%</a:t>
              </a:r>
              <a:r>
                <a:rPr b="0" lang="zh-CN" sz="20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以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30400" y="4546440"/>
              <a:ext cx="7010280" cy="88920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1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87560" y="1074600"/>
            <a:ext cx="36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细黑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细黑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细黑"/>
              </a:rPr>
              <a:t>0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年月推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34880" y="2290680"/>
            <a:ext cx="7866000" cy="37213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85680" y="1539720"/>
            <a:ext cx="240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1800" y="601668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CDC-694B-48D2-BB3F-D2E89B1993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-12600" y="30639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745080" y="905040"/>
            <a:ext cx="2036160" cy="1168200"/>
            <a:chOff x="3745080" y="905040"/>
            <a:chExt cx="2036160" cy="1168200"/>
          </a:xfrm>
        </p:grpSpPr>
        <p:sp>
          <p:nvSpPr>
            <p:cNvPr id="383" name=""/>
            <p:cNvSpPr/>
            <p:nvPr/>
          </p:nvSpPr>
          <p:spPr>
            <a:xfrm>
              <a:off x="3745080" y="1308960"/>
              <a:ext cx="203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LOG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4431240" y="406800"/>
              <a:ext cx="626400" cy="162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9120" y="1994040"/>
            <a:ext cx="5138640" cy="668160"/>
          </a:xfrm>
          <a:prstGeom prst="roundRect">
            <a:avLst>
              <a:gd name="adj" fmla="val 16667"/>
            </a:avLst>
          </a:prstGeom>
          <a:solidFill>
            <a:srgbClr val="66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8080" y="1773360"/>
            <a:ext cx="4765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title1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49560" y="1852560"/>
            <a:ext cx="64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9560" y="2773440"/>
            <a:ext cx="64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51360" y="3724200"/>
            <a:ext cx="64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7920" y="339840"/>
            <a:ext cx="41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报告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7200" y="4640400"/>
            <a:ext cx="64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Unbenannt-2" descr=""/>
          <p:cNvPicPr/>
          <p:nvPr/>
        </p:nvPicPr>
        <p:blipFill>
          <a:blip r:embed="rId1"/>
          <a:stretch/>
        </p:blipFill>
        <p:spPr>
          <a:xfrm>
            <a:off x="6168960" y="2182680"/>
            <a:ext cx="671400" cy="1038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79880" y="2687760"/>
            <a:ext cx="4765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title2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4840" y="3624120"/>
            <a:ext cx="4765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title3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4492800"/>
            <a:ext cx="4765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title4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92160" y="4888800"/>
            <a:ext cx="2730240" cy="3920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1200" y="2927520"/>
            <a:ext cx="2087280" cy="2080800"/>
            <a:chOff x="511200" y="2927520"/>
            <a:chExt cx="2087280" cy="2080800"/>
          </a:xfrm>
        </p:grpSpPr>
        <p:sp>
          <p:nvSpPr>
            <p:cNvPr id="114" name=""/>
            <p:cNvSpPr/>
            <p:nvPr/>
          </p:nvSpPr>
          <p:spPr>
            <a:xfrm>
              <a:off x="511200" y="2927520"/>
              <a:ext cx="2087280" cy="2080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30280" y="2949840"/>
              <a:ext cx="2045520" cy="2022120"/>
              <a:chOff x="530280" y="2949840"/>
              <a:chExt cx="2045520" cy="2022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30280" y="2949840"/>
                <a:ext cx="2045520" cy="202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05b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7160" y="2977560"/>
                <a:ext cx="1567800" cy="757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1044000" y="3452040"/>
                <a:ext cx="1011960" cy="202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623880" y="37479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研修新引入管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7200" y="5531760"/>
            <a:ext cx="936360" cy="1364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5120" y="4743360"/>
            <a:ext cx="885600" cy="881280"/>
            <a:chOff x="735120" y="4743360"/>
            <a:chExt cx="885600" cy="881280"/>
          </a:xfrm>
        </p:grpSpPr>
        <p:sp>
          <p:nvSpPr>
            <p:cNvPr id="122" name=""/>
            <p:cNvSpPr/>
            <p:nvPr/>
          </p:nvSpPr>
          <p:spPr>
            <a:xfrm>
              <a:off x="735120" y="4743360"/>
              <a:ext cx="885600" cy="881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43040" y="4752720"/>
              <a:ext cx="867960" cy="856440"/>
              <a:chOff x="743040" y="4752720"/>
              <a:chExt cx="867960" cy="85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743040" y="4752720"/>
                <a:ext cx="867960" cy="85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3480" y="4764240"/>
                <a:ext cx="665280" cy="320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961560" y="4964400"/>
                <a:ext cx="428400" cy="85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727200" y="50166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资源共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88960" y="6319080"/>
            <a:ext cx="914400" cy="13356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496880" y="5548320"/>
            <a:ext cx="865440" cy="861840"/>
            <a:chOff x="1496880" y="5548320"/>
            <a:chExt cx="865440" cy="861840"/>
          </a:xfrm>
        </p:grpSpPr>
        <p:sp>
          <p:nvSpPr>
            <p:cNvPr id="130" name=""/>
            <p:cNvSpPr/>
            <p:nvPr/>
          </p:nvSpPr>
          <p:spPr>
            <a:xfrm>
              <a:off x="1496880" y="5548320"/>
              <a:ext cx="865440" cy="861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504800" y="5557320"/>
              <a:ext cx="848160" cy="837720"/>
              <a:chOff x="1504800" y="5557320"/>
              <a:chExt cx="848160" cy="837720"/>
            </a:xfrm>
          </p:grpSpPr>
          <p:sp>
            <p:nvSpPr>
              <p:cNvPr id="132" name=""/>
              <p:cNvSpPr/>
              <p:nvPr/>
            </p:nvSpPr>
            <p:spPr>
              <a:xfrm>
                <a:off x="1504800" y="5557320"/>
                <a:ext cx="848160" cy="837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03080" y="5568840"/>
                <a:ext cx="650160" cy="313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6200000">
                <a:off x="1717920" y="5765040"/>
                <a:ext cx="419040" cy="838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1519200" y="58132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知识积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000" y="6019920"/>
            <a:ext cx="863640" cy="12528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920" y="5289480"/>
            <a:ext cx="815760" cy="814320"/>
            <a:chOff x="304920" y="5289480"/>
            <a:chExt cx="815760" cy="814320"/>
          </a:xfrm>
        </p:grpSpPr>
        <p:sp>
          <p:nvSpPr>
            <p:cNvPr id="138" name=""/>
            <p:cNvSpPr/>
            <p:nvPr/>
          </p:nvSpPr>
          <p:spPr>
            <a:xfrm>
              <a:off x="304920" y="5289480"/>
              <a:ext cx="815760" cy="814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12120" y="5298120"/>
              <a:ext cx="799560" cy="791640"/>
              <a:chOff x="312120" y="5298120"/>
              <a:chExt cx="799560" cy="791640"/>
            </a:xfrm>
          </p:grpSpPr>
          <p:sp>
            <p:nvSpPr>
              <p:cNvPr id="140" name=""/>
              <p:cNvSpPr/>
              <p:nvPr/>
            </p:nvSpPr>
            <p:spPr>
              <a:xfrm>
                <a:off x="312120" y="5298120"/>
                <a:ext cx="799560" cy="791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04640" y="5308920"/>
                <a:ext cx="612720" cy="296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200000">
                <a:off x="512640" y="5495400"/>
                <a:ext cx="396000" cy="79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295200" y="551988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前瞻性  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33720" y="2413080"/>
            <a:ext cx="2862360" cy="652320"/>
            <a:chOff x="3033720" y="2413080"/>
            <a:chExt cx="2862360" cy="652320"/>
          </a:xfrm>
        </p:grpSpPr>
        <p:sp>
          <p:nvSpPr>
            <p:cNvPr id="145" name=""/>
            <p:cNvSpPr/>
            <p:nvPr/>
          </p:nvSpPr>
          <p:spPr>
            <a:xfrm>
              <a:off x="3033720" y="2413080"/>
              <a:ext cx="623880" cy="652320"/>
            </a:xfrm>
            <a:prstGeom prst="star5">
              <a:avLst/>
            </a:prstGeom>
            <a:solidFill>
              <a:srgbClr val="00ff00">
                <a:alpha val="60000"/>
              </a:srgbClr>
            </a:solidFill>
            <a:ln w="0">
              <a:noFill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41840" y="2549520"/>
              <a:ext cx="21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…………</a:t>
              </a:r>
              <a:r>
                <a:rPr b="1" lang="zh-CN" sz="20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251160" y="3122640"/>
            <a:ext cx="2425320" cy="652320"/>
            <a:chOff x="3251160" y="3122640"/>
            <a:chExt cx="2425320" cy="652320"/>
          </a:xfrm>
        </p:grpSpPr>
        <p:sp>
          <p:nvSpPr>
            <p:cNvPr id="148" name=""/>
            <p:cNvSpPr/>
            <p:nvPr/>
          </p:nvSpPr>
          <p:spPr>
            <a:xfrm>
              <a:off x="3251160" y="3122640"/>
              <a:ext cx="623880" cy="652320"/>
            </a:xfrm>
            <a:prstGeom prst="star5">
              <a:avLst/>
            </a:prstGeom>
            <a:solidFill>
              <a:srgbClr val="00ff00">
                <a:alpha val="60000"/>
              </a:srgbClr>
            </a:solidFill>
            <a:ln w="0">
              <a:noFill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56000" y="3257640"/>
              <a:ext cx="132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……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467160" y="3824280"/>
            <a:ext cx="2566800" cy="652320"/>
            <a:chOff x="3467160" y="3824280"/>
            <a:chExt cx="2566800" cy="652320"/>
          </a:xfrm>
        </p:grpSpPr>
        <p:sp>
          <p:nvSpPr>
            <p:cNvPr id="151" name=""/>
            <p:cNvSpPr/>
            <p:nvPr/>
          </p:nvSpPr>
          <p:spPr>
            <a:xfrm>
              <a:off x="3467160" y="3824280"/>
              <a:ext cx="623880" cy="652320"/>
            </a:xfrm>
            <a:prstGeom prst="star5">
              <a:avLst/>
            </a:prstGeom>
            <a:solidFill>
              <a:srgbClr val="00ff00">
                <a:alpha val="60000"/>
              </a:srgbClr>
            </a:solidFill>
            <a:ln w="0">
              <a:noFill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3480" y="3956040"/>
              <a:ext cx="132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……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83160" y="4568760"/>
            <a:ext cx="2565360" cy="652320"/>
            <a:chOff x="3683160" y="4568760"/>
            <a:chExt cx="2565360" cy="652320"/>
          </a:xfrm>
        </p:grpSpPr>
        <p:sp>
          <p:nvSpPr>
            <p:cNvPr id="154" name=""/>
            <p:cNvSpPr/>
            <p:nvPr/>
          </p:nvSpPr>
          <p:spPr>
            <a:xfrm>
              <a:off x="3683160" y="4568760"/>
              <a:ext cx="623520" cy="652320"/>
            </a:xfrm>
            <a:prstGeom prst="star5">
              <a:avLst/>
            </a:prstGeom>
            <a:solidFill>
              <a:srgbClr val="00ff00">
                <a:alpha val="60000"/>
              </a:srgbClr>
            </a:solidFill>
            <a:ln w="0">
              <a:noFill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8640" y="4703760"/>
              <a:ext cx="128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……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84760" y="5299200"/>
            <a:ext cx="2565360" cy="652320"/>
            <a:chOff x="3884760" y="5299200"/>
            <a:chExt cx="2565360" cy="652320"/>
          </a:xfrm>
        </p:grpSpPr>
        <p:sp>
          <p:nvSpPr>
            <p:cNvPr id="157" name=""/>
            <p:cNvSpPr/>
            <p:nvPr/>
          </p:nvSpPr>
          <p:spPr>
            <a:xfrm>
              <a:off x="3884760" y="5299200"/>
              <a:ext cx="623520" cy="652320"/>
            </a:xfrm>
            <a:prstGeom prst="star5">
              <a:avLst/>
            </a:prstGeom>
            <a:solidFill>
              <a:srgbClr val="00ff00">
                <a:alpha val="60000"/>
              </a:srgbClr>
            </a:solidFill>
            <a:ln w="0">
              <a:noFill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60240" y="5434200"/>
              <a:ext cx="128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……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71440" y="118584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07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年研修引入的管理项目中，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XXXXXXX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研修项目开始实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63800" y="5121360"/>
            <a:ext cx="923760" cy="920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0" y="5501520"/>
            <a:ext cx="2805120" cy="3920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34880" y="3657600"/>
            <a:ext cx="2087280" cy="2080800"/>
            <a:chOff x="434880" y="3657600"/>
            <a:chExt cx="2087280" cy="2080800"/>
          </a:xfrm>
        </p:grpSpPr>
        <p:sp>
          <p:nvSpPr>
            <p:cNvPr id="164" name=""/>
            <p:cNvSpPr/>
            <p:nvPr/>
          </p:nvSpPr>
          <p:spPr>
            <a:xfrm>
              <a:off x="434880" y="3657600"/>
              <a:ext cx="2087280" cy="2080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53960" y="3679920"/>
              <a:ext cx="2045520" cy="2022120"/>
              <a:chOff x="453960" y="3679920"/>
              <a:chExt cx="2045520" cy="2022120"/>
            </a:xfrm>
          </p:grpSpPr>
          <p:sp>
            <p:nvSpPr>
              <p:cNvPr id="166" name=""/>
              <p:cNvSpPr/>
              <p:nvPr/>
            </p:nvSpPr>
            <p:spPr>
              <a:xfrm>
                <a:off x="453960" y="3679920"/>
                <a:ext cx="2045520" cy="202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05b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0840" y="3707640"/>
                <a:ext cx="1567800" cy="757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00000">
                <a:off x="967680" y="4182120"/>
                <a:ext cx="1011960" cy="202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650880" y="453564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幼圆"/>
              </a:rPr>
              <a:t>立项情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89000" y="5963400"/>
            <a:ext cx="914400" cy="13356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96920" y="5192640"/>
            <a:ext cx="865440" cy="862200"/>
            <a:chOff x="1996920" y="5192640"/>
            <a:chExt cx="865440" cy="862200"/>
          </a:xfrm>
        </p:grpSpPr>
        <p:sp>
          <p:nvSpPr>
            <p:cNvPr id="172" name=""/>
            <p:cNvSpPr/>
            <p:nvPr/>
          </p:nvSpPr>
          <p:spPr>
            <a:xfrm>
              <a:off x="1996920" y="5192640"/>
              <a:ext cx="865440" cy="862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4840" y="5201640"/>
              <a:ext cx="848160" cy="838080"/>
              <a:chOff x="2004840" y="5201640"/>
              <a:chExt cx="848160" cy="838080"/>
            </a:xfrm>
          </p:grpSpPr>
          <p:sp>
            <p:nvSpPr>
              <p:cNvPr id="174" name=""/>
              <p:cNvSpPr/>
              <p:nvPr/>
            </p:nvSpPr>
            <p:spPr>
              <a:xfrm>
                <a:off x="2004840" y="5201640"/>
                <a:ext cx="848160" cy="83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03120" y="5213160"/>
                <a:ext cx="650160" cy="313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200000">
                <a:off x="2217600" y="5409360"/>
                <a:ext cx="419400" cy="838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 flipV="1">
            <a:off x="1427040" y="6461280"/>
            <a:ext cx="863640" cy="12528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32080" y="5732640"/>
            <a:ext cx="815760" cy="814320"/>
            <a:chOff x="1432080" y="5732640"/>
            <a:chExt cx="815760" cy="814320"/>
          </a:xfrm>
        </p:grpSpPr>
        <p:sp>
          <p:nvSpPr>
            <p:cNvPr id="179" name=""/>
            <p:cNvSpPr/>
            <p:nvPr/>
          </p:nvSpPr>
          <p:spPr>
            <a:xfrm>
              <a:off x="1432080" y="5732640"/>
              <a:ext cx="815760" cy="814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39280" y="5741280"/>
              <a:ext cx="799560" cy="791640"/>
              <a:chOff x="1439280" y="5741280"/>
              <a:chExt cx="799560" cy="791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439280" y="5741280"/>
                <a:ext cx="799560" cy="791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31800" y="5752080"/>
                <a:ext cx="612720" cy="296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1639800" y="5938560"/>
                <a:ext cx="396000" cy="79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 flipV="1">
            <a:off x="263520" y="6667560"/>
            <a:ext cx="1008000" cy="14760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2880" y="5818320"/>
            <a:ext cx="952560" cy="949320"/>
            <a:chOff x="272880" y="5818320"/>
            <a:chExt cx="952560" cy="949320"/>
          </a:xfrm>
        </p:grpSpPr>
        <p:sp>
          <p:nvSpPr>
            <p:cNvPr id="186" name=""/>
            <p:cNvSpPr/>
            <p:nvPr/>
          </p:nvSpPr>
          <p:spPr>
            <a:xfrm>
              <a:off x="272880" y="5818320"/>
              <a:ext cx="952560" cy="94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81520" y="5828400"/>
              <a:ext cx="933480" cy="922680"/>
              <a:chOff x="281520" y="5828400"/>
              <a:chExt cx="933480" cy="922680"/>
            </a:xfrm>
          </p:grpSpPr>
          <p:sp>
            <p:nvSpPr>
              <p:cNvPr id="188" name=""/>
              <p:cNvSpPr/>
              <p:nvPr/>
            </p:nvSpPr>
            <p:spPr>
              <a:xfrm>
                <a:off x="281520" y="5828400"/>
                <a:ext cx="933480" cy="922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9520" y="5841000"/>
                <a:ext cx="715320" cy="345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200000">
                <a:off x="515880" y="6057360"/>
                <a:ext cx="461520" cy="92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2019240" y="5543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三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22360" y="6048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三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440" y="620568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黑体"/>
              </a:rPr>
              <a:t>XX</a:t>
            </a:r>
            <a:r>
              <a:rPr b="1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1360" y="1373040"/>
          <a:ext cx="8753400" cy="2160720"/>
        </p:xfrm>
        <a:graphic>
          <a:graphicData uri="http://schemas.openxmlformats.org/drawingml/2006/table">
            <a:tbl>
              <a:tblPr/>
              <a:tblGrid>
                <a:gridCol w="1025640"/>
                <a:gridCol w="1110960"/>
                <a:gridCol w="1109880"/>
                <a:gridCol w="1109520"/>
                <a:gridCol w="1182960"/>
                <a:gridCol w="1069920"/>
                <a:gridCol w="1071360"/>
                <a:gridCol w="107316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0c0c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立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结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进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取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0c0c0"/>
                      </a:solidFill>
                    </a:lnL>
                    <a:lnR w="13680">
                      <a:solidFill>
                        <a:srgbClr val="c0c0c0"/>
                      </a:solidFill>
                    </a:lnR>
                    <a:lnT w="13680">
                      <a:solidFill>
                        <a:srgbClr val="c0c0c0"/>
                      </a:solidFill>
                    </a:lnT>
                    <a:lnB w="13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2790360" y="5055840"/>
            <a:ext cx="6353640" cy="1859040"/>
            <a:chOff x="2790360" y="5055840"/>
            <a:chExt cx="6353640" cy="1859040"/>
          </a:xfrm>
        </p:grpSpPr>
        <p:sp>
          <p:nvSpPr>
            <p:cNvPr id="196" name=""/>
            <p:cNvSpPr/>
            <p:nvPr/>
          </p:nvSpPr>
          <p:spPr>
            <a:xfrm>
              <a:off x="2843280" y="5358600"/>
              <a:ext cx="6300720" cy="125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8c8">
                    <a:alpha val="0"/>
                  </a:srgbClr>
                </a:gs>
                <a:gs pos="50000">
                  <a:srgbClr val="ffffff"/>
                </a:gs>
                <a:gs pos="100000">
                  <a:srgbClr val="4388c8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72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2790720" y="6606360"/>
              <a:ext cx="584532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2790360" y="5055480"/>
              <a:ext cx="584532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1284120" y="3076560"/>
            <a:ext cx="1089360" cy="45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9680" y="3097080"/>
            <a:ext cx="1089000" cy="45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4840" y="3089160"/>
            <a:ext cx="1089000" cy="45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843440" y="4130640"/>
            <a:ext cx="3241800" cy="1068480"/>
            <a:chOff x="4843440" y="4130640"/>
            <a:chExt cx="3241800" cy="1068480"/>
          </a:xfrm>
        </p:grpSpPr>
        <p:sp>
          <p:nvSpPr>
            <p:cNvPr id="203" name=""/>
            <p:cNvSpPr/>
            <p:nvPr/>
          </p:nvSpPr>
          <p:spPr>
            <a:xfrm>
              <a:off x="4843440" y="4130640"/>
              <a:ext cx="3225960" cy="1066680"/>
            </a:xfrm>
            <a:prstGeom prst="wedgeRoundRectCallout">
              <a:avLst>
                <a:gd name="adj1" fmla="val 50148"/>
                <a:gd name="adj2" fmla="val -103273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40000"/>
                  </a:srgbClr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9280" y="4132080"/>
              <a:ext cx="3225960" cy="1067040"/>
            </a:xfrm>
            <a:prstGeom prst="wedgeRoundRectCallout">
              <a:avLst>
                <a:gd name="adj1" fmla="val -11120"/>
                <a:gd name="adj2" fmla="val -103421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40000"/>
                  </a:srgbClr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851360" y="4124160"/>
            <a:ext cx="3225960" cy="1067040"/>
          </a:xfrm>
          <a:prstGeom prst="wedgeRoundRectCallout">
            <a:avLst>
              <a:gd name="adj1" fmla="val -127166"/>
              <a:gd name="adj2" fmla="val -114287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69696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中取消的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项内容，主要原因是暂时无法推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0200" y="5518080"/>
            <a:ext cx="578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  <a:ea typeface="华文细黑"/>
              </a:rPr>
              <a:t>xxxxxxxxxxxxxxxxxxxxxxx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44793" t="38889" r="44649" b="45533"/>
          <a:stretch/>
        </p:blipFill>
        <p:spPr>
          <a:xfrm>
            <a:off x="990720" y="1674720"/>
            <a:ext cx="608040" cy="6717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336680" y="1606680"/>
            <a:ext cx="4801680" cy="1243080"/>
            <a:chOff x="1336680" y="1606680"/>
            <a:chExt cx="4801680" cy="1243080"/>
          </a:xfrm>
        </p:grpSpPr>
        <p:grpSp>
          <p:nvGrpSpPr>
            <p:cNvPr id="210" name=""/>
            <p:cNvGrpSpPr/>
            <p:nvPr/>
          </p:nvGrpSpPr>
          <p:grpSpPr>
            <a:xfrm>
              <a:off x="1336680" y="1644840"/>
              <a:ext cx="4801680" cy="842400"/>
              <a:chOff x="1336680" y="1644840"/>
              <a:chExt cx="4801680" cy="84240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1336680" y="2307600"/>
                <a:ext cx="4801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00720" y="1644840"/>
                <a:ext cx="4137120" cy="72828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16200" y="1657080"/>
                <a:ext cx="4091040" cy="296640"/>
              </a:xfrm>
              <a:prstGeom prst="roundRect">
                <a:avLst>
                  <a:gd name="adj" fmla="val 34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4800" y="2023920"/>
                <a:ext cx="3971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811520" y="1606680"/>
              <a:ext cx="4119480" cy="1243080"/>
              <a:chOff x="1811520" y="1606680"/>
              <a:chExt cx="4119480" cy="1243080"/>
            </a:xfrm>
          </p:grpSpPr>
          <p:sp>
            <p:nvSpPr>
              <p:cNvPr id="216" name=""/>
              <p:cNvSpPr/>
              <p:nvPr/>
            </p:nvSpPr>
            <p:spPr>
              <a:xfrm>
                <a:off x="1825920" y="1606680"/>
                <a:ext cx="41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14366"/>
                    </a:solidFill>
                    <a:latin typeface="Arial"/>
                    <a:ea typeface="幼圆"/>
                  </a:rPr>
                  <a:t>xxxx</a:t>
                </a:r>
                <a:r>
                  <a:rPr b="1" lang="zh-CN" sz="2000" spc="-1" strike="noStrike">
                    <a:solidFill>
                      <a:srgbClr val="214366"/>
                    </a:solidFill>
                    <a:latin typeface="Arial"/>
                    <a:ea typeface="幼圆"/>
                  </a:rPr>
                  <a:t>管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11520" y="2024280"/>
                <a:ext cx="4070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xxxxxx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88920" y="2782800"/>
            <a:ext cx="719280" cy="7905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1338120" y="2793960"/>
            <a:ext cx="4801680" cy="1243080"/>
            <a:chOff x="1338120" y="2793960"/>
            <a:chExt cx="4801680" cy="1243080"/>
          </a:xfrm>
        </p:grpSpPr>
        <p:grpSp>
          <p:nvGrpSpPr>
            <p:cNvPr id="221" name=""/>
            <p:cNvGrpSpPr/>
            <p:nvPr/>
          </p:nvGrpSpPr>
          <p:grpSpPr>
            <a:xfrm>
              <a:off x="1338120" y="2832120"/>
              <a:ext cx="4801680" cy="842400"/>
              <a:chOff x="1338120" y="2832120"/>
              <a:chExt cx="4801680" cy="84240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1338120" y="3495240"/>
                <a:ext cx="4801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02160" y="2832120"/>
                <a:ext cx="4137120" cy="72828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17640" y="2844360"/>
                <a:ext cx="4091040" cy="296640"/>
              </a:xfrm>
              <a:prstGeom prst="roundRect">
                <a:avLst>
                  <a:gd name="adj" fmla="val 34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66240" y="3211200"/>
                <a:ext cx="3971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812960" y="2793960"/>
              <a:ext cx="4119480" cy="1243080"/>
              <a:chOff x="1812960" y="2793960"/>
              <a:chExt cx="4119480" cy="1243080"/>
            </a:xfrm>
          </p:grpSpPr>
          <p:sp>
            <p:nvSpPr>
              <p:cNvPr id="227" name=""/>
              <p:cNvSpPr/>
              <p:nvPr/>
            </p:nvSpPr>
            <p:spPr>
              <a:xfrm>
                <a:off x="1827360" y="2793960"/>
                <a:ext cx="41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14366"/>
                    </a:solidFill>
                    <a:latin typeface="Arial"/>
                    <a:ea typeface="幼圆"/>
                  </a:rPr>
                  <a:t>xxxx</a:t>
                </a:r>
                <a:r>
                  <a:rPr b="1" lang="zh-CN" sz="2000" spc="-1" strike="noStrike">
                    <a:solidFill>
                      <a:srgbClr val="214366"/>
                    </a:solidFill>
                    <a:latin typeface="Arial"/>
                    <a:ea typeface="幼圆"/>
                  </a:rPr>
                  <a:t>管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12960" y="3211560"/>
                <a:ext cx="4070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xxxxxx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00280" y="4106880"/>
            <a:ext cx="885600" cy="63324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353960" y="3967200"/>
            <a:ext cx="4801680" cy="1243080"/>
            <a:chOff x="1353960" y="3967200"/>
            <a:chExt cx="4801680" cy="1243080"/>
          </a:xfrm>
        </p:grpSpPr>
        <p:grpSp>
          <p:nvGrpSpPr>
            <p:cNvPr id="231" name=""/>
            <p:cNvGrpSpPr/>
            <p:nvPr/>
          </p:nvGrpSpPr>
          <p:grpSpPr>
            <a:xfrm>
              <a:off x="1353960" y="4005360"/>
              <a:ext cx="4801680" cy="842400"/>
              <a:chOff x="1353960" y="4005360"/>
              <a:chExt cx="4801680" cy="84240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1353960" y="4668480"/>
                <a:ext cx="4801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18000" y="4005360"/>
                <a:ext cx="4137120" cy="72828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33480" y="4017600"/>
                <a:ext cx="4091040" cy="296640"/>
              </a:xfrm>
              <a:prstGeom prst="roundRect">
                <a:avLst>
                  <a:gd name="adj" fmla="val 34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82080" y="4384440"/>
                <a:ext cx="3971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828800" y="3967200"/>
              <a:ext cx="4119480" cy="1243080"/>
              <a:chOff x="1828800" y="3967200"/>
              <a:chExt cx="4119480" cy="1243080"/>
            </a:xfrm>
          </p:grpSpPr>
          <p:sp>
            <p:nvSpPr>
              <p:cNvPr id="237" name=""/>
              <p:cNvSpPr/>
              <p:nvPr/>
            </p:nvSpPr>
            <p:spPr>
              <a:xfrm>
                <a:off x="1843200" y="3967200"/>
                <a:ext cx="41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14366"/>
                    </a:solidFill>
                    <a:latin typeface="Arial"/>
                    <a:ea typeface="幼圆"/>
                  </a:rPr>
                  <a:t>xxxx</a:t>
                </a:r>
                <a:r>
                  <a:rPr b="1" lang="zh-CN" sz="2000" spc="-1" strike="noStrike">
                    <a:solidFill>
                      <a:srgbClr val="214366"/>
                    </a:solidFill>
                    <a:latin typeface="Arial"/>
                    <a:ea typeface="幼圆"/>
                  </a:rPr>
                  <a:t>管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4384800"/>
                <a:ext cx="4070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xxxxxx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6360" y="3430440"/>
            <a:ext cx="923760" cy="92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/>
          <p:nvPr/>
        </p:nvCxnSpPr>
        <p:spPr>
          <a:xfrm flipV="1">
            <a:off x="3474720" y="2060640"/>
            <a:ext cx="872280" cy="118764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42" name=""/>
          <p:cNvCxnSpPr/>
          <p:nvPr/>
        </p:nvCxnSpPr>
        <p:spPr>
          <a:xfrm flipV="1">
            <a:off x="3474720" y="3107880"/>
            <a:ext cx="872280" cy="14544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43" name=""/>
          <p:cNvCxnSpPr/>
          <p:nvPr/>
        </p:nvCxnSpPr>
        <p:spPr>
          <a:xfrm>
            <a:off x="3474720" y="3246480"/>
            <a:ext cx="872280" cy="90072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grpSp>
        <p:nvGrpSpPr>
          <p:cNvPr id="244" name=""/>
          <p:cNvGrpSpPr/>
          <p:nvPr/>
        </p:nvGrpSpPr>
        <p:grpSpPr>
          <a:xfrm>
            <a:off x="3979800" y="1800360"/>
            <a:ext cx="3506760" cy="629640"/>
            <a:chOff x="3979800" y="1800360"/>
            <a:chExt cx="3506760" cy="629640"/>
          </a:xfrm>
        </p:grpSpPr>
        <p:sp>
          <p:nvSpPr>
            <p:cNvPr id="245" name=""/>
            <p:cNvSpPr/>
            <p:nvPr/>
          </p:nvSpPr>
          <p:spPr>
            <a:xfrm flipV="1">
              <a:off x="3979800" y="2248920"/>
              <a:ext cx="3506760" cy="18072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880" y="1800360"/>
              <a:ext cx="309240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华文细黑"/>
                  <a:ea typeface="华文细黑"/>
                </a:rPr>
                <a:t>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79800" y="2862360"/>
            <a:ext cx="3508560" cy="629280"/>
            <a:chOff x="3979800" y="2862360"/>
            <a:chExt cx="3508560" cy="629280"/>
          </a:xfrm>
        </p:grpSpPr>
        <p:sp>
          <p:nvSpPr>
            <p:cNvPr id="248" name=""/>
            <p:cNvSpPr/>
            <p:nvPr/>
          </p:nvSpPr>
          <p:spPr>
            <a:xfrm flipV="1">
              <a:off x="3979800" y="3310200"/>
              <a:ext cx="3508560" cy="18108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05520" y="2862360"/>
              <a:ext cx="309348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华文细黑"/>
                  <a:ea typeface="华文细黑"/>
                </a:rPr>
                <a:t>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979800" y="3870360"/>
            <a:ext cx="3522600" cy="630360"/>
            <a:chOff x="3979800" y="3870360"/>
            <a:chExt cx="3522600" cy="630360"/>
          </a:xfrm>
        </p:grpSpPr>
        <p:sp>
          <p:nvSpPr>
            <p:cNvPr id="251" name=""/>
            <p:cNvSpPr/>
            <p:nvPr/>
          </p:nvSpPr>
          <p:spPr>
            <a:xfrm flipV="1">
              <a:off x="3979800" y="4319280"/>
              <a:ext cx="35226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06600" y="3870360"/>
              <a:ext cx="310608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华文细黑"/>
                  <a:ea typeface="华文细黑"/>
                </a:rPr>
                <a:t>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1000080" y="3806280"/>
            <a:ext cx="2805120" cy="3920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387440" y="2023920"/>
            <a:ext cx="2087280" cy="2081160"/>
            <a:chOff x="1387440" y="2023920"/>
            <a:chExt cx="2087280" cy="2081160"/>
          </a:xfrm>
        </p:grpSpPr>
        <p:sp>
          <p:nvSpPr>
            <p:cNvPr id="255" name=""/>
            <p:cNvSpPr/>
            <p:nvPr/>
          </p:nvSpPr>
          <p:spPr>
            <a:xfrm>
              <a:off x="1387440" y="2023920"/>
              <a:ext cx="2087280" cy="2081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406520" y="2046240"/>
              <a:ext cx="2045520" cy="2022480"/>
              <a:chOff x="1406520" y="2046240"/>
              <a:chExt cx="2045520" cy="2022480"/>
            </a:xfrm>
          </p:grpSpPr>
          <p:sp>
            <p:nvSpPr>
              <p:cNvPr id="257" name=""/>
              <p:cNvSpPr/>
              <p:nvPr/>
            </p:nvSpPr>
            <p:spPr>
              <a:xfrm>
                <a:off x="1406520" y="2046240"/>
                <a:ext cx="2045520" cy="2022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05b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43400" y="2073960"/>
                <a:ext cx="1567800" cy="757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00000">
                <a:off x="1920240" y="2549520"/>
                <a:ext cx="1012320" cy="202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1603440" y="284472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部内主抓项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708280" y="4822920"/>
            <a:ext cx="914400" cy="13320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716200" y="4051440"/>
            <a:ext cx="865080" cy="861840"/>
            <a:chOff x="2716200" y="4051440"/>
            <a:chExt cx="865080" cy="861840"/>
          </a:xfrm>
        </p:grpSpPr>
        <p:sp>
          <p:nvSpPr>
            <p:cNvPr id="263" name=""/>
            <p:cNvSpPr/>
            <p:nvPr/>
          </p:nvSpPr>
          <p:spPr>
            <a:xfrm>
              <a:off x="2716200" y="4051440"/>
              <a:ext cx="865080" cy="861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724120" y="4060440"/>
              <a:ext cx="847800" cy="837720"/>
              <a:chOff x="2724120" y="4060440"/>
              <a:chExt cx="847800" cy="83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2724120" y="4060440"/>
                <a:ext cx="847800" cy="837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2040" y="4071960"/>
                <a:ext cx="649800" cy="313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2936880" y="4268160"/>
                <a:ext cx="419040" cy="83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 flipV="1">
            <a:off x="1477800" y="4747320"/>
            <a:ext cx="1008360" cy="14796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87520" y="3898800"/>
            <a:ext cx="952560" cy="949320"/>
            <a:chOff x="1487520" y="3898800"/>
            <a:chExt cx="952560" cy="949320"/>
          </a:xfrm>
        </p:grpSpPr>
        <p:sp>
          <p:nvSpPr>
            <p:cNvPr id="270" name=""/>
            <p:cNvSpPr/>
            <p:nvPr/>
          </p:nvSpPr>
          <p:spPr>
            <a:xfrm>
              <a:off x="1487520" y="3898800"/>
              <a:ext cx="952560" cy="94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496160" y="3908880"/>
              <a:ext cx="933480" cy="922680"/>
              <a:chOff x="1496160" y="3908880"/>
              <a:chExt cx="933480" cy="922680"/>
            </a:xfrm>
          </p:grpSpPr>
          <p:sp>
            <p:nvSpPr>
              <p:cNvPr id="272" name=""/>
              <p:cNvSpPr/>
              <p:nvPr/>
            </p:nvSpPr>
            <p:spPr>
              <a:xfrm>
                <a:off x="1496160" y="3908880"/>
                <a:ext cx="933480" cy="922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4160" y="3921480"/>
                <a:ext cx="715320" cy="345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6200000">
                <a:off x="1730520" y="4137840"/>
                <a:ext cx="461520" cy="92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2738520" y="431640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黑体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协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05080" y="4286160"/>
            <a:ext cx="112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黑体"/>
              </a:rPr>
              <a:t>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主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1857240" y="3041640"/>
            <a:ext cx="5211720" cy="1819440"/>
            <a:chOff x="1857240" y="3041640"/>
            <a:chExt cx="5211720" cy="1819440"/>
          </a:xfrm>
        </p:grpSpPr>
        <p:sp>
          <p:nvSpPr>
            <p:cNvPr id="278" name=""/>
            <p:cNvSpPr/>
            <p:nvPr/>
          </p:nvSpPr>
          <p:spPr>
            <a:xfrm>
              <a:off x="3195360" y="4237200"/>
              <a:ext cx="487440" cy="263520"/>
            </a:xfrm>
            <a:prstGeom prst="rightArrow">
              <a:avLst>
                <a:gd name="adj1" fmla="val 50000"/>
                <a:gd name="adj2" fmla="val 46243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57240" y="4211640"/>
              <a:ext cx="1317600" cy="398160"/>
              <a:chOff x="1857240" y="4211640"/>
              <a:chExt cx="1317600" cy="398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857240" y="4495320"/>
                <a:ext cx="1317600" cy="114480"/>
              </a:xfrm>
              <a:prstGeom prst="ellipse">
                <a:avLst/>
              </a:prstGeom>
              <a:solidFill>
                <a:srgbClr val="386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41840" y="4211640"/>
                <a:ext cx="1161720" cy="33300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841560" y="4130640"/>
              <a:ext cx="3227400" cy="730440"/>
            </a:xfrm>
            <a:prstGeom prst="ellipse">
              <a:avLst/>
            </a:prstGeom>
            <a:gradFill rotWithShape="0">
              <a:gsLst>
                <a:gs pos="0">
                  <a:srgbClr val="5bbdff"/>
                </a:gs>
                <a:gs pos="50000">
                  <a:srgbClr val="66ffff"/>
                </a:gs>
                <a:gs pos="100000">
                  <a:srgbClr val="5bbd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57560" y="4255920"/>
              <a:ext cx="2766960" cy="484200"/>
            </a:xfrm>
            <a:prstGeom prst="ellipse">
              <a:avLst/>
            </a:prstGeom>
            <a:blipFill rotWithShape="0">
              <a:blip r:embed="rId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03560" y="3792600"/>
              <a:ext cx="500040" cy="8269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826920"/>
                <a:gd name="textAreaBottom" fmla="*/ 802800 h 826920"/>
              </a:gdLst>
              <a:ahLst/>
              <a:rect l="textAreaLeft" t="textAreaTop" r="textAreaRight" b="textAreaBottom"/>
              <a:pathLst>
                <a:path w="21600" h="35710">
                  <a:moveTo>
                    <a:pt x="3600" y="0"/>
                  </a:moveTo>
                  <a:arcTo wR="3600" hR="3600" stAng="16200000" swAng="-5400000"/>
                  <a:lnTo>
                    <a:pt x="0" y="32110"/>
                  </a:lnTo>
                  <a:arcTo wR="3600" hR="3600" stAng="10800000" swAng="-5400000"/>
                  <a:lnTo>
                    <a:pt x="18000" y="357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4640" y="3433680"/>
              <a:ext cx="62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07000" y="3414600"/>
              <a:ext cx="447480" cy="1204920"/>
            </a:xfrm>
            <a:custGeom>
              <a:avLst/>
              <a:gdLst>
                <a:gd name="textAreaLeft" fmla="*/ 21600 w 447480"/>
                <a:gd name="textAreaRight" fmla="*/ 425880 w 447480"/>
                <a:gd name="textAreaTop" fmla="*/ 21600 h 1204920"/>
                <a:gd name="textAreaBottom" fmla="*/ 1183320 h 1204920"/>
              </a:gdLst>
              <a:ahLst/>
              <a:rect l="textAreaLeft" t="textAreaTop" r="textAreaRight" b="textAreaBottom"/>
              <a:pathLst>
                <a:path w="21600" h="58132">
                  <a:moveTo>
                    <a:pt x="3600" y="0"/>
                  </a:moveTo>
                  <a:arcTo wR="3600" hR="3600" stAng="16200000" swAng="-5400000"/>
                  <a:lnTo>
                    <a:pt x="0" y="54532"/>
                  </a:lnTo>
                  <a:arcTo wR="3600" hR="3600" stAng="10800000" swAng="-5400000"/>
                  <a:lnTo>
                    <a:pt x="18000" y="581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40320" y="3041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-360" y="860040"/>
            <a:ext cx="4481640" cy="2466720"/>
            <a:chOff x="-360" y="860040"/>
            <a:chExt cx="4481640" cy="2466720"/>
          </a:xfrm>
        </p:grpSpPr>
        <p:sp>
          <p:nvSpPr>
            <p:cNvPr id="289" name=""/>
            <p:cNvSpPr/>
            <p:nvPr/>
          </p:nvSpPr>
          <p:spPr>
            <a:xfrm>
              <a:off x="36720" y="1261800"/>
              <a:ext cx="4444560" cy="166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8c8">
                    <a:alpha val="0"/>
                  </a:srgbClr>
                </a:gs>
                <a:gs pos="50000">
                  <a:srgbClr val="ffffff"/>
                </a:gs>
                <a:gs pos="100000">
                  <a:srgbClr val="4388c8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72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6"/>
            <a:stretch/>
          </p:blipFill>
          <p:spPr>
            <a:xfrm>
              <a:off x="0" y="2917440"/>
              <a:ext cx="412308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-360" y="859680"/>
              <a:ext cx="4123080" cy="4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>
            <a:off x="363600" y="1320840"/>
            <a:ext cx="375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6462720"/>
            <a:ext cx="53146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388c8"/>
              </a:gs>
              <a:gs pos="50000">
                <a:srgbClr val="86b3dc"/>
              </a:gs>
              <a:gs pos="100000">
                <a:srgbClr val="4388c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c24"/>
                </a:solidFill>
                <a:latin typeface="Verdana"/>
                <a:ea typeface="楷体_GB2312"/>
              </a:rPr>
              <a:t>持续改善，效益必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408720"/>
            <a:ext cx="1981080" cy="973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386596"/>
              </a:gs>
              <a:gs pos="50000">
                <a:srgbClr val="ffffff"/>
              </a:gs>
              <a:gs pos="100000">
                <a:srgbClr val="386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74080" y="6424560"/>
            <a:ext cx="1981080" cy="973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386596"/>
              </a:gs>
              <a:gs pos="50000">
                <a:srgbClr val="ffffff"/>
              </a:gs>
              <a:gs pos="100000">
                <a:srgbClr val="386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76400" y="55753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  <a:hlinkClick r:id="rId8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1486080" y="4051440"/>
            <a:ext cx="5211720" cy="1818720"/>
            <a:chOff x="1486080" y="4051440"/>
            <a:chExt cx="5211720" cy="1818720"/>
          </a:xfrm>
        </p:grpSpPr>
        <p:sp>
          <p:nvSpPr>
            <p:cNvPr id="299" name=""/>
            <p:cNvSpPr/>
            <p:nvPr/>
          </p:nvSpPr>
          <p:spPr>
            <a:xfrm>
              <a:off x="2824200" y="5246640"/>
              <a:ext cx="487440" cy="263160"/>
            </a:xfrm>
            <a:prstGeom prst="rightArrow">
              <a:avLst>
                <a:gd name="adj1" fmla="val 50000"/>
                <a:gd name="adj2" fmla="val 4630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486080" y="5221080"/>
              <a:ext cx="1317600" cy="398160"/>
              <a:chOff x="1486080" y="5221080"/>
              <a:chExt cx="1317600" cy="39816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486080" y="5504760"/>
                <a:ext cx="1317600" cy="114480"/>
              </a:xfrm>
              <a:prstGeom prst="ellipse">
                <a:avLst/>
              </a:prstGeom>
              <a:gradFill rotWithShape="0">
                <a:gsLst>
                  <a:gs pos="0">
                    <a:srgbClr val="041d54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70680" y="5221080"/>
                <a:ext cx="1161720" cy="333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470400" y="5140080"/>
              <a:ext cx="3227400" cy="730080"/>
            </a:xfrm>
            <a:prstGeom prst="ellipse">
              <a:avLst/>
            </a:prstGeom>
            <a:gradFill rotWithShape="0">
              <a:gsLst>
                <a:gs pos="0">
                  <a:srgbClr val="0546af">
                    <a:alpha val="50196"/>
                  </a:srgbClr>
                </a:gs>
                <a:gs pos="100000">
                  <a:srgbClr val="4388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86400" y="5265360"/>
              <a:ext cx="2766960" cy="483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32400" y="4802040"/>
              <a:ext cx="500040" cy="82656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826560"/>
                <a:gd name="textAreaBottom" fmla="*/ 802440 h 826560"/>
              </a:gdLst>
              <a:ahLst/>
              <a:rect l="textAreaLeft" t="textAreaTop" r="textAreaRight" b="textAreaBottom"/>
              <a:pathLst>
                <a:path w="21600" h="35694">
                  <a:moveTo>
                    <a:pt x="3600" y="0"/>
                  </a:moveTo>
                  <a:arcTo wR="3600" hR="3600" stAng="16200000" swAng="-5400000"/>
                  <a:lnTo>
                    <a:pt x="0" y="32094"/>
                  </a:lnTo>
                  <a:arcTo wR="3600" hR="3600" stAng="10800000" swAng="-5400000"/>
                  <a:lnTo>
                    <a:pt x="18000" y="35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8440" y="44431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.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35840" y="4424040"/>
              <a:ext cx="447480" cy="1204560"/>
            </a:xfrm>
            <a:custGeom>
              <a:avLst/>
              <a:gdLst>
                <a:gd name="textAreaLeft" fmla="*/ 21600 w 447480"/>
                <a:gd name="textAreaRight" fmla="*/ 425880 w 447480"/>
                <a:gd name="textAreaTop" fmla="*/ 21600 h 1204560"/>
                <a:gd name="textAreaBottom" fmla="*/ 1182960 h 1204560"/>
              </a:gdLst>
              <a:ahLst/>
              <a:rect l="textAreaLeft" t="textAreaTop" r="textAreaRight" b="textAreaBottom"/>
              <a:pathLst>
                <a:path w="21600" h="58115">
                  <a:moveTo>
                    <a:pt x="3600" y="0"/>
                  </a:moveTo>
                  <a:arcTo wR="3600" hR="3600" stAng="16200000" swAng="-5400000"/>
                  <a:lnTo>
                    <a:pt x="0" y="54515"/>
                  </a:lnTo>
                  <a:arcTo wR="3600" hR="3600" stAng="10800000" swAng="-5400000"/>
                  <a:lnTo>
                    <a:pt x="18000" y="581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3760" y="4051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.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-360" y="858960"/>
            <a:ext cx="4481640" cy="1653480"/>
            <a:chOff x="-360" y="858960"/>
            <a:chExt cx="4481640" cy="1653480"/>
          </a:xfrm>
        </p:grpSpPr>
        <p:sp>
          <p:nvSpPr>
            <p:cNvPr id="310" name=""/>
            <p:cNvSpPr/>
            <p:nvPr/>
          </p:nvSpPr>
          <p:spPr>
            <a:xfrm>
              <a:off x="36720" y="1128240"/>
              <a:ext cx="4444560" cy="111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8c8">
                    <a:alpha val="0"/>
                  </a:srgbClr>
                </a:gs>
                <a:gs pos="50000">
                  <a:srgbClr val="ffffff"/>
                </a:gs>
                <a:gs pos="100000">
                  <a:srgbClr val="4388c8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72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0" y="2238120"/>
              <a:ext cx="412308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-360" y="858600"/>
              <a:ext cx="412308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>
            <a:off x="363600" y="957240"/>
            <a:ext cx="375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79600" y="2303640"/>
            <a:ext cx="5211720" cy="1686960"/>
            <a:chOff x="1479600" y="2303640"/>
            <a:chExt cx="5211720" cy="1686960"/>
          </a:xfrm>
        </p:grpSpPr>
        <p:sp>
          <p:nvSpPr>
            <p:cNvPr id="315" name=""/>
            <p:cNvSpPr/>
            <p:nvPr/>
          </p:nvSpPr>
          <p:spPr>
            <a:xfrm>
              <a:off x="2817720" y="3367080"/>
              <a:ext cx="487440" cy="263160"/>
            </a:xfrm>
            <a:prstGeom prst="rightArrow">
              <a:avLst>
                <a:gd name="adj1" fmla="val 50000"/>
                <a:gd name="adj2" fmla="val 4630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79600" y="3341520"/>
              <a:ext cx="1317600" cy="398160"/>
              <a:chOff x="1479600" y="3341520"/>
              <a:chExt cx="1317600" cy="3981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1479600" y="3625200"/>
                <a:ext cx="1317600" cy="114480"/>
              </a:xfrm>
              <a:prstGeom prst="ellipse">
                <a:avLst/>
              </a:prstGeom>
              <a:gradFill rotWithShape="0">
                <a:gsLst>
                  <a:gs pos="0">
                    <a:srgbClr val="041d54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64200" y="3341520"/>
                <a:ext cx="1161720" cy="333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463920" y="3260520"/>
              <a:ext cx="3227400" cy="730080"/>
            </a:xfrm>
            <a:prstGeom prst="ellipse">
              <a:avLst/>
            </a:prstGeom>
            <a:gradFill rotWithShape="0">
              <a:gsLst>
                <a:gs pos="0">
                  <a:srgbClr val="0546af">
                    <a:alpha val="50196"/>
                  </a:srgbClr>
                </a:gs>
                <a:gs pos="100000">
                  <a:srgbClr val="4388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79920" y="3385800"/>
              <a:ext cx="2766960" cy="483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452840" y="2303640"/>
              <a:ext cx="634680" cy="1445400"/>
              <a:chOff x="4452840" y="2303640"/>
              <a:chExt cx="634680" cy="1445400"/>
            </a:xfrm>
          </p:grpSpPr>
          <p:sp>
            <p:nvSpPr>
              <p:cNvPr id="322" name=""/>
              <p:cNvSpPr/>
              <p:nvPr/>
            </p:nvSpPr>
            <p:spPr>
              <a:xfrm>
                <a:off x="4525920" y="2660400"/>
                <a:ext cx="500040" cy="1088640"/>
              </a:xfrm>
              <a:custGeom>
                <a:avLst/>
                <a:gdLst>
                  <a:gd name="textAreaLeft" fmla="*/ 24120 w 500040"/>
                  <a:gd name="textAreaRight" fmla="*/ 475920 w 500040"/>
                  <a:gd name="textAreaTop" fmla="*/ 24120 h 1088640"/>
                  <a:gd name="textAreaBottom" fmla="*/ 1064520 h 1088640"/>
                </a:gdLst>
                <a:ahLst/>
                <a:rect l="textAreaLeft" t="textAreaTop" r="textAreaRight" b="textAreaBottom"/>
                <a:pathLst>
                  <a:path w="21600" h="47007">
                    <a:moveTo>
                      <a:pt x="3600" y="0"/>
                    </a:moveTo>
                    <a:arcTo wR="3600" hR="3600" stAng="16200000" swAng="-5400000"/>
                    <a:lnTo>
                      <a:pt x="0" y="43407"/>
                    </a:lnTo>
                    <a:arcTo wR="3600" hR="3600" stAng="10800000" swAng="-5400000"/>
                    <a:lnTo>
                      <a:pt x="18000" y="47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52840" y="2303640"/>
                <a:ext cx="63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29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096880" y="2606400"/>
              <a:ext cx="826560" cy="1142280"/>
              <a:chOff x="5096880" y="2606400"/>
              <a:chExt cx="826560" cy="1142280"/>
            </a:xfrm>
          </p:grpSpPr>
          <p:sp>
            <p:nvSpPr>
              <p:cNvPr id="325" name=""/>
              <p:cNvSpPr/>
              <p:nvPr/>
            </p:nvSpPr>
            <p:spPr>
              <a:xfrm>
                <a:off x="5229360" y="3001320"/>
                <a:ext cx="447840" cy="747360"/>
              </a:xfrm>
              <a:custGeom>
                <a:avLst/>
                <a:gdLst>
                  <a:gd name="textAreaLeft" fmla="*/ 21600 w 447840"/>
                  <a:gd name="textAreaRight" fmla="*/ 426240 w 447840"/>
                  <a:gd name="textAreaTop" fmla="*/ 21600 h 747360"/>
                  <a:gd name="textAreaBottom" fmla="*/ 725760 h 747360"/>
                </a:gdLst>
                <a:ahLst/>
                <a:rect l="textAreaLeft" t="textAreaTop" r="textAreaRight" b="textAreaBottom"/>
                <a:pathLst>
                  <a:path w="21600" h="36035">
                    <a:moveTo>
                      <a:pt x="3600" y="0"/>
                    </a:moveTo>
                    <a:arcTo wR="3600" hR="3600" stAng="16200000" swAng="-5400000"/>
                    <a:lnTo>
                      <a:pt x="0" y="32435"/>
                    </a:lnTo>
                    <a:arcTo wR="3600" hR="3600" stAng="10800000" swAng="-5400000"/>
                    <a:lnTo>
                      <a:pt x="18000" y="360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96880" y="2606400"/>
                <a:ext cx="82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约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22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4873680" y="1339920"/>
            <a:ext cx="3543120" cy="5356080"/>
            <a:chOff x="4873680" y="1339920"/>
            <a:chExt cx="3543120" cy="5356080"/>
          </a:xfrm>
        </p:grpSpPr>
        <p:sp>
          <p:nvSpPr>
            <p:cNvPr id="329" name=""/>
            <p:cNvSpPr/>
            <p:nvPr/>
          </p:nvSpPr>
          <p:spPr>
            <a:xfrm>
              <a:off x="4873680" y="1339920"/>
              <a:ext cx="3543120" cy="5229360"/>
            </a:xfrm>
            <a:custGeom>
              <a:avLst/>
              <a:gdLst>
                <a:gd name="textAreaLeft" fmla="*/ 172800 w 3543120"/>
                <a:gd name="textAreaRight" fmla="*/ 3370320 w 3543120"/>
                <a:gd name="textAreaTop" fmla="*/ 172800 h 5229360"/>
                <a:gd name="textAreaBottom" fmla="*/ 5056560 h 5229360"/>
              </a:gdLst>
              <a:ahLst/>
              <a:rect l="textAreaLeft" t="textAreaTop" r="textAreaRight" b="textAreaBottom"/>
              <a:pathLst>
                <a:path w="21600" h="31879">
                  <a:moveTo>
                    <a:pt x="3600" y="0"/>
                  </a:moveTo>
                  <a:arcTo wR="3600" hR="3600" stAng="16200000" swAng="-5400000"/>
                  <a:lnTo>
                    <a:pt x="0" y="28279"/>
                  </a:lnTo>
                  <a:arcTo wR="3600" hR="3600" stAng="10800000" swAng="-5400000"/>
                  <a:lnTo>
                    <a:pt x="18000" y="31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8400" y="5299200"/>
              <a:ext cx="3212640" cy="139680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B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合计：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09200" y="56656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华文细黑"/>
                  <a:ea typeface="华文细黑"/>
                </a:rPr>
                <a:t>3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6843240" y="5654880"/>
              <a:ext cx="3520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533520" y="1324080"/>
            <a:ext cx="4457520" cy="5346720"/>
            <a:chOff x="533520" y="1324080"/>
            <a:chExt cx="4457520" cy="5346720"/>
          </a:xfrm>
        </p:grpSpPr>
        <p:sp>
          <p:nvSpPr>
            <p:cNvPr id="334" name=""/>
            <p:cNvSpPr/>
            <p:nvPr/>
          </p:nvSpPr>
          <p:spPr>
            <a:xfrm>
              <a:off x="533520" y="1324080"/>
              <a:ext cx="4457520" cy="5229360"/>
            </a:xfrm>
            <a:custGeom>
              <a:avLst/>
              <a:gdLst>
                <a:gd name="textAreaLeft" fmla="*/ 217440 w 4457520"/>
                <a:gd name="textAreaRight" fmla="*/ 4240080 w 4457520"/>
                <a:gd name="textAreaTop" fmla="*/ 217440 h 5229360"/>
                <a:gd name="textAreaBottom" fmla="*/ 5011920 h 52293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8640" y="5273640"/>
              <a:ext cx="3212640" cy="139716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A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合计：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02760" y="564984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华文细黑"/>
                  <a:ea typeface="华文细黑"/>
                </a:rPr>
                <a:t>29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2846160" y="5639040"/>
              <a:ext cx="352080" cy="53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-133200" y="819000"/>
            <a:ext cx="9163080" cy="49244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84080" y="3186000"/>
            <a:ext cx="721548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3840" y="3048120"/>
            <a:ext cx="6588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720" y="2082960"/>
            <a:ext cx="1068480" cy="9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44560" y="2106720"/>
            <a:ext cx="0" cy="569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5017680" y="1724040"/>
            <a:ext cx="9720" cy="931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03640" y="1719360"/>
            <a:ext cx="1070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54840" y="1706400"/>
            <a:ext cx="17280" cy="706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60960" y="2413080"/>
            <a:ext cx="19987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3200" y="1913040"/>
            <a:ext cx="8398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52400" y="2038320"/>
            <a:ext cx="875160" cy="1152360"/>
            <a:chOff x="752400" y="2038320"/>
            <a:chExt cx="875160" cy="1152360"/>
          </a:xfrm>
        </p:grpSpPr>
        <p:sp>
          <p:nvSpPr>
            <p:cNvPr id="349" name=""/>
            <p:cNvSpPr/>
            <p:nvPr/>
          </p:nvSpPr>
          <p:spPr>
            <a:xfrm>
              <a:off x="752400" y="2038320"/>
              <a:ext cx="790560" cy="115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25560" y="233028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华文细黑"/>
                  <a:ea typeface="华文细黑"/>
                </a:rPr>
                <a:t>4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782640" y="2419200"/>
              <a:ext cx="352440" cy="5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"/>
          <p:cNvGrpSpPr/>
          <p:nvPr/>
        </p:nvGrpSpPr>
        <p:grpSpPr>
          <a:xfrm>
            <a:off x="1854360" y="2635200"/>
            <a:ext cx="2981160" cy="542880"/>
            <a:chOff x="1854360" y="2635200"/>
            <a:chExt cx="2981160" cy="542880"/>
          </a:xfrm>
        </p:grpSpPr>
        <p:sp>
          <p:nvSpPr>
            <p:cNvPr id="353" name=""/>
            <p:cNvSpPr/>
            <p:nvPr/>
          </p:nvSpPr>
          <p:spPr>
            <a:xfrm>
              <a:off x="1854360" y="2635200"/>
              <a:ext cx="2981160" cy="542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16320" y="265284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华文细黑"/>
                  <a:ea typeface="华文细黑"/>
                </a:rPr>
                <a:t>2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957760" y="2641680"/>
              <a:ext cx="35244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52480" y="2646360"/>
            <a:ext cx="3270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724040"/>
            <a:ext cx="856080" cy="1457280"/>
            <a:chOff x="5076720" y="1724040"/>
            <a:chExt cx="856080" cy="1457280"/>
          </a:xfrm>
        </p:grpSpPr>
        <p:sp>
          <p:nvSpPr>
            <p:cNvPr id="358" name=""/>
            <p:cNvSpPr/>
            <p:nvPr/>
          </p:nvSpPr>
          <p:spPr>
            <a:xfrm>
              <a:off x="5076720" y="1724040"/>
              <a:ext cx="781200" cy="1457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0800" y="23209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华文细黑"/>
                  <a:ea typeface="华文细黑"/>
                </a:rPr>
                <a:t>6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6"/>
            <a:stretch/>
          </p:blipFill>
          <p:spPr>
            <a:xfrm>
              <a:off x="5087880" y="2409840"/>
              <a:ext cx="35244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"/>
          <p:cNvGrpSpPr/>
          <p:nvPr/>
        </p:nvGrpSpPr>
        <p:grpSpPr>
          <a:xfrm>
            <a:off x="6153120" y="2428920"/>
            <a:ext cx="1838160" cy="752400"/>
            <a:chOff x="6153120" y="2428920"/>
            <a:chExt cx="1838160" cy="752400"/>
          </a:xfrm>
        </p:grpSpPr>
        <p:sp>
          <p:nvSpPr>
            <p:cNvPr id="362" name=""/>
            <p:cNvSpPr/>
            <p:nvPr/>
          </p:nvSpPr>
          <p:spPr>
            <a:xfrm>
              <a:off x="6153120" y="2428920"/>
              <a:ext cx="1838160" cy="752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4840" y="277668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华文细黑"/>
                  <a:ea typeface="华文细黑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7"/>
            <a:stretch/>
          </p:blipFill>
          <p:spPr>
            <a:xfrm>
              <a:off x="6557760" y="2622600"/>
              <a:ext cx="35244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566640" y="5181480"/>
            <a:ext cx="7473960" cy="23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12920" y="330120"/>
            <a:ext cx="6819840" cy="59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New concep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7:13:11Z</dcterms:created>
  <dc:creator>幻灯片之家：www.eeppt.com; 上海诺睿网络信息科技有限公司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9-18T13:19:35Z</dcterms:modified>
  <cp:revision>7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