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53A0-010D-47CA-A961-005C3DC2B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67EA-B399-4D06-AE53-2335DCA0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D9E0-43E1-4DB5-A64D-2CD92216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5F27-5DB0-4039-8C1F-9170704F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DE2C-1697-4451-9F8E-FDB17C7E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3D46-8762-44CB-8696-2931F2F2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24C0-35D8-4E9C-B132-A84ED7A5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0045-CC04-442D-ADA1-1EBBCBB2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87C0-3925-48B4-AE3C-CF5FEBF2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FCF1-CB6B-4507-920C-CAB5BA00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AAE8-D23E-4E98-8A0A-44E08534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766A-260B-4A61-8DBC-B0DFDDC1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8D2E-9FBE-486C-A856-A62AE028FDD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89DC-4559-4027-8A7B-D77B2918084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7"/>
          <p:cNvSpPr/>
          <p:nvPr/>
        </p:nvSpPr>
        <p:spPr>
          <a:xfrm>
            <a:off x="3206880" y="1700280"/>
            <a:ext cx="5905440" cy="334800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8"/>
          <p:cNvSpPr/>
          <p:nvPr/>
        </p:nvSpPr>
        <p:spPr>
          <a:xfrm>
            <a:off x="3206880" y="1662120"/>
            <a:ext cx="6040440" cy="3424320"/>
          </a:xfrm>
          <a:prstGeom prst="pie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9"/>
          <p:cNvSpPr/>
          <p:nvPr/>
        </p:nvSpPr>
        <p:spPr>
          <a:xfrm>
            <a:off x="3071880" y="1662120"/>
            <a:ext cx="6040440" cy="3424320"/>
          </a:xfrm>
          <a:prstGeom prst="pie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组合 18"/>
          <p:cNvGrpSpPr/>
          <p:nvPr/>
        </p:nvGrpSpPr>
        <p:grpSpPr>
          <a:xfrm>
            <a:off x="1595520" y="2576160"/>
            <a:ext cx="8966160" cy="1359000"/>
            <a:chOff x="1595520" y="2576160"/>
            <a:chExt cx="8966160" cy="1359000"/>
          </a:xfrm>
        </p:grpSpPr>
        <p:sp>
          <p:nvSpPr>
            <p:cNvPr id="45" name="任意多边形 16"/>
            <p:cNvSpPr/>
            <p:nvPr/>
          </p:nvSpPr>
          <p:spPr>
            <a:xfrm rot="10800000">
              <a:off x="1595520" y="2664720"/>
              <a:ext cx="8966160" cy="1181160"/>
            </a:xfrm>
            <a:prstGeom prst="pie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任意多边形 17"/>
            <p:cNvSpPr/>
            <p:nvPr/>
          </p:nvSpPr>
          <p:spPr>
            <a:xfrm rot="10800000">
              <a:off x="1735200" y="2575800"/>
              <a:ext cx="8686800" cy="1359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文本框 19"/>
          <p:cNvSpPr/>
          <p:nvPr/>
        </p:nvSpPr>
        <p:spPr>
          <a:xfrm>
            <a:off x="3158280" y="2806560"/>
            <a:ext cx="604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农历</a:t>
            </a:r>
            <a:r>
              <a:rPr b="0" lang="zh-CN" sz="40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月</a:t>
            </a:r>
            <a:r>
              <a:rPr b="0" lang="zh-CN" sz="40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中国情人节</a:t>
            </a:r>
            <a:r>
              <a:rPr b="0" lang="zh-CN" sz="40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27"/>
          <p:cNvSpPr/>
          <p:nvPr/>
        </p:nvSpPr>
        <p:spPr>
          <a:xfrm>
            <a:off x="1749600" y="3206880"/>
            <a:ext cx="8686800" cy="742680"/>
          </a:xfrm>
          <a:prstGeom prst="pie">
            <a:avLst/>
          </a:prstGeom>
          <a:solidFill>
            <a:srgbClr val="c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圆角矩形 4"/>
          <p:cNvSpPr/>
          <p:nvPr/>
        </p:nvSpPr>
        <p:spPr>
          <a:xfrm>
            <a:off x="1870200" y="1290600"/>
            <a:ext cx="8826480" cy="862200"/>
          </a:xfrm>
          <a:prstGeom prst="roundRect">
            <a:avLst>
              <a:gd name="adj" fmla="val 25681"/>
            </a:avLst>
          </a:prstGeom>
          <a:solidFill>
            <a:srgbClr val="f7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组合 2"/>
          <p:cNvGrpSpPr/>
          <p:nvPr/>
        </p:nvGrpSpPr>
        <p:grpSpPr>
          <a:xfrm>
            <a:off x="-598320" y="5764320"/>
            <a:ext cx="13356000" cy="4206600"/>
            <a:chOff x="-598320" y="5764320"/>
            <a:chExt cx="13356000" cy="4206600"/>
          </a:xfrm>
        </p:grpSpPr>
        <p:sp>
          <p:nvSpPr>
            <p:cNvPr id="52" name="任意多边形 20"/>
            <p:cNvSpPr/>
            <p:nvPr/>
          </p:nvSpPr>
          <p:spPr>
            <a:xfrm>
              <a:off x="-306360" y="5764320"/>
              <a:ext cx="13064040" cy="4206600"/>
            </a:xfrm>
            <a:prstGeom prst="pie">
              <a:avLst/>
            </a:prstGeom>
            <a:noFill/>
            <a:ln w="12600">
              <a:solidFill>
                <a:srgbClr val="c00000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任意多边形 21"/>
            <p:cNvSpPr/>
            <p:nvPr/>
          </p:nvSpPr>
          <p:spPr>
            <a:xfrm>
              <a:off x="-598320" y="5764320"/>
              <a:ext cx="13064040" cy="4206600"/>
            </a:xfrm>
            <a:prstGeom prst="pie">
              <a:avLst/>
            </a:prstGeom>
            <a:noFill/>
            <a:ln w="12600">
              <a:solidFill>
                <a:srgbClr val="c00000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任意多边形 15"/>
            <p:cNvSpPr/>
            <p:nvPr/>
          </p:nvSpPr>
          <p:spPr>
            <a:xfrm>
              <a:off x="-306360" y="5811120"/>
              <a:ext cx="12772080" cy="4112640"/>
            </a:xfrm>
            <a:prstGeom prst="pie">
              <a:avLst/>
            </a:prstGeom>
            <a:solidFill>
              <a:srgbClr val="c00000">
                <a:alpha val="12000"/>
              </a:srgbClr>
            </a:solidFill>
            <a:ln w="12600">
              <a:solidFill>
                <a:srgbClr val="c00000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心形 3"/>
          <p:cNvSpPr/>
          <p:nvPr/>
        </p:nvSpPr>
        <p:spPr>
          <a:xfrm rot="1124400">
            <a:off x="1424160" y="871200"/>
            <a:ext cx="1384200" cy="1382760"/>
          </a:xfrm>
          <a:custGeom>
            <a:avLst/>
            <a:gdLst>
              <a:gd name="textAreaLeft" fmla="*/ 325080 w 1384200"/>
              <a:gd name="textAreaRight" fmla="*/ 1058040 w 1384200"/>
              <a:gd name="textAreaTop" fmla="*/ 162360 h 1382760"/>
              <a:gd name="textAreaBottom" fmla="*/ 867240 h 13827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000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心形 51"/>
          <p:cNvSpPr/>
          <p:nvPr/>
        </p:nvSpPr>
        <p:spPr>
          <a:xfrm rot="1124400">
            <a:off x="1618920" y="1173240"/>
            <a:ext cx="993600" cy="995400"/>
          </a:xfrm>
          <a:custGeom>
            <a:avLst/>
            <a:gdLst>
              <a:gd name="textAreaLeft" fmla="*/ 233280 w 993600"/>
              <a:gd name="textAreaRight" fmla="*/ 759600 w 993600"/>
              <a:gd name="textAreaTop" fmla="*/ 117000 h 995400"/>
              <a:gd name="textAreaBottom" fmla="*/ 624240 h 995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68"/>
          <p:cNvSpPr/>
          <p:nvPr/>
        </p:nvSpPr>
        <p:spPr>
          <a:xfrm>
            <a:off x="1870200" y="2755800"/>
            <a:ext cx="8826480" cy="862200"/>
          </a:xfrm>
          <a:prstGeom prst="roundRect">
            <a:avLst>
              <a:gd name="adj" fmla="val 25681"/>
            </a:avLst>
          </a:prstGeom>
          <a:solidFill>
            <a:srgbClr val="f7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心形 69"/>
          <p:cNvSpPr/>
          <p:nvPr/>
        </p:nvSpPr>
        <p:spPr>
          <a:xfrm rot="1124400">
            <a:off x="1423800" y="2336400"/>
            <a:ext cx="1384200" cy="1384200"/>
          </a:xfrm>
          <a:custGeom>
            <a:avLst/>
            <a:gdLst>
              <a:gd name="textAreaLeft" fmla="*/ 325080 w 1384200"/>
              <a:gd name="textAreaRight" fmla="*/ 1058040 w 1384200"/>
              <a:gd name="textAreaTop" fmla="*/ 162720 h 1384200"/>
              <a:gd name="textAreaBottom" fmla="*/ 868320 h 1384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000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心形 70"/>
          <p:cNvSpPr/>
          <p:nvPr/>
        </p:nvSpPr>
        <p:spPr>
          <a:xfrm rot="1124400">
            <a:off x="1618920" y="2638440"/>
            <a:ext cx="993600" cy="995400"/>
          </a:xfrm>
          <a:custGeom>
            <a:avLst/>
            <a:gdLst>
              <a:gd name="textAreaLeft" fmla="*/ 233280 w 993600"/>
              <a:gd name="textAreaRight" fmla="*/ 759600 w 993600"/>
              <a:gd name="textAreaTop" fmla="*/ 117000 h 995400"/>
              <a:gd name="textAreaBottom" fmla="*/ 624240 h 995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71"/>
          <p:cNvSpPr/>
          <p:nvPr/>
        </p:nvSpPr>
        <p:spPr>
          <a:xfrm>
            <a:off x="1870200" y="4222800"/>
            <a:ext cx="8826480" cy="860400"/>
          </a:xfrm>
          <a:prstGeom prst="roundRect">
            <a:avLst>
              <a:gd name="adj" fmla="val 25681"/>
            </a:avLst>
          </a:prstGeom>
          <a:solidFill>
            <a:srgbClr val="f7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心形 72"/>
          <p:cNvSpPr/>
          <p:nvPr/>
        </p:nvSpPr>
        <p:spPr>
          <a:xfrm rot="1124400">
            <a:off x="1423800" y="3803400"/>
            <a:ext cx="1384200" cy="1384200"/>
          </a:xfrm>
          <a:custGeom>
            <a:avLst/>
            <a:gdLst>
              <a:gd name="textAreaLeft" fmla="*/ 325080 w 1384200"/>
              <a:gd name="textAreaRight" fmla="*/ 1058040 w 1384200"/>
              <a:gd name="textAreaTop" fmla="*/ 162720 h 1384200"/>
              <a:gd name="textAreaBottom" fmla="*/ 868320 h 1384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000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心形 73"/>
          <p:cNvSpPr/>
          <p:nvPr/>
        </p:nvSpPr>
        <p:spPr>
          <a:xfrm rot="1124400">
            <a:off x="1618920" y="4105440"/>
            <a:ext cx="993600" cy="995040"/>
          </a:xfrm>
          <a:custGeom>
            <a:avLst/>
            <a:gdLst>
              <a:gd name="textAreaLeft" fmla="*/ 233280 w 993600"/>
              <a:gd name="textAreaRight" fmla="*/ 759600 w 993600"/>
              <a:gd name="textAreaTop" fmla="*/ 117000 h 995040"/>
              <a:gd name="textAreaBottom" fmla="*/ 624240 h 9950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3" descr=""/>
          <p:cNvPicPr/>
          <p:nvPr/>
        </p:nvPicPr>
        <p:blipFill>
          <a:blip r:embed="rId1"/>
          <a:stretch/>
        </p:blipFill>
        <p:spPr>
          <a:xfrm>
            <a:off x="-55440" y="-31680"/>
            <a:ext cx="12303000" cy="6923160"/>
          </a:xfrm>
          <a:prstGeom prst="rect">
            <a:avLst/>
          </a:prstGeom>
          <a:ln w="0">
            <a:noFill/>
          </a:ln>
        </p:spPr>
      </p:pic>
      <p:grpSp>
        <p:nvGrpSpPr>
          <p:cNvPr id="64" name="组合 10"/>
          <p:cNvGrpSpPr/>
          <p:nvPr/>
        </p:nvGrpSpPr>
        <p:grpSpPr>
          <a:xfrm>
            <a:off x="-461880" y="-3844800"/>
            <a:ext cx="13117680" cy="7273800"/>
            <a:chOff x="-461880" y="-3844800"/>
            <a:chExt cx="13117680" cy="7273800"/>
          </a:xfrm>
        </p:grpSpPr>
        <p:sp>
          <p:nvSpPr>
            <p:cNvPr id="65" name="任意多边形 6"/>
            <p:cNvSpPr/>
            <p:nvPr/>
          </p:nvSpPr>
          <p:spPr>
            <a:xfrm>
              <a:off x="-174960" y="-3763440"/>
              <a:ext cx="12544200" cy="7111440"/>
            </a:xfrm>
            <a:prstGeom prst="pie">
              <a:avLst/>
            </a:prstGeom>
            <a:solidFill>
              <a:srgbClr val="ffffff">
                <a:alpha val="56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任意多边形 7"/>
            <p:cNvSpPr/>
            <p:nvPr/>
          </p:nvSpPr>
          <p:spPr>
            <a:xfrm>
              <a:off x="-174960" y="-3844800"/>
              <a:ext cx="12830760" cy="72738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任意多边形 8"/>
            <p:cNvSpPr/>
            <p:nvPr/>
          </p:nvSpPr>
          <p:spPr>
            <a:xfrm>
              <a:off x="-461880" y="-3844800"/>
              <a:ext cx="12830760" cy="72738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1"/>
          <p:cNvSpPr/>
          <p:nvPr/>
        </p:nvSpPr>
        <p:spPr>
          <a:xfrm>
            <a:off x="-44280" y="4762440"/>
            <a:ext cx="12236400" cy="2095560"/>
          </a:xfrm>
          <a:prstGeom prst="rect">
            <a:avLst/>
          </a:prstGeom>
          <a:solidFill>
            <a:srgbClr val="fcea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3" descr=""/>
          <p:cNvPicPr/>
          <p:nvPr/>
        </p:nvPicPr>
        <p:blipFill>
          <a:blip r:embed="rId1"/>
          <a:stretch/>
        </p:blipFill>
        <p:spPr>
          <a:xfrm>
            <a:off x="-55440" y="-1135080"/>
            <a:ext cx="12303000" cy="6923160"/>
          </a:xfrm>
          <a:prstGeom prst="rect">
            <a:avLst/>
          </a:prstGeom>
          <a:ln w="0">
            <a:noFill/>
          </a:ln>
        </p:spPr>
      </p:pic>
      <p:grpSp>
        <p:nvGrpSpPr>
          <p:cNvPr id="70" name="组合 10"/>
          <p:cNvGrpSpPr/>
          <p:nvPr/>
        </p:nvGrpSpPr>
        <p:grpSpPr>
          <a:xfrm>
            <a:off x="-331920" y="4122720"/>
            <a:ext cx="13118040" cy="7275600"/>
            <a:chOff x="-331920" y="4122720"/>
            <a:chExt cx="13118040" cy="7275600"/>
          </a:xfrm>
        </p:grpSpPr>
        <p:sp>
          <p:nvSpPr>
            <p:cNvPr id="71" name="任意多边形 6"/>
            <p:cNvSpPr/>
            <p:nvPr/>
          </p:nvSpPr>
          <p:spPr>
            <a:xfrm>
              <a:off x="-45000" y="4203720"/>
              <a:ext cx="12544560" cy="7113240"/>
            </a:xfrm>
            <a:prstGeom prst="pie">
              <a:avLst/>
            </a:prstGeom>
            <a:solidFill>
              <a:srgbClr val="ffffff">
                <a:alpha val="56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任意多边形 7"/>
            <p:cNvSpPr/>
            <p:nvPr/>
          </p:nvSpPr>
          <p:spPr>
            <a:xfrm>
              <a:off x="-45000" y="4122720"/>
              <a:ext cx="12831120" cy="72756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任意多边形 8"/>
            <p:cNvSpPr/>
            <p:nvPr/>
          </p:nvSpPr>
          <p:spPr>
            <a:xfrm>
              <a:off x="-331920" y="4122720"/>
              <a:ext cx="12831120" cy="72756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E0E6-A7B7-4E22-84E3-04527D385E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任意多边形 13"/>
          <p:cNvSpPr/>
          <p:nvPr/>
        </p:nvSpPr>
        <p:spPr>
          <a:xfrm>
            <a:off x="-44280" y="0"/>
            <a:ext cx="12236400" cy="3581280"/>
          </a:xfrm>
          <a:prstGeom prst="pie">
            <a:avLst/>
          </a:prstGeom>
          <a:solidFill>
            <a:srgbClr val="ffffff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11"/>
          <p:cNvSpPr/>
          <p:nvPr/>
        </p:nvSpPr>
        <p:spPr>
          <a:xfrm>
            <a:off x="-44280" y="0"/>
            <a:ext cx="12236400" cy="6858000"/>
          </a:xfrm>
          <a:prstGeom prst="pie">
            <a:avLst/>
          </a:prstGeom>
          <a:solidFill>
            <a:srgbClr val="fcea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心形 2"/>
          <p:cNvSpPr/>
          <p:nvPr/>
        </p:nvSpPr>
        <p:spPr>
          <a:xfrm>
            <a:off x="3540240" y="1181160"/>
            <a:ext cx="5067360" cy="4495680"/>
          </a:xfrm>
          <a:custGeom>
            <a:avLst/>
            <a:gdLst>
              <a:gd name="textAreaLeft" fmla="*/ 1190880 w 5067360"/>
              <a:gd name="textAreaRight" fmla="*/ 3872880 w 5067360"/>
              <a:gd name="textAreaTop" fmla="*/ 528480 h 4495680"/>
              <a:gd name="textAreaBottom" fmla="*/ 2819880 h 44956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4"/>
          <p:cNvSpPr/>
          <p:nvPr/>
        </p:nvSpPr>
        <p:spPr>
          <a:xfrm>
            <a:off x="4280400" y="2874960"/>
            <a:ext cx="3585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THANK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2T09:59:00Z</dcterms:created>
  <dc:creator>pc</dc:creator>
  <dc:description>www.eeppt.com;</dc:description>
  <cp:keywords>www.eeppt.com</cp:keywords>
  <dc:language>en-US</dc:language>
  <cp:lastModifiedBy>YANGS-PC</cp:lastModifiedBy>
  <dcterms:modified xsi:type="dcterms:W3CDTF">2015-09-18T13:16:32Z</dcterms:modified>
  <cp:revision>53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