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831-1512-4560-BDDB-36982DFC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184-E147-42C9-B03F-A3449A9A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F38-9F93-4AAC-9FFE-530FA1CE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3E3-D951-460B-BD9E-B095F266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3CE0-DB2B-4ECA-B26E-C97E66DF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3213-8760-4747-BC0B-1FE7A3D3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F75F-D82E-4514-A76F-A63CAA79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756C-015D-43EE-B7EA-0A18A22E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9B84-9D1D-4BCF-B8AB-832C333B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BB84-0BDC-4C5A-8310-B8795B8B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B439-FC6B-4D6F-96BF-DA7D423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8CA-814A-4E87-961C-7C4830A1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C00A-4483-4E61-9AEB-561B12D2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F01C-6AF1-4D4A-BA65-A3FAF8B5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A97F-E6BD-4736-8B87-9A3D2EE0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A942-B356-4D9A-91A1-5B23135F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82A7-DAD9-434B-88D7-AABDB3B1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97D-A5F8-44A6-8A3F-5DB9E280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BC9-8087-4784-A9B5-DDC755DB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6F2-4EEB-4260-A18E-EDFC3E58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9F2-C200-4C51-91C1-8F8B04C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E82-259A-4C42-901E-940C7B15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0DC-896F-4E95-A765-78FB3AA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8AF-9E2E-4B5F-BB13-9F27CA7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82EB-4DB3-484A-896C-C1F9F0E4AB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倩简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11E7-5E36-4E6B-B9E6-6B6A26EE83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1917720"/>
            <a:ext cx="2952720" cy="29527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d0000"/>
              </a:gs>
            </a:gsLst>
            <a:lin ang="13500000"/>
          </a:gra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倩简体"/>
              </a:rPr>
              <a:t>年终工作总结</a:t>
            </a:r>
            <a:r>
              <a:rPr b="0" lang="en-US" sz="4000" spc="-1" strike="noStrike">
                <a:solidFill>
                  <a:srgbClr val="000000"/>
                </a:solidFill>
                <a:latin typeface="方正粗倩简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粗倩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方正粗倩简体"/>
            </a:endParaRPr>
          </a:p>
        </p:txBody>
      </p:sp>
      <p:pic>
        <p:nvPicPr>
          <p:cNvPr id="84" name="标题 3" descr=""/>
          <p:cNvPicPr/>
          <p:nvPr/>
        </p:nvPicPr>
        <p:blipFill>
          <a:blip r:embed="rId2"/>
          <a:stretch/>
        </p:blipFill>
        <p:spPr>
          <a:xfrm>
            <a:off x="826920" y="2416320"/>
            <a:ext cx="2121120" cy="18046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>
            <a:off x="3652920" y="1844640"/>
            <a:ext cx="4071960" cy="7142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篇：昨日 成绩斐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4173480" y="3130560"/>
            <a:ext cx="4000680" cy="71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0f6f0"/>
              </a:gs>
              <a:gs pos="100000">
                <a:srgbClr val="fcf8e3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思篇：今朝 共励并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3692520" y="4427640"/>
            <a:ext cx="4032360" cy="703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0f6f0"/>
              </a:gs>
              <a:gs pos="100000">
                <a:srgbClr val="e4f3e1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篇：未来 任重道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5280" y="2766960"/>
            <a:ext cx="9178920" cy="1171080"/>
          </a:xfrm>
          <a:prstGeom prst="rect">
            <a:avLst/>
          </a:prstGeom>
          <a:solidFill>
            <a:srgbClr val="ffcc00">
              <a:alpha val="52000"/>
            </a:srgbClr>
          </a:solidFill>
          <a:ln w="28440">
            <a:solidFill>
              <a:srgbClr val="800000"/>
            </a:solidFill>
            <a:miter/>
          </a:ln>
        </p:spPr>
        <p:txBody>
          <a:bodyPr lIns="104040" rIns="10404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5"/>
          <p:cNvSpPr/>
          <p:nvPr/>
        </p:nvSpPr>
        <p:spPr>
          <a:xfrm>
            <a:off x="282600" y="214200"/>
            <a:ext cx="4073400" cy="7146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篇：昨日 成绩斐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6" descr="02"/>
          <p:cNvPicPr/>
          <p:nvPr/>
        </p:nvPicPr>
        <p:blipFill>
          <a:blip r:embed="rId2"/>
          <a:stretch/>
        </p:blipFill>
        <p:spPr>
          <a:xfrm rot="14690400">
            <a:off x="7525800" y="181080"/>
            <a:ext cx="1067040" cy="1047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02"/>
          <p:cNvPicPr/>
          <p:nvPr/>
        </p:nvPicPr>
        <p:blipFill>
          <a:blip r:embed="rId3"/>
          <a:stretch/>
        </p:blipFill>
        <p:spPr>
          <a:xfrm>
            <a:off x="7997760" y="633240"/>
            <a:ext cx="12859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6"/>
          <p:cNvSpPr/>
          <p:nvPr/>
        </p:nvSpPr>
        <p:spPr>
          <a:xfrm>
            <a:off x="179280" y="189000"/>
            <a:ext cx="4000680" cy="71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0f6f0"/>
              </a:gs>
              <a:gs pos="100000">
                <a:srgbClr val="fcf8e3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思篇：今朝 共励并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8"/>
          <p:cNvSpPr/>
          <p:nvPr/>
        </p:nvSpPr>
        <p:spPr>
          <a:xfrm>
            <a:off x="179280" y="189000"/>
            <a:ext cx="4032360" cy="703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0f6f0"/>
              </a:gs>
              <a:gs pos="100000">
                <a:srgbClr val="e4f3e1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篇：未来 任重道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粗倩简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pic>
        <p:nvPicPr>
          <p:cNvPr id="97" name="内容占位符 2" descr=""/>
          <p:cNvPicPr/>
          <p:nvPr/>
        </p:nvPicPr>
        <p:blipFill>
          <a:blip r:embed="rId2"/>
          <a:stretch/>
        </p:blipFill>
        <p:spPr>
          <a:xfrm>
            <a:off x="285840" y="1504800"/>
            <a:ext cx="8407440" cy="33958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3" descr=""/>
          <p:cNvPicPr/>
          <p:nvPr/>
        </p:nvPicPr>
        <p:blipFill>
          <a:blip r:embed="rId3"/>
          <a:stretch/>
        </p:blipFill>
        <p:spPr>
          <a:xfrm>
            <a:off x="1133640" y="2828880"/>
            <a:ext cx="67309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粗倩简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CC9-7174-4FD3-9C8E-D135AE65C7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9" descr="帷幕右.png"/>
          <p:cNvPicPr/>
          <p:nvPr/>
        </p:nvPicPr>
        <p:blipFill>
          <a:blip r:embed="rId2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8" descr="帷幕左.png"/>
          <p:cNvPicPr/>
          <p:nvPr/>
        </p:nvPicPr>
        <p:blipFill>
          <a:blip r:embed="rId3"/>
          <a:stretch/>
        </p:blipFill>
        <p:spPr>
          <a:xfrm>
            <a:off x="-69840" y="0"/>
            <a:ext cx="557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1682640" y="2419200"/>
            <a:ext cx="5845320" cy="1798920"/>
            <a:chOff x="1682640" y="2419200"/>
            <a:chExt cx="5845320" cy="1798920"/>
          </a:xfrm>
        </p:grpSpPr>
        <p:pic>
          <p:nvPicPr>
            <p:cNvPr id="105" name="标题 3" descr=""/>
            <p:cNvPicPr/>
            <p:nvPr/>
          </p:nvPicPr>
          <p:blipFill>
            <a:blip r:embed="rId4"/>
            <a:stretch/>
          </p:blipFill>
          <p:spPr>
            <a:xfrm>
              <a:off x="1682640" y="2419200"/>
              <a:ext cx="584532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1682640" y="2419200"/>
              <a:ext cx="5845320" cy="17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方正粗倩简体"/>
              </a:endParaRPr>
            </a:p>
          </p:txBody>
        </p:sp>
      </p:grpSp>
      <p:pic>
        <p:nvPicPr>
          <p:cNvPr id="107" name="矩形 10" descr=""/>
          <p:cNvPicPr/>
          <p:nvPr/>
        </p:nvPicPr>
        <p:blipFill>
          <a:blip r:embed="rId5"/>
          <a:stretch/>
        </p:blipFill>
        <p:spPr>
          <a:xfrm>
            <a:off x="2419200" y="2955960"/>
            <a:ext cx="4584960" cy="1116000"/>
          </a:xfrm>
          <a:prstGeom prst="rect">
            <a:avLst/>
          </a:prstGeom>
          <a:ln w="0">
            <a:noFill/>
          </a:ln>
        </p:spPr>
      </p:pic>
      <p:pic>
        <p:nvPicPr>
          <p:cNvPr id="108" name="结束飞的更高.mp3" descr=""/>
          <p:cNvPicPr/>
          <p:nvPr/>
        </p:nvPicPr>
        <p:blipFill>
          <a:blip r:embed="rId6"/>
          <a:stretch/>
        </p:blipFill>
        <p:spPr>
          <a:xfrm>
            <a:off x="3857760" y="3214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5:02:08Z</dcterms:created>
  <dc:creator>幻灯片之家：www.eeppt.com; Peng QiDong</dc:creator>
  <dc:description>幻灯片之家：www.eeppt.com</dc:description>
  <cp:keywords>幻灯片之家：www.eeppt.com; 2009工作总结</cp:keywords>
  <dc:language>en-US</dc:language>
  <cp:lastModifiedBy>User</cp:lastModifiedBy>
  <dcterms:modified xsi:type="dcterms:W3CDTF">2015-09-18T13:19:37Z</dcterms:modified>
  <cp:revision>2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900b000000000001024120</vt:lpwstr>
  </property>
</Properties>
</file>