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C15-7982-43B7-8E7D-C580C4F5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FAE-F9AA-4E9F-9E5A-025FFBB7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6108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5A27-AD07-4D1E-9608-4BB8E1F7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884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204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7884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204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830-2C36-47A2-B2CB-70CAC7E2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E4C3-DA48-4A01-978E-798FDE31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FDB0-D819-4F8C-9E1E-AB277016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890E-8C20-4376-A0CB-764D7AD4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695E-7DBE-4012-BF59-B7077C3D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4712-9B96-4A11-A3F6-1391ACA1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2743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0413-9D90-4D8C-820C-D8E4E5E1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E6DB-7207-403A-BB68-60BFCF2E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729-FDC9-4E0C-BD57-F7452A3E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6108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1A3C-448F-40F6-BBEA-43055229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43AB-9C8A-4AA3-8917-0F135C2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A462-F914-4775-A0F3-5A0BA591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6108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DE15-23EB-408D-A10D-9A39A74C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884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204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7884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204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F01A-EF0E-4986-BEFB-8E25AD9B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426-CB48-402C-A997-7F5929FA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CE0-E531-41D1-804E-D6CA2922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54C-F1C5-40DD-A164-CC8B63F4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2743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B83-C77C-418D-A912-D023AEDE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7D2-323F-40DD-BF53-7534FBD3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108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F46-0EBE-4126-ACD2-0D59C90C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211-C315-4D1C-83BF-8A6586D3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132F-1BF7-48AE-A6B9-2C0CC291B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09320" y="152388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701A-B001-49FB-B04F-0646BBDC5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685800" y="1285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女子排球体育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371600" y="2886120"/>
            <a:ext cx="6400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添加副标题或公司署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0419-53F5-4284-8168-CC8D31F8A0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6521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：www.eeppt.com</dc:creator>
  <dc:description>幻灯片之家：www.eeppt.com</dc:description>
  <cp:keywords>幻灯片之家：www.eeppt.com</cp:keywords>
  <dc:language>en-US</dc:language>
  <cp:lastModifiedBy> </cp:lastModifiedBy>
  <dcterms:modified xsi:type="dcterms:W3CDTF">2015-09-18T13:19:07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