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1B5F-19F0-43F2-A7DA-B18736BC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E6D-7C0C-468E-B35F-DE8F2993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CCC-E7A6-47F6-B4CD-60933F4F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4BB-22E5-4568-8B74-C809D03F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DC0A-6AFF-4C6F-950C-711CC26D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B49-B50B-42A6-BDDD-694C7668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070E-603F-46E6-A031-EC54497F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621-ACC6-4139-A20C-67D9A996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5774-543D-4546-8F7E-A2804054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A84-CD35-40DC-A9D9-90B3949D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D69-96DB-4E7A-A7AD-DF684AAC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E315-3AF1-4851-A7D6-918981F6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9E12-9905-4714-86C8-8B146BD83EC7}" type="slidenum">
              <a:rPr b="0" lang="zh-CN" sz="4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9960" y="634680"/>
            <a:ext cx="77292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欧风花纹背景足球主题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93920" y="1701720"/>
            <a:ext cx="742608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C29-7C1D-4206-8683-367D94B0EB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ackslash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301680" y="559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05:56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16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