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9A6-49EC-4EF0-B2A7-7EE15710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BED-8921-4859-86CF-CDECBA9B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195-78C8-4996-A010-1ED75C74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8AF-9463-40E5-9B88-E9FA1E0F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DEC-9352-465B-845B-A9BE156E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B6F-671B-46C1-B220-94167422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53F-55E6-49F8-A521-8E912C58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386-19EE-44CF-A762-3687420C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5AD-B49F-4EDD-90D1-D9BB7FD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454-6261-473B-9B02-ED5C664A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53B-D800-4644-A383-473E0E64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940-C91D-4F3F-8679-4C10D8E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2460-7386-459D-B617-9C4C950E1E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8BD-7D43-4C48-8F48-FBC512C011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4902840" y="5079960"/>
            <a:ext cx="30852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394c"/>
                </a:solidFill>
                <a:latin typeface="微软雅黑"/>
              </a:rPr>
              <a:t>WorkInspi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4"/>
          <p:cNvSpPr/>
          <p:nvPr/>
        </p:nvSpPr>
        <p:spPr>
          <a:xfrm>
            <a:off x="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1520" y="9296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19400" y="18288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欧美创意风格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724680" y="8166240"/>
            <a:ext cx="70898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ols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novati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de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77840" y="0"/>
            <a:ext cx="12826800" cy="7327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684720" y="8255160"/>
            <a:ext cx="98330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dventurer,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olver,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ion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760320" y="8255160"/>
            <a:ext cx="82674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at?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ea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land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4193640" y="3708360"/>
            <a:ext cx="87415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e4e4e"/>
                </a:solidFill>
                <a:latin typeface="微软雅黑"/>
              </a:rPr>
              <a:t>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700" spc="-1" strike="noStrike">
                <a:solidFill>
                  <a:srgbClr val="4e4e4e"/>
                </a:solidFill>
                <a:latin typeface="微软雅黑"/>
              </a:rPr>
              <a:t>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360" y="270000"/>
            <a:ext cx="116730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3720" y="1806480"/>
            <a:ext cx="12696840" cy="74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0363320" y="474840"/>
            <a:ext cx="1976400" cy="496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599-EE8B-44D7-AF1D-DA7BBD70AF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667440" y="8255160"/>
            <a:ext cx="50389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gether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sp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05600" y="8255160"/>
            <a:ext cx="680688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row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8102520" y="9220320"/>
            <a:ext cx="490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"/>
          <p:cNvSpPr/>
          <p:nvPr/>
        </p:nvSpPr>
        <p:spPr>
          <a:xfrm>
            <a:off x="0" y="5511960"/>
            <a:ext cx="13004640" cy="4241520"/>
          </a:xfrm>
          <a:prstGeom prst="pie">
            <a:avLst/>
          </a:prstGeom>
          <a:solidFill>
            <a:srgbClr val="544a5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7327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77160" y="8178840"/>
            <a:ext cx="54529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es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co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3"/>
          <p:cNvSpPr/>
          <p:nvPr/>
        </p:nvSpPr>
        <p:spPr>
          <a:xfrm>
            <a:off x="0" y="5511960"/>
            <a:ext cx="13004640" cy="4241520"/>
          </a:xfrm>
          <a:prstGeom prst="pie">
            <a:avLst/>
          </a:prstGeom>
          <a:solidFill>
            <a:srgbClr val="544a5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7327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888840" y="8255160"/>
            <a:ext cx="102571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t’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tuck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olated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ost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rgotten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lowl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725400" y="8255160"/>
            <a:ext cx="80103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ethod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710640" y="8255160"/>
            <a:ext cx="758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spir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xp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775080" y="8255160"/>
            <a:ext cx="106603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ea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t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eo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13880" y="8255160"/>
            <a:ext cx="82015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plac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pan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lobe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llow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856800" y="8255160"/>
            <a:ext cx="80604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05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