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C998-07E2-4556-90CE-6ADC34C1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AF5-7C65-4231-B8EA-A7F0349F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0B3-485B-4BC9-BE04-B560C1FE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F43-BDB4-46E6-B200-2A0A7422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8194-A90C-492E-8123-BF78F224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3085-2A4A-465B-A8A6-80F5721F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50A4-3E5F-40EB-8B08-2E4BFADE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3157-8882-4561-BD43-66364992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D825-9506-41B9-B7FE-05DB551E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52D7-55D8-496E-9087-EA64CBE0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3261-6147-46F5-A2AD-6922F496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6955-1226-48C2-B5A3-37A2FCF4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12E1-9DD3-4453-BF81-244302AD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46E2-B985-4030-91E1-A4191FB9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A769-7CA0-4B35-9236-C97A6397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DB68-4CC8-45F3-8C39-A5E359A4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FA63-BFDA-4141-A38B-20C3AA3C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E62-E45F-4029-B31B-B7F3FC32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0BC-9258-484C-A2C8-0D3CA6E6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DCB-D075-4FAC-9177-355AFE2C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26B6-C118-4908-A0A5-3A4E88CE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2F41-6D18-4AB5-A5CC-7EF8F844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372-9BD8-466A-A545-DFFB7382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CFF-20CA-4724-BD8C-1C69E0C3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CD911C-F176-426E-B222-AB1991E7D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D53B8B-7E89-4166-8CBA-BC06A40AA1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95560" y="2883960"/>
            <a:ext cx="82915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950e"/>
                </a:solidFill>
                <a:latin typeface="Arial"/>
                <a:ea typeface="宋体"/>
              </a:rPr>
              <a:t>Insert Presentation Title Here</a:t>
            </a:r>
            <a:br>
              <a:rPr sz="4400"/>
            </a:b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Insert Presentation Summary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页脚占位符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66720" y="1692360"/>
            <a:ext cx="5067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欧美儿童卡通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Oval 1"/>
          <p:cNvSpPr/>
          <p:nvPr/>
        </p:nvSpPr>
        <p:spPr>
          <a:xfrm>
            <a:off x="3782880" y="3605040"/>
            <a:ext cx="987480" cy="987480"/>
          </a:xfrm>
          <a:prstGeom prst="ellipse">
            <a:avLst/>
          </a:prstGeom>
          <a:gradFill rotWithShape="0">
            <a:gsLst>
              <a:gs pos="0">
                <a:srgbClr val="d0edde"/>
              </a:gs>
              <a:gs pos="100000">
                <a:srgbClr val="83d8b9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2"/>
          <p:cNvSpPr/>
          <p:nvPr/>
        </p:nvSpPr>
        <p:spPr>
          <a:xfrm>
            <a:off x="984240" y="3605040"/>
            <a:ext cx="987480" cy="987480"/>
          </a:xfrm>
          <a:prstGeom prst="ellipse">
            <a:avLst/>
          </a:prstGeom>
          <a:gradFill rotWithShape="0">
            <a:gsLst>
              <a:gs pos="0">
                <a:srgbClr val="d0edde"/>
              </a:gs>
              <a:gs pos="100000">
                <a:srgbClr val="83d8b9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3"/>
          <p:cNvSpPr/>
          <p:nvPr/>
        </p:nvSpPr>
        <p:spPr>
          <a:xfrm>
            <a:off x="2384280" y="2244600"/>
            <a:ext cx="987480" cy="987480"/>
          </a:xfrm>
          <a:prstGeom prst="ellipse">
            <a:avLst/>
          </a:prstGeom>
          <a:gradFill rotWithShape="0">
            <a:gsLst>
              <a:gs pos="0">
                <a:srgbClr val="d0edde"/>
              </a:gs>
              <a:gs pos="100000">
                <a:srgbClr val="83d8b9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2382840" y="3605040"/>
            <a:ext cx="987480" cy="987480"/>
          </a:xfrm>
          <a:prstGeom prst="ellipse">
            <a:avLst/>
          </a:prstGeom>
          <a:gradFill rotWithShape="0">
            <a:gsLst>
              <a:gs pos="0">
                <a:srgbClr val="8bd8d4"/>
              </a:gs>
              <a:gs pos="100000">
                <a:srgbClr val="009a94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009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AutoShape 5"/>
          <p:cNvCxnSpPr>
            <a:stCxn id="247" idx="6"/>
            <a:endCxn id="244" idx="2"/>
          </p:cNvCxnSpPr>
          <p:nvPr/>
        </p:nvCxnSpPr>
        <p:spPr>
          <a:xfrm>
            <a:off x="3370320" y="4098960"/>
            <a:ext cx="413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AutoShape 6"/>
          <p:cNvCxnSpPr>
            <a:stCxn id="247" idx="2"/>
            <a:endCxn id="245" idx="6"/>
          </p:cNvCxnSpPr>
          <p:nvPr/>
        </p:nvCxnSpPr>
        <p:spPr>
          <a:xfrm flipH="1">
            <a:off x="1971360" y="4098960"/>
            <a:ext cx="411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AutoShape 7"/>
          <p:cNvCxnSpPr>
            <a:stCxn id="247" idx="4"/>
            <a:endCxn id="251" idx="0"/>
          </p:cNvCxnSpPr>
          <p:nvPr/>
        </p:nvCxnSpPr>
        <p:spPr>
          <a:xfrm>
            <a:off x="2876040" y="4592160"/>
            <a:ext cx="25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AutoShape 8"/>
          <p:cNvCxnSpPr>
            <a:stCxn id="246" idx="4"/>
            <a:endCxn id="247" idx="0"/>
          </p:cNvCxnSpPr>
          <p:nvPr/>
        </p:nvCxnSpPr>
        <p:spPr>
          <a:xfrm flipV="1" rot="10800000">
            <a:off x="2875680" y="3231720"/>
            <a:ext cx="2520" cy="373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3" name="Oval 9"/>
          <p:cNvSpPr/>
          <p:nvPr/>
        </p:nvSpPr>
        <p:spPr>
          <a:xfrm>
            <a:off x="8109000" y="3605040"/>
            <a:ext cx="987480" cy="987480"/>
          </a:xfrm>
          <a:prstGeom prst="ellipse">
            <a:avLst/>
          </a:prstGeom>
          <a:gradFill rotWithShape="0">
            <a:gsLst>
              <a:gs pos="0">
                <a:srgbClr val="8bd8d4"/>
              </a:gs>
              <a:gs pos="100000">
                <a:srgbClr val="009a94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009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0"/>
          <p:cNvSpPr/>
          <p:nvPr/>
        </p:nvSpPr>
        <p:spPr>
          <a:xfrm>
            <a:off x="5310360" y="3605040"/>
            <a:ext cx="987120" cy="987480"/>
          </a:xfrm>
          <a:prstGeom prst="ellipse">
            <a:avLst/>
          </a:prstGeom>
          <a:gradFill rotWithShape="0">
            <a:gsLst>
              <a:gs pos="0">
                <a:srgbClr val="8bd8d4"/>
              </a:gs>
              <a:gs pos="100000">
                <a:srgbClr val="009a94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009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1"/>
          <p:cNvSpPr/>
          <p:nvPr/>
        </p:nvSpPr>
        <p:spPr>
          <a:xfrm>
            <a:off x="6738840" y="2236680"/>
            <a:ext cx="987480" cy="987480"/>
          </a:xfrm>
          <a:prstGeom prst="ellipse">
            <a:avLst/>
          </a:prstGeom>
          <a:gradFill rotWithShape="0">
            <a:gsLst>
              <a:gs pos="0">
                <a:srgbClr val="8bd8d4"/>
              </a:gs>
              <a:gs pos="100000">
                <a:srgbClr val="009a94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009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2"/>
          <p:cNvSpPr/>
          <p:nvPr/>
        </p:nvSpPr>
        <p:spPr>
          <a:xfrm>
            <a:off x="6738840" y="3605040"/>
            <a:ext cx="987480" cy="987480"/>
          </a:xfrm>
          <a:prstGeom prst="ellipse">
            <a:avLst/>
          </a:prstGeom>
          <a:gradFill rotWithShape="0">
            <a:gsLst>
              <a:gs pos="0">
                <a:srgbClr val="d0edde"/>
              </a:gs>
              <a:gs pos="100000">
                <a:srgbClr val="83d8b9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AutoShape 13"/>
          <p:cNvCxnSpPr>
            <a:stCxn id="256" idx="0"/>
            <a:endCxn id="255" idx="4"/>
          </p:cNvCxnSpPr>
          <p:nvPr/>
        </p:nvCxnSpPr>
        <p:spPr>
          <a:xfrm flipV="1">
            <a:off x="7232760" y="3223800"/>
            <a:ext cx="21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AutoShape 14"/>
          <p:cNvCxnSpPr>
            <a:stCxn id="256" idx="6"/>
            <a:endCxn id="253" idx="2"/>
          </p:cNvCxnSpPr>
          <p:nvPr/>
        </p:nvCxnSpPr>
        <p:spPr>
          <a:xfrm>
            <a:off x="7726320" y="4098960"/>
            <a:ext cx="3816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AutoShape 15"/>
          <p:cNvCxnSpPr>
            <a:stCxn id="256" idx="4"/>
            <a:endCxn id="260" idx="0"/>
          </p:cNvCxnSpPr>
          <p:nvPr/>
        </p:nvCxnSpPr>
        <p:spPr>
          <a:xfrm>
            <a:off x="7232760" y="4592160"/>
            <a:ext cx="21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16"/>
          <p:cNvCxnSpPr>
            <a:stCxn id="256" idx="2"/>
            <a:endCxn id="254" idx="6"/>
          </p:cNvCxnSpPr>
          <p:nvPr/>
        </p:nvCxnSpPr>
        <p:spPr>
          <a:xfrm flipH="1">
            <a:off x="6297120" y="4098960"/>
            <a:ext cx="442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62" name="Group 17"/>
          <p:cNvGrpSpPr/>
          <p:nvPr/>
        </p:nvGrpSpPr>
        <p:grpSpPr>
          <a:xfrm>
            <a:off x="2178000" y="4973760"/>
            <a:ext cx="1420920" cy="1345680"/>
            <a:chOff x="2178000" y="4973760"/>
            <a:chExt cx="1420920" cy="1345680"/>
          </a:xfrm>
        </p:grpSpPr>
        <p:sp>
          <p:nvSpPr>
            <p:cNvPr id="251" name="Oval 18"/>
            <p:cNvSpPr/>
            <p:nvPr/>
          </p:nvSpPr>
          <p:spPr>
            <a:xfrm>
              <a:off x="2382480" y="4973760"/>
              <a:ext cx="986400" cy="986040"/>
            </a:xfrm>
            <a:prstGeom prst="ellips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path path="rect">
                <a:fillToRect l="50000" t="50000" r="50000" b="50000"/>
              </a:path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3" name="Picture 19" descr=""/>
            <p:cNvPicPr/>
            <p:nvPr/>
          </p:nvPicPr>
          <p:blipFill>
            <a:blip r:embed="rId2"/>
            <a:stretch/>
          </p:blipFill>
          <p:spPr>
            <a:xfrm>
              <a:off x="2178000" y="6114960"/>
              <a:ext cx="1420920" cy="20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4" name="Group 20"/>
          <p:cNvGrpSpPr/>
          <p:nvPr/>
        </p:nvGrpSpPr>
        <p:grpSpPr>
          <a:xfrm>
            <a:off x="6532560" y="4973760"/>
            <a:ext cx="1420920" cy="1325160"/>
            <a:chOff x="6532560" y="4973760"/>
            <a:chExt cx="1420920" cy="1325160"/>
          </a:xfrm>
        </p:grpSpPr>
        <p:sp>
          <p:nvSpPr>
            <p:cNvPr id="260" name="Oval 21"/>
            <p:cNvSpPr/>
            <p:nvPr/>
          </p:nvSpPr>
          <p:spPr>
            <a:xfrm>
              <a:off x="6738480" y="4973760"/>
              <a:ext cx="986400" cy="986040"/>
            </a:xfrm>
            <a:prstGeom prst="ellipse">
              <a:avLst/>
            </a:prstGeom>
            <a:gradFill rotWithShape="0">
              <a:gsLst>
                <a:gs pos="0">
                  <a:srgbClr val="8bd8d4"/>
                </a:gs>
                <a:gs pos="100000">
                  <a:srgbClr val="009a94"/>
                </a:gs>
              </a:gsLst>
              <a:path path="rect">
                <a:fillToRect l="50000" t="50000" r="50000" b="50000"/>
              </a:path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Picture 22" descr=""/>
            <p:cNvPicPr/>
            <p:nvPr/>
          </p:nvPicPr>
          <p:blipFill>
            <a:blip r:embed="rId3"/>
            <a:stretch/>
          </p:blipFill>
          <p:spPr>
            <a:xfrm>
              <a:off x="6532560" y="6094440"/>
              <a:ext cx="1420920" cy="20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Text Box 23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页脚占位符 2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1"/>
          <p:cNvSpPr/>
          <p:nvPr/>
        </p:nvSpPr>
        <p:spPr>
          <a:xfrm>
            <a:off x="1449360" y="2432160"/>
            <a:ext cx="7169040" cy="101916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009a94"/>
              </a:gs>
              <a:gs pos="100000">
                <a:srgbClr val="8bd8d4"/>
              </a:gs>
            </a:gsLst>
            <a:lin ang="5400000"/>
          </a:gradFill>
          <a:ln w="28800">
            <a:solidFill>
              <a:srgbClr val="009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"/>
          <p:cNvSpPr/>
          <p:nvPr/>
        </p:nvSpPr>
        <p:spPr>
          <a:xfrm>
            <a:off x="6413400" y="3594240"/>
            <a:ext cx="2205000" cy="104616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f39700"/>
              </a:gs>
              <a:gs pos="100000">
                <a:srgbClr val="ffff00"/>
              </a:gs>
            </a:gsLst>
            <a:lin ang="5400000"/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r>
              <a:rPr b="1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1432080" y="3594240"/>
            <a:ext cx="4746600" cy="104760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f39700"/>
              </a:gs>
              <a:gs pos="100000">
                <a:srgbClr val="ffff00"/>
              </a:gs>
            </a:gsLst>
            <a:lin ang="5400000"/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r>
              <a:rPr b="1" lang="en-US" sz="2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1407960" y="4784760"/>
            <a:ext cx="2297160" cy="1433160"/>
            <a:chOff x="1407960" y="4784760"/>
            <a:chExt cx="2297160" cy="1433160"/>
          </a:xfrm>
        </p:grpSpPr>
        <p:pic>
          <p:nvPicPr>
            <p:cNvPr id="273" name="Picture 5" descr=""/>
            <p:cNvPicPr/>
            <p:nvPr/>
          </p:nvPicPr>
          <p:blipFill>
            <a:blip r:embed="rId2"/>
            <a:stretch/>
          </p:blipFill>
          <p:spPr>
            <a:xfrm>
              <a:off x="1407960" y="5844240"/>
              <a:ext cx="2297160" cy="3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AutoShape 6"/>
            <p:cNvSpPr/>
            <p:nvPr/>
          </p:nvSpPr>
          <p:spPr>
            <a:xfrm>
              <a:off x="1415520" y="4784760"/>
              <a:ext cx="2268720" cy="1045080"/>
            </a:xfrm>
            <a:prstGeom prst="roundRect">
              <a:avLst>
                <a:gd name="adj" fmla="val 11741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r>
                <a:rPr b="1" lang="en-US" sz="22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 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7"/>
          <p:cNvGrpSpPr/>
          <p:nvPr/>
        </p:nvGrpSpPr>
        <p:grpSpPr>
          <a:xfrm>
            <a:off x="3876840" y="4784760"/>
            <a:ext cx="2311200" cy="1426680"/>
            <a:chOff x="3876840" y="4784760"/>
            <a:chExt cx="2311200" cy="1426680"/>
          </a:xfrm>
        </p:grpSpPr>
        <p:pic>
          <p:nvPicPr>
            <p:cNvPr id="276" name="Picture 8" descr=""/>
            <p:cNvPicPr/>
            <p:nvPr/>
          </p:nvPicPr>
          <p:blipFill>
            <a:blip r:embed="rId3"/>
            <a:stretch/>
          </p:blipFill>
          <p:spPr>
            <a:xfrm>
              <a:off x="3876840" y="5837400"/>
              <a:ext cx="231120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AutoShape 9"/>
            <p:cNvSpPr/>
            <p:nvPr/>
          </p:nvSpPr>
          <p:spPr>
            <a:xfrm>
              <a:off x="3895560" y="4784760"/>
              <a:ext cx="2277720" cy="1044720"/>
            </a:xfrm>
            <a:prstGeom prst="roundRect">
              <a:avLst>
                <a:gd name="adj" fmla="val 11741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r>
                <a:rPr b="1" lang="en-US" sz="22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 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10"/>
          <p:cNvGrpSpPr/>
          <p:nvPr/>
        </p:nvGrpSpPr>
        <p:grpSpPr>
          <a:xfrm>
            <a:off x="6396120" y="4784760"/>
            <a:ext cx="2274840" cy="1433160"/>
            <a:chOff x="6396120" y="4784760"/>
            <a:chExt cx="2274840" cy="1433160"/>
          </a:xfrm>
        </p:grpSpPr>
        <p:sp>
          <p:nvSpPr>
            <p:cNvPr id="279" name="AutoShape 11"/>
            <p:cNvSpPr/>
            <p:nvPr/>
          </p:nvSpPr>
          <p:spPr>
            <a:xfrm>
              <a:off x="6413400" y="4784760"/>
              <a:ext cx="2214000" cy="1045080"/>
            </a:xfrm>
            <a:prstGeom prst="roundRect">
              <a:avLst>
                <a:gd name="adj" fmla="val 11741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r>
                <a:rPr b="1" lang="en-US" sz="22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 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0" name="Picture 12" descr=""/>
            <p:cNvPicPr/>
            <p:nvPr/>
          </p:nvPicPr>
          <p:blipFill>
            <a:blip r:embed="rId4"/>
            <a:stretch/>
          </p:blipFill>
          <p:spPr>
            <a:xfrm>
              <a:off x="6396120" y="5844240"/>
              <a:ext cx="2274840" cy="37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Text Box 13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页脚占位符 1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Oval 1"/>
          <p:cNvSpPr/>
          <p:nvPr/>
        </p:nvSpPr>
        <p:spPr>
          <a:xfrm>
            <a:off x="3905280" y="3754440"/>
            <a:ext cx="1168200" cy="11685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39700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"/>
          <p:cNvSpPr/>
          <p:nvPr/>
        </p:nvSpPr>
        <p:spPr>
          <a:xfrm>
            <a:off x="3654360" y="5329080"/>
            <a:ext cx="1168560" cy="11685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39700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"/>
          <p:cNvSpPr/>
          <p:nvPr/>
        </p:nvSpPr>
        <p:spPr>
          <a:xfrm>
            <a:off x="3654360" y="2201760"/>
            <a:ext cx="1168560" cy="11685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39700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5257800" y="2201760"/>
            <a:ext cx="3535200" cy="1117800"/>
          </a:xfrm>
          <a:prstGeom prst="roundRect">
            <a:avLst>
              <a:gd name="adj" fmla="val 8153"/>
            </a:avLst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56400" rIns="86400" tIns="-21600" bIns="-21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lease insert your 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AutoShape 5"/>
          <p:cNvCxnSpPr>
            <a:stCxn id="289" idx="7"/>
            <a:endCxn id="286" idx="2"/>
          </p:cNvCxnSpPr>
          <p:nvPr/>
        </p:nvCxnSpPr>
        <p:spPr>
          <a:xfrm flipV="1">
            <a:off x="2695320" y="2785680"/>
            <a:ext cx="959400" cy="96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6"/>
          <p:cNvCxnSpPr>
            <a:stCxn id="289" idx="5"/>
            <a:endCxn id="285" idx="2"/>
          </p:cNvCxnSpPr>
          <p:nvPr/>
        </p:nvCxnSpPr>
        <p:spPr>
          <a:xfrm>
            <a:off x="2695320" y="4940280"/>
            <a:ext cx="959400" cy="9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1" name="AutoShape 7"/>
          <p:cNvSpPr/>
          <p:nvPr/>
        </p:nvSpPr>
        <p:spPr>
          <a:xfrm>
            <a:off x="5257800" y="3760920"/>
            <a:ext cx="3535200" cy="1122120"/>
          </a:xfrm>
          <a:prstGeom prst="roundRect">
            <a:avLst>
              <a:gd name="adj" fmla="val 8153"/>
            </a:avLst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56400" rIns="86400" tIns="-21600" bIns="-21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lease insert your 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5253120" y="5297400"/>
            <a:ext cx="3568680" cy="1510920"/>
            <a:chOff x="5253120" y="5297400"/>
            <a:chExt cx="3568680" cy="1510920"/>
          </a:xfrm>
        </p:grpSpPr>
        <p:pic>
          <p:nvPicPr>
            <p:cNvPr id="293" name="Picture 9" descr=""/>
            <p:cNvPicPr/>
            <p:nvPr/>
          </p:nvPicPr>
          <p:blipFill>
            <a:blip r:embed="rId2"/>
            <a:stretch/>
          </p:blipFill>
          <p:spPr>
            <a:xfrm>
              <a:off x="5253120" y="6434280"/>
              <a:ext cx="356868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AutoShape 10"/>
            <p:cNvSpPr/>
            <p:nvPr/>
          </p:nvSpPr>
          <p:spPr>
            <a:xfrm>
              <a:off x="5257440" y="5297400"/>
              <a:ext cx="3534120" cy="1116360"/>
            </a:xfrm>
            <a:prstGeom prst="roundRect">
              <a:avLst>
                <a:gd name="adj" fmla="val 8153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56400" rIns="86400" tIns="-21600" bIns="-216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5" name="AutoShape 11"/>
          <p:cNvCxnSpPr>
            <a:stCxn id="289" idx="6"/>
            <a:endCxn id="284" idx="2"/>
          </p:cNvCxnSpPr>
          <p:nvPr/>
        </p:nvCxnSpPr>
        <p:spPr>
          <a:xfrm flipV="1">
            <a:off x="2941200" y="4338000"/>
            <a:ext cx="9644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96" name="Group 12"/>
          <p:cNvGrpSpPr/>
          <p:nvPr/>
        </p:nvGrpSpPr>
        <p:grpSpPr>
          <a:xfrm>
            <a:off x="1257480" y="3502080"/>
            <a:ext cx="1684080" cy="1684440"/>
            <a:chOff x="1257480" y="3502080"/>
            <a:chExt cx="1684080" cy="1684440"/>
          </a:xfrm>
        </p:grpSpPr>
        <p:sp>
          <p:nvSpPr>
            <p:cNvPr id="289" name="Oval 13"/>
            <p:cNvSpPr/>
            <p:nvPr/>
          </p:nvSpPr>
          <p:spPr>
            <a:xfrm>
              <a:off x="1257480" y="3502080"/>
              <a:ext cx="1684080" cy="1684440"/>
            </a:xfrm>
            <a:prstGeom prst="ellipse">
              <a:avLst/>
            </a:prstGeom>
            <a:gradFill rotWithShape="0">
              <a:gsLst>
                <a:gs pos="0">
                  <a:srgbClr val="8bd8d4"/>
                </a:gs>
                <a:gs pos="100000">
                  <a:srgbClr val="009a94"/>
                </a:gs>
              </a:gsLst>
              <a:path path="rect">
                <a:fillToRect l="50000" t="50000" r="50000" b="50000"/>
              </a:path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1400" bIns="41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 Box 14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页脚占位符 16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1"/>
          <p:cNvSpPr/>
          <p:nvPr/>
        </p:nvSpPr>
        <p:spPr>
          <a:xfrm>
            <a:off x="4300560" y="2255760"/>
            <a:ext cx="4683240" cy="1111320"/>
          </a:xfrm>
          <a:prstGeom prst="pie">
            <a:avLst/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  <a:ea typeface="仿宋_GB2312"/>
              </a:rPr>
              <a:t>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2"/>
          <p:cNvSpPr/>
          <p:nvPr/>
        </p:nvSpPr>
        <p:spPr>
          <a:xfrm flipV="1">
            <a:off x="1096920" y="5431680"/>
            <a:ext cx="4683240" cy="1111320"/>
          </a:xfrm>
          <a:prstGeom prst="pie">
            <a:avLst/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"/>
          <p:cNvSpPr/>
          <p:nvPr/>
        </p:nvSpPr>
        <p:spPr>
          <a:xfrm>
            <a:off x="4965840" y="3467160"/>
            <a:ext cx="3369960" cy="1079280"/>
          </a:xfrm>
          <a:prstGeom prst="pie">
            <a:avLst/>
          </a:prstGeom>
          <a:gradFill rotWithShape="0">
            <a:gsLst>
              <a:gs pos="0">
                <a:srgbClr val="f39700"/>
              </a:gs>
              <a:gs pos="100000">
                <a:srgbClr val="ffff00"/>
              </a:gs>
            </a:gsLst>
            <a:lin ang="5400000"/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  <a:ea typeface="仿宋_GB2312"/>
              </a:rPr>
              <a:t>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"/>
          <p:cNvSpPr/>
          <p:nvPr/>
        </p:nvSpPr>
        <p:spPr>
          <a:xfrm flipV="1">
            <a:off x="1762200" y="4266360"/>
            <a:ext cx="3370320" cy="1079640"/>
          </a:xfrm>
          <a:prstGeom prst="pie">
            <a:avLst/>
          </a:prstGeom>
          <a:gradFill rotWithShape="0">
            <a:gsLst>
              <a:gs pos="0">
                <a:srgbClr val="f39700"/>
              </a:gs>
              <a:gs pos="100000">
                <a:srgbClr val="ffff00"/>
              </a:gs>
            </a:gsLst>
            <a:lin ang="5400000"/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2724120" y="4624560"/>
            <a:ext cx="1473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  <a:ea typeface="仿宋_GB2312"/>
              </a:rPr>
              <a:t>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6"/>
          <p:cNvSpPr/>
          <p:nvPr/>
        </p:nvSpPr>
        <p:spPr>
          <a:xfrm flipV="1">
            <a:off x="5594400" y="4630680"/>
            <a:ext cx="2128680" cy="1928880"/>
          </a:xfrm>
          <a:prstGeom prst="triangle">
            <a:avLst>
              <a:gd name="adj" fmla="val 50023"/>
            </a:avLst>
          </a:prstGeom>
          <a:gradFill rotWithShape="0">
            <a:gsLst>
              <a:gs pos="0">
                <a:srgbClr val="009a94"/>
              </a:gs>
              <a:gs pos="100000">
                <a:srgbClr val="8bd8d4"/>
              </a:gs>
            </a:gsLst>
            <a:lin ang="5400000"/>
          </a:gradFill>
          <a:ln w="28800">
            <a:solidFill>
              <a:srgbClr val="009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7"/>
          <p:cNvSpPr/>
          <p:nvPr/>
        </p:nvSpPr>
        <p:spPr>
          <a:xfrm>
            <a:off x="2390760" y="2255760"/>
            <a:ext cx="2128680" cy="1928880"/>
          </a:xfrm>
          <a:prstGeom prst="triangle">
            <a:avLst>
              <a:gd name="adj" fmla="val 50023"/>
            </a:avLst>
          </a:prstGeom>
          <a:gradFill rotWithShape="0">
            <a:gsLst>
              <a:gs pos="0">
                <a:srgbClr val="009a94"/>
              </a:gs>
              <a:gs pos="100000">
                <a:srgbClr val="8bd8d4"/>
              </a:gs>
            </a:gsLst>
            <a:lin ang="5400000"/>
          </a:gradFill>
          <a:ln w="28800">
            <a:solidFill>
              <a:srgbClr val="009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2724120" y="5805360"/>
            <a:ext cx="1473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  <a:ea typeface="仿宋_GB2312"/>
              </a:rPr>
              <a:t>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9"/>
          <p:cNvSpPr/>
          <p:nvPr/>
        </p:nvSpPr>
        <p:spPr>
          <a:xfrm>
            <a:off x="5954760" y="4983120"/>
            <a:ext cx="1473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  <a:ea typeface="仿宋_GB2312"/>
              </a:rPr>
              <a:t>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2784600" y="3565440"/>
            <a:ext cx="136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r>
              <a:rPr b="1" lang="en-US" sz="2200" spc="-1" strike="noStrike">
                <a:solidFill>
                  <a:srgbClr val="ffffff"/>
                </a:solidFill>
                <a:latin typeface="宋体"/>
                <a:ea typeface="仿宋_GB2312"/>
              </a:rPr>
              <a:t>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页脚占位符 13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Object 1" descr=""/>
          <p:cNvPicPr/>
          <p:nvPr/>
        </p:nvPicPr>
        <p:blipFill>
          <a:blip r:embed="rId2"/>
          <a:stretch/>
        </p:blipFill>
        <p:spPr>
          <a:xfrm>
            <a:off x="700200" y="2305080"/>
            <a:ext cx="8200800" cy="451008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2"/>
          <p:cNvSpPr/>
          <p:nvPr/>
        </p:nvSpPr>
        <p:spPr>
          <a:xfrm>
            <a:off x="5850360" y="196524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7f7e"/>
                </a:solidFill>
                <a:latin typeface="Arial"/>
                <a:ea typeface="仿宋_GB2312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 rot="16140000">
            <a:off x="8290080" y="428004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807f7e"/>
                </a:solidFill>
                <a:latin typeface="Arial"/>
                <a:ea typeface="仿宋_GB2312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AutoShape 4"/>
          <p:cNvCxnSpPr>
            <a:endCxn id="315" idx="0"/>
          </p:cNvCxnSpPr>
          <p:nvPr/>
        </p:nvCxnSpPr>
        <p:spPr>
          <a:xfrm flipV="1">
            <a:off x="8900640" y="4461840"/>
            <a:ext cx="56520" cy="9900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317" name="AutoShape 5"/>
          <p:cNvCxnSpPr>
            <a:endCxn id="314" idx="1"/>
          </p:cNvCxnSpPr>
          <p:nvPr/>
        </p:nvCxnSpPr>
        <p:spPr>
          <a:xfrm flipV="1">
            <a:off x="5122800" y="2142360"/>
            <a:ext cx="7200" cy="2120040"/>
          </a:xfrm>
          <a:prstGeom prst="straightConnector1">
            <a:avLst/>
          </a:prstGeom>
          <a:ln w="43200">
            <a:solidFill>
              <a:srgbClr val="009a94"/>
            </a:solidFill>
            <a:miter/>
            <a:tailEnd len="med" type="triangle" w="med"/>
          </a:ln>
        </p:spPr>
      </p:cxnSp>
      <p:sp>
        <p:nvSpPr>
          <p:cNvPr id="318" name="Text Box 6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页脚占位符 8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1"/>
          <p:cNvSpPr/>
          <p:nvPr/>
        </p:nvSpPr>
        <p:spPr>
          <a:xfrm>
            <a:off x="2441520" y="215424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gradFill rotWithShape="0">
            <a:gsLst>
              <a:gs pos="0">
                <a:srgbClr val="d0edde"/>
              </a:gs>
              <a:gs pos="100000">
                <a:srgbClr val="83d8b9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"/>
          <p:cNvSpPr/>
          <p:nvPr/>
        </p:nvSpPr>
        <p:spPr>
          <a:xfrm>
            <a:off x="1216080" y="283860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gradFill rotWithShape="0">
            <a:gsLst>
              <a:gs pos="0">
                <a:srgbClr val="d0edde"/>
              </a:gs>
              <a:gs pos="100000">
                <a:srgbClr val="83d8b9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1216080" y="424188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gradFill rotWithShape="0">
            <a:gsLst>
              <a:gs pos="0">
                <a:srgbClr val="d0edde"/>
              </a:gs>
              <a:gs pos="100000">
                <a:srgbClr val="83d8b9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3665520" y="287496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gradFill rotWithShape="0">
            <a:gsLst>
              <a:gs pos="0">
                <a:srgbClr val="d0edde"/>
              </a:gs>
              <a:gs pos="100000">
                <a:srgbClr val="83d8b9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2441520" y="355752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gradFill rotWithShape="0">
            <a:gsLst>
              <a:gs pos="0">
                <a:srgbClr val="d0edde"/>
              </a:gs>
              <a:gs pos="100000">
                <a:srgbClr val="83d8b9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6"/>
          <p:cNvGrpSpPr/>
          <p:nvPr/>
        </p:nvGrpSpPr>
        <p:grpSpPr>
          <a:xfrm>
            <a:off x="2441520" y="4962600"/>
            <a:ext cx="1515960" cy="1576080"/>
            <a:chOff x="2441520" y="4962600"/>
            <a:chExt cx="1515960" cy="1576080"/>
          </a:xfrm>
        </p:grpSpPr>
        <p:pic>
          <p:nvPicPr>
            <p:cNvPr id="327" name="Picture 7" descr=""/>
            <p:cNvPicPr/>
            <p:nvPr/>
          </p:nvPicPr>
          <p:blipFill>
            <a:blip r:embed="rId2"/>
            <a:stretch/>
          </p:blipFill>
          <p:spPr>
            <a:xfrm>
              <a:off x="2560320" y="6285240"/>
              <a:ext cx="1277640" cy="25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AutoShape 8"/>
            <p:cNvSpPr/>
            <p:nvPr/>
          </p:nvSpPr>
          <p:spPr>
            <a:xfrm>
              <a:off x="2441520" y="4962600"/>
              <a:ext cx="1515960" cy="1322640"/>
            </a:xfrm>
            <a:prstGeom prst="hexagon">
              <a:avLst>
                <a:gd name="adj" fmla="val 28654"/>
                <a:gd name="vf" fmla="val 115470"/>
              </a:avLst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path path="rect">
                <a:fillToRect l="50000" t="50000" r="50000" b="50000"/>
              </a:path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AutoShape 9"/>
          <p:cNvSpPr/>
          <p:nvPr/>
        </p:nvSpPr>
        <p:spPr>
          <a:xfrm>
            <a:off x="3664080" y="4260960"/>
            <a:ext cx="1517400" cy="1323720"/>
          </a:xfrm>
          <a:prstGeom prst="hexagon">
            <a:avLst>
              <a:gd name="adj" fmla="val 28658"/>
              <a:gd name="vf" fmla="val 115470"/>
            </a:avLst>
          </a:prstGeom>
          <a:noFill/>
          <a:ln w="28800">
            <a:solidFill>
              <a:srgbClr val="8da8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AutoShape 10"/>
          <p:cNvCxnSpPr>
            <a:stCxn id="329" idx="2"/>
            <a:endCxn id="331" idx="2"/>
          </p:cNvCxnSpPr>
          <p:nvPr/>
        </p:nvCxnSpPr>
        <p:spPr>
          <a:xfrm flipV="1">
            <a:off x="4411440" y="4908240"/>
            <a:ext cx="1856520" cy="2160"/>
          </a:xfrm>
          <a:prstGeom prst="straightConnector1">
            <a:avLst/>
          </a:prstGeom>
          <a:ln w="9360">
            <a:solidFill>
              <a:srgbClr val="8da8aa"/>
            </a:solidFill>
            <a:miter/>
            <a:tailEnd len="med" type="triangle" w="med"/>
          </a:ln>
        </p:spPr>
      </p:cxnSp>
      <p:grpSp>
        <p:nvGrpSpPr>
          <p:cNvPr id="332" name="Group 11"/>
          <p:cNvGrpSpPr/>
          <p:nvPr/>
        </p:nvGrpSpPr>
        <p:grpSpPr>
          <a:xfrm>
            <a:off x="6265800" y="3778200"/>
            <a:ext cx="2590920" cy="2854440"/>
            <a:chOff x="6265800" y="3778200"/>
            <a:chExt cx="2590920" cy="2854440"/>
          </a:xfrm>
        </p:grpSpPr>
        <p:pic>
          <p:nvPicPr>
            <p:cNvPr id="333" name="Picture 12" descr=""/>
            <p:cNvPicPr/>
            <p:nvPr/>
          </p:nvPicPr>
          <p:blipFill>
            <a:blip r:embed="rId3"/>
            <a:stretch/>
          </p:blipFill>
          <p:spPr>
            <a:xfrm>
              <a:off x="6494040" y="6037200"/>
              <a:ext cx="2138400" cy="5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AutoShape 13"/>
            <p:cNvSpPr/>
            <p:nvPr/>
          </p:nvSpPr>
          <p:spPr>
            <a:xfrm>
              <a:off x="6265800" y="3778200"/>
              <a:ext cx="2590920" cy="2262240"/>
            </a:xfrm>
            <a:prstGeom prst="hexagon">
              <a:avLst>
                <a:gd name="adj" fmla="val 28632"/>
                <a:gd name="vf" fmla="val 115470"/>
              </a:avLst>
            </a:prstGeom>
            <a:gradFill rotWithShape="0">
              <a:gsLst>
                <a:gs pos="0">
                  <a:srgbClr val="8bd8d4"/>
                </a:gs>
                <a:gs pos="100000">
                  <a:srgbClr val="009a94"/>
                </a:gs>
              </a:gsLst>
              <a:path path="rect">
                <a:fillToRect l="50000" t="50000" r="50000" b="50000"/>
              </a:path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14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页脚占位符 16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1"/>
          <p:cNvGrpSpPr/>
          <p:nvPr/>
        </p:nvGrpSpPr>
        <p:grpSpPr>
          <a:xfrm>
            <a:off x="5676840" y="1908000"/>
            <a:ext cx="3630600" cy="1041120"/>
            <a:chOff x="5676840" y="1908000"/>
            <a:chExt cx="3630600" cy="1041120"/>
          </a:xfrm>
        </p:grpSpPr>
        <p:sp>
          <p:nvSpPr>
            <p:cNvPr id="338" name="Rectangle 2"/>
            <p:cNvSpPr/>
            <p:nvPr/>
          </p:nvSpPr>
          <p:spPr>
            <a:xfrm>
              <a:off x="5676840" y="1908000"/>
              <a:ext cx="3630600" cy="286200"/>
            </a:xfrm>
            <a:prstGeom prst="rect">
              <a:avLst/>
            </a:prstGeom>
            <a:gradFill rotWithShape="0">
              <a:gsLst>
                <a:gs pos="0">
                  <a:srgbClr val="f39700"/>
                </a:gs>
                <a:gs pos="100000">
                  <a:srgbClr val="ffff00"/>
                </a:gs>
              </a:gsLst>
              <a:lin ang="5400000"/>
            </a:gradFill>
            <a:ln w="28800">
              <a:solidFill>
                <a:srgbClr val="f39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仿宋_GB2312"/>
                </a:rPr>
                <a:t>Title 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3"/>
            <p:cNvSpPr/>
            <p:nvPr/>
          </p:nvSpPr>
          <p:spPr>
            <a:xfrm>
              <a:off x="5676840" y="2219760"/>
              <a:ext cx="3630600" cy="729360"/>
            </a:xfrm>
            <a:prstGeom prst="rect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4"/>
          <p:cNvGrpSpPr/>
          <p:nvPr/>
        </p:nvGrpSpPr>
        <p:grpSpPr>
          <a:xfrm>
            <a:off x="5676840" y="3157560"/>
            <a:ext cx="3630600" cy="1041120"/>
            <a:chOff x="5676840" y="3157560"/>
            <a:chExt cx="3630600" cy="1041120"/>
          </a:xfrm>
        </p:grpSpPr>
        <p:sp>
          <p:nvSpPr>
            <p:cNvPr id="341" name="Rectangle 5"/>
            <p:cNvSpPr/>
            <p:nvPr/>
          </p:nvSpPr>
          <p:spPr>
            <a:xfrm>
              <a:off x="5676840" y="3157560"/>
              <a:ext cx="3630600" cy="286200"/>
            </a:xfrm>
            <a:prstGeom prst="rect">
              <a:avLst/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仿宋_GB2312"/>
                </a:rPr>
                <a:t>Title 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6"/>
            <p:cNvSpPr/>
            <p:nvPr/>
          </p:nvSpPr>
          <p:spPr>
            <a:xfrm>
              <a:off x="5676840" y="3469320"/>
              <a:ext cx="3630600" cy="729360"/>
            </a:xfrm>
            <a:prstGeom prst="rect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7"/>
          <p:cNvGrpSpPr/>
          <p:nvPr/>
        </p:nvGrpSpPr>
        <p:grpSpPr>
          <a:xfrm>
            <a:off x="5678640" y="4421160"/>
            <a:ext cx="3630600" cy="1058400"/>
            <a:chOff x="5678640" y="4421160"/>
            <a:chExt cx="3630600" cy="1058400"/>
          </a:xfrm>
        </p:grpSpPr>
        <p:sp>
          <p:nvSpPr>
            <p:cNvPr id="344" name="Rectangle 8"/>
            <p:cNvSpPr/>
            <p:nvPr/>
          </p:nvSpPr>
          <p:spPr>
            <a:xfrm>
              <a:off x="5678640" y="4421160"/>
              <a:ext cx="3630600" cy="285120"/>
            </a:xfrm>
            <a:prstGeom prst="rect">
              <a:avLst/>
            </a:prstGeom>
            <a:gradFill rotWithShape="0">
              <a:gsLst>
                <a:gs pos="0">
                  <a:srgbClr val="f39700"/>
                </a:gs>
                <a:gs pos="100000">
                  <a:srgbClr val="ffff00"/>
                </a:gs>
              </a:gsLst>
              <a:lin ang="5400000"/>
            </a:gradFill>
            <a:ln w="28800">
              <a:solidFill>
                <a:srgbClr val="f39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仿宋_GB2312"/>
                </a:rPr>
                <a:t>Title 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9"/>
            <p:cNvSpPr/>
            <p:nvPr/>
          </p:nvSpPr>
          <p:spPr>
            <a:xfrm>
              <a:off x="5678640" y="4749120"/>
              <a:ext cx="3630600" cy="730440"/>
            </a:xfrm>
            <a:prstGeom prst="rect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0"/>
          <p:cNvGrpSpPr/>
          <p:nvPr/>
        </p:nvGrpSpPr>
        <p:grpSpPr>
          <a:xfrm>
            <a:off x="5678640" y="5702400"/>
            <a:ext cx="3630600" cy="1041120"/>
            <a:chOff x="5678640" y="5702400"/>
            <a:chExt cx="3630600" cy="1041120"/>
          </a:xfrm>
        </p:grpSpPr>
        <p:sp>
          <p:nvSpPr>
            <p:cNvPr id="347" name="Rectangle 11"/>
            <p:cNvSpPr/>
            <p:nvPr/>
          </p:nvSpPr>
          <p:spPr>
            <a:xfrm>
              <a:off x="5678640" y="5702400"/>
              <a:ext cx="3630600" cy="286200"/>
            </a:xfrm>
            <a:prstGeom prst="rect">
              <a:avLst/>
            </a:prstGeom>
            <a:gradFill rotWithShape="0">
              <a:gsLst>
                <a:gs pos="0">
                  <a:srgbClr val="f39700"/>
                </a:gs>
                <a:gs pos="100000">
                  <a:srgbClr val="ffff00"/>
                </a:gs>
              </a:gsLst>
              <a:lin ang="5400000"/>
            </a:gradFill>
            <a:ln w="28800">
              <a:solidFill>
                <a:srgbClr val="f39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仿宋_GB2312"/>
                </a:rPr>
                <a:t>Title 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2"/>
            <p:cNvSpPr/>
            <p:nvPr/>
          </p:nvSpPr>
          <p:spPr>
            <a:xfrm>
              <a:off x="5678640" y="6014160"/>
              <a:ext cx="3630600" cy="729360"/>
            </a:xfrm>
            <a:prstGeom prst="rect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3"/>
          <p:cNvGrpSpPr/>
          <p:nvPr/>
        </p:nvGrpSpPr>
        <p:grpSpPr>
          <a:xfrm>
            <a:off x="770040" y="4344840"/>
            <a:ext cx="4774680" cy="2795400"/>
            <a:chOff x="770040" y="4344840"/>
            <a:chExt cx="4774680" cy="2795400"/>
          </a:xfrm>
        </p:grpSpPr>
        <p:sp>
          <p:nvSpPr>
            <p:cNvPr id="350" name="Freeform 14"/>
            <p:cNvSpPr/>
            <p:nvPr/>
          </p:nvSpPr>
          <p:spPr>
            <a:xfrm>
              <a:off x="770040" y="4815720"/>
              <a:ext cx="4760640" cy="232452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5"/>
            <p:cNvSpPr/>
            <p:nvPr/>
          </p:nvSpPr>
          <p:spPr>
            <a:xfrm>
              <a:off x="779040" y="4917240"/>
              <a:ext cx="3043440" cy="219924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50196"/>
                  </a:srgbClr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6"/>
            <p:cNvSpPr/>
            <p:nvPr/>
          </p:nvSpPr>
          <p:spPr>
            <a:xfrm>
              <a:off x="3654720" y="4921920"/>
              <a:ext cx="1890000" cy="219924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50196"/>
                  </a:srgbClr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7"/>
            <p:cNvSpPr/>
            <p:nvPr/>
          </p:nvSpPr>
          <p:spPr>
            <a:xfrm>
              <a:off x="1317240" y="4344840"/>
              <a:ext cx="3711960" cy="150480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18"/>
          <p:cNvGrpSpPr/>
          <p:nvPr/>
        </p:nvGrpSpPr>
        <p:grpSpPr>
          <a:xfrm>
            <a:off x="1398600" y="3683160"/>
            <a:ext cx="3490560" cy="1841400"/>
            <a:chOff x="1398600" y="3683160"/>
            <a:chExt cx="3490560" cy="1841400"/>
          </a:xfrm>
        </p:grpSpPr>
        <p:sp>
          <p:nvSpPr>
            <p:cNvPr id="355" name="Freeform 19"/>
            <p:cNvSpPr/>
            <p:nvPr/>
          </p:nvSpPr>
          <p:spPr>
            <a:xfrm>
              <a:off x="1425240" y="4259520"/>
              <a:ext cx="3448080" cy="126504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0"/>
            <p:cNvSpPr/>
            <p:nvPr/>
          </p:nvSpPr>
          <p:spPr>
            <a:xfrm>
              <a:off x="1398600" y="3924360"/>
              <a:ext cx="2194920" cy="158436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50196"/>
                  </a:srgbClr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1"/>
            <p:cNvSpPr/>
            <p:nvPr/>
          </p:nvSpPr>
          <p:spPr>
            <a:xfrm>
              <a:off x="3457080" y="3951360"/>
              <a:ext cx="1432080" cy="155916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50196"/>
                  </a:srgbClr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2"/>
            <p:cNvSpPr/>
            <p:nvPr/>
          </p:nvSpPr>
          <p:spPr>
            <a:xfrm>
              <a:off x="1931400" y="3683160"/>
              <a:ext cx="2431080" cy="65556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23"/>
          <p:cNvGrpSpPr/>
          <p:nvPr/>
        </p:nvGrpSpPr>
        <p:grpSpPr>
          <a:xfrm>
            <a:off x="2049480" y="2933640"/>
            <a:ext cx="2230200" cy="1231560"/>
            <a:chOff x="2049480" y="2933640"/>
            <a:chExt cx="2230200" cy="1231560"/>
          </a:xfrm>
        </p:grpSpPr>
        <p:sp>
          <p:nvSpPr>
            <p:cNvPr id="360" name="Freeform 24"/>
            <p:cNvSpPr/>
            <p:nvPr/>
          </p:nvSpPr>
          <p:spPr>
            <a:xfrm>
              <a:off x="2080800" y="3540960"/>
              <a:ext cx="2198880" cy="624240"/>
            </a:xfrm>
            <a:prstGeom prst="pie">
              <a:avLst/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5"/>
            <p:cNvSpPr/>
            <p:nvPr/>
          </p:nvSpPr>
          <p:spPr>
            <a:xfrm>
              <a:off x="2049480" y="3049200"/>
              <a:ext cx="1404360" cy="1116000"/>
            </a:xfrm>
            <a:prstGeom prst="pie">
              <a:avLst/>
            </a:prstGeom>
            <a:gradFill rotWithShape="0">
              <a:gsLst>
                <a:gs pos="0">
                  <a:srgbClr val="009a94"/>
                </a:gs>
                <a:gs pos="100000">
                  <a:srgbClr val="8bd8d4">
                    <a:alpha val="75294"/>
                  </a:srgbClr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6"/>
            <p:cNvSpPr/>
            <p:nvPr/>
          </p:nvSpPr>
          <p:spPr>
            <a:xfrm>
              <a:off x="3314520" y="3025440"/>
              <a:ext cx="963720" cy="1138320"/>
            </a:xfrm>
            <a:prstGeom prst="pie">
              <a:avLst/>
            </a:prstGeom>
            <a:gradFill rotWithShape="0">
              <a:gsLst>
                <a:gs pos="0">
                  <a:srgbClr val="009a94"/>
                </a:gs>
                <a:gs pos="100000">
                  <a:srgbClr val="8bd8d4">
                    <a:alpha val="40000"/>
                  </a:srgbClr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7"/>
            <p:cNvSpPr/>
            <p:nvPr/>
          </p:nvSpPr>
          <p:spPr>
            <a:xfrm>
              <a:off x="2564640" y="2933640"/>
              <a:ext cx="1201680" cy="228240"/>
            </a:xfrm>
            <a:prstGeom prst="pie">
              <a:avLst/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8"/>
          <p:cNvGrpSpPr/>
          <p:nvPr/>
        </p:nvGrpSpPr>
        <p:grpSpPr>
          <a:xfrm>
            <a:off x="2690640" y="2166840"/>
            <a:ext cx="966960" cy="812880"/>
            <a:chOff x="2690640" y="2166840"/>
            <a:chExt cx="966960" cy="812880"/>
          </a:xfrm>
        </p:grpSpPr>
        <p:sp>
          <p:nvSpPr>
            <p:cNvPr id="365" name="Freeform 29"/>
            <p:cNvSpPr/>
            <p:nvPr/>
          </p:nvSpPr>
          <p:spPr>
            <a:xfrm>
              <a:off x="2690640" y="2820960"/>
              <a:ext cx="966960" cy="15696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0"/>
            <p:cNvSpPr/>
            <p:nvPr/>
          </p:nvSpPr>
          <p:spPr>
            <a:xfrm>
              <a:off x="2690640" y="2182320"/>
              <a:ext cx="591120" cy="79560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50196"/>
                  </a:srgbClr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1"/>
            <p:cNvSpPr/>
            <p:nvPr/>
          </p:nvSpPr>
          <p:spPr>
            <a:xfrm>
              <a:off x="3188160" y="2166840"/>
              <a:ext cx="469080" cy="81288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50196"/>
                  </a:srgbClr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Text Box 32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3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页脚占位符 3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"/>
          <p:cNvGrpSpPr/>
          <p:nvPr/>
        </p:nvGrpSpPr>
        <p:grpSpPr>
          <a:xfrm>
            <a:off x="609480" y="2604960"/>
            <a:ext cx="1890360" cy="884160"/>
            <a:chOff x="609480" y="2604960"/>
            <a:chExt cx="1890360" cy="884160"/>
          </a:xfrm>
        </p:grpSpPr>
        <p:sp>
          <p:nvSpPr>
            <p:cNvPr id="372" name="Freeform 2"/>
            <p:cNvSpPr/>
            <p:nvPr/>
          </p:nvSpPr>
          <p:spPr>
            <a:xfrm>
              <a:off x="610560" y="2604960"/>
              <a:ext cx="1889280" cy="693720"/>
            </a:xfrm>
            <a:prstGeom prst="pi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3"/>
            <p:cNvSpPr/>
            <p:nvPr/>
          </p:nvSpPr>
          <p:spPr>
            <a:xfrm>
              <a:off x="609480" y="2796840"/>
              <a:ext cx="1070640" cy="692280"/>
            </a:xfrm>
            <a:prstGeom prst="pi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"/>
            <p:cNvSpPr/>
            <p:nvPr/>
          </p:nvSpPr>
          <p:spPr>
            <a:xfrm>
              <a:off x="1676880" y="2979000"/>
              <a:ext cx="818280" cy="510120"/>
            </a:xfrm>
            <a:prstGeom prst="pi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5"/>
          <p:cNvGrpSpPr/>
          <p:nvPr/>
        </p:nvGrpSpPr>
        <p:grpSpPr>
          <a:xfrm>
            <a:off x="4078440" y="3954600"/>
            <a:ext cx="2817720" cy="1464840"/>
            <a:chOff x="4078440" y="3954600"/>
            <a:chExt cx="2817720" cy="1464840"/>
          </a:xfrm>
        </p:grpSpPr>
        <p:sp>
          <p:nvSpPr>
            <p:cNvPr id="376" name="Freeform 6"/>
            <p:cNvSpPr/>
            <p:nvPr/>
          </p:nvSpPr>
          <p:spPr>
            <a:xfrm>
              <a:off x="5470560" y="4442760"/>
              <a:ext cx="1425600" cy="974880"/>
            </a:xfrm>
            <a:prstGeom prst="pi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7"/>
            <p:cNvSpPr/>
            <p:nvPr/>
          </p:nvSpPr>
          <p:spPr>
            <a:xfrm>
              <a:off x="4078440" y="3954600"/>
              <a:ext cx="2816280" cy="1241280"/>
            </a:xfrm>
            <a:prstGeom prst="pi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8"/>
            <p:cNvSpPr/>
            <p:nvPr/>
          </p:nvSpPr>
          <p:spPr>
            <a:xfrm>
              <a:off x="4079880" y="4520520"/>
              <a:ext cx="1393920" cy="898920"/>
            </a:xfrm>
            <a:prstGeom prst="pi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9"/>
          <p:cNvGrpSpPr/>
          <p:nvPr/>
        </p:nvGrpSpPr>
        <p:grpSpPr>
          <a:xfrm>
            <a:off x="1719360" y="3009960"/>
            <a:ext cx="2020680" cy="996480"/>
            <a:chOff x="1719360" y="3009960"/>
            <a:chExt cx="2020680" cy="996480"/>
          </a:xfrm>
        </p:grpSpPr>
        <p:sp>
          <p:nvSpPr>
            <p:cNvPr id="380" name="Freeform 10"/>
            <p:cNvSpPr/>
            <p:nvPr/>
          </p:nvSpPr>
          <p:spPr>
            <a:xfrm>
              <a:off x="1719360" y="3009960"/>
              <a:ext cx="2020680" cy="803160"/>
            </a:xfrm>
            <a:prstGeom prst="pi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1"/>
            <p:cNvSpPr/>
            <p:nvPr/>
          </p:nvSpPr>
          <p:spPr>
            <a:xfrm>
              <a:off x="1719360" y="3336120"/>
              <a:ext cx="1047600" cy="670320"/>
            </a:xfrm>
            <a:prstGeom prst="pi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2"/>
            <p:cNvSpPr/>
            <p:nvPr/>
          </p:nvSpPr>
          <p:spPr>
            <a:xfrm>
              <a:off x="2763720" y="3369600"/>
              <a:ext cx="974520" cy="636840"/>
            </a:xfrm>
            <a:prstGeom prst="pi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3"/>
          <p:cNvGrpSpPr/>
          <p:nvPr/>
        </p:nvGrpSpPr>
        <p:grpSpPr>
          <a:xfrm>
            <a:off x="2841480" y="3133800"/>
            <a:ext cx="2355840" cy="1158480"/>
            <a:chOff x="2841480" y="3133800"/>
            <a:chExt cx="2355840" cy="1158480"/>
          </a:xfrm>
        </p:grpSpPr>
        <p:sp>
          <p:nvSpPr>
            <p:cNvPr id="384" name="Freeform 14"/>
            <p:cNvSpPr/>
            <p:nvPr/>
          </p:nvSpPr>
          <p:spPr>
            <a:xfrm>
              <a:off x="2841480" y="3133800"/>
              <a:ext cx="2355840" cy="950760"/>
            </a:xfrm>
            <a:prstGeom prst="pie">
              <a:avLst/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5"/>
            <p:cNvSpPr/>
            <p:nvPr/>
          </p:nvSpPr>
          <p:spPr>
            <a:xfrm>
              <a:off x="3930120" y="3539520"/>
              <a:ext cx="1265040" cy="752760"/>
            </a:xfrm>
            <a:prstGeom prst="pie">
              <a:avLst/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6"/>
            <p:cNvSpPr/>
            <p:nvPr/>
          </p:nvSpPr>
          <p:spPr>
            <a:xfrm>
              <a:off x="2841480" y="3553920"/>
              <a:ext cx="1088640" cy="738360"/>
            </a:xfrm>
            <a:prstGeom prst="pie">
              <a:avLst/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17"/>
          <p:cNvGrpSpPr/>
          <p:nvPr/>
        </p:nvGrpSpPr>
        <p:grpSpPr>
          <a:xfrm>
            <a:off x="4233960" y="4017960"/>
            <a:ext cx="5446440" cy="2666520"/>
            <a:chOff x="4233960" y="4017960"/>
            <a:chExt cx="5446440" cy="2666520"/>
          </a:xfrm>
        </p:grpSpPr>
        <p:sp>
          <p:nvSpPr>
            <p:cNvPr id="388" name="Freeform 18"/>
            <p:cNvSpPr/>
            <p:nvPr/>
          </p:nvSpPr>
          <p:spPr>
            <a:xfrm>
              <a:off x="5514120" y="5252040"/>
              <a:ext cx="296280" cy="371160"/>
            </a:xfrm>
            <a:prstGeom prst="pi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9"/>
            <p:cNvSpPr/>
            <p:nvPr/>
          </p:nvSpPr>
          <p:spPr>
            <a:xfrm>
              <a:off x="4233960" y="4017960"/>
              <a:ext cx="5446440" cy="2246040"/>
            </a:xfrm>
            <a:prstGeom prst="pie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20"/>
            <p:cNvSpPr/>
            <p:nvPr/>
          </p:nvSpPr>
          <p:spPr>
            <a:xfrm>
              <a:off x="4242960" y="6265800"/>
              <a:ext cx="5430600" cy="418680"/>
            </a:xfrm>
            <a:prstGeom prst="rect">
              <a:avLst/>
            </a:prstGeom>
            <a:gradFill rotWithShape="0">
              <a:gsLst>
                <a:gs pos="0">
                  <a:srgbClr val="d0edde"/>
                </a:gs>
                <a:gs pos="100000">
                  <a:srgbClr val="83d8b9"/>
                </a:gs>
              </a:gsLst>
              <a:lin ang="108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21"/>
          <p:cNvSpPr/>
          <p:nvPr/>
        </p:nvSpPr>
        <p:spPr>
          <a:xfrm>
            <a:off x="2462400" y="1811160"/>
            <a:ext cx="2253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insert your  text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5544000" y="2176560"/>
            <a:ext cx="2253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insert your  text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7745760" y="3119400"/>
            <a:ext cx="2253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insert your  text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4"/>
          <p:cNvSpPr/>
          <p:nvPr/>
        </p:nvSpPr>
        <p:spPr>
          <a:xfrm>
            <a:off x="396720" y="3895560"/>
            <a:ext cx="12510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insert your  text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25"/>
          <p:cNvCxnSpPr>
            <a:endCxn id="391" idx="1"/>
          </p:cNvCxnSpPr>
          <p:nvPr/>
        </p:nvCxnSpPr>
        <p:spPr>
          <a:xfrm flipV="1">
            <a:off x="1553760" y="1955160"/>
            <a:ext cx="9118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6" name="AutoShape 26"/>
          <p:cNvCxnSpPr>
            <a:stCxn id="394" idx="3"/>
          </p:cNvCxnSpPr>
          <p:nvPr/>
        </p:nvCxnSpPr>
        <p:spPr>
          <a:xfrm flipV="1">
            <a:off x="1647720" y="3860280"/>
            <a:ext cx="791280" cy="48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7" name="AutoShape 27"/>
          <p:cNvCxnSpPr>
            <a:stCxn id="392" idx="1"/>
          </p:cNvCxnSpPr>
          <p:nvPr/>
        </p:nvCxnSpPr>
        <p:spPr>
          <a:xfrm flipH="1">
            <a:off x="4390200" y="2322000"/>
            <a:ext cx="1156680" cy="93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AutoShape 28"/>
          <p:cNvCxnSpPr>
            <a:stCxn id="393" idx="1"/>
          </p:cNvCxnSpPr>
          <p:nvPr/>
        </p:nvCxnSpPr>
        <p:spPr>
          <a:xfrm flipH="1">
            <a:off x="6465240" y="3265200"/>
            <a:ext cx="1283400" cy="1035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9" name="AutoShape 29"/>
          <p:cNvCxnSpPr>
            <a:endCxn id="400" idx="3"/>
          </p:cNvCxnSpPr>
          <p:nvPr/>
        </p:nvCxnSpPr>
        <p:spPr>
          <a:xfrm flipH="1">
            <a:off x="3447360" y="5423040"/>
            <a:ext cx="2159640" cy="892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0" name="Text Box 30"/>
          <p:cNvSpPr/>
          <p:nvPr/>
        </p:nvSpPr>
        <p:spPr>
          <a:xfrm>
            <a:off x="1809720" y="6019920"/>
            <a:ext cx="163980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insert your  text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31"/>
          <p:cNvGrpSpPr/>
          <p:nvPr/>
        </p:nvGrpSpPr>
        <p:grpSpPr>
          <a:xfrm>
            <a:off x="3429000" y="2254320"/>
            <a:ext cx="786960" cy="1588680"/>
            <a:chOff x="3429000" y="2254320"/>
            <a:chExt cx="786960" cy="1588680"/>
          </a:xfrm>
        </p:grpSpPr>
        <p:sp>
          <p:nvSpPr>
            <p:cNvPr id="402" name="WordArt 32"/>
            <p:cNvSpPr txBox="1"/>
            <p:nvPr/>
          </p:nvSpPr>
          <p:spPr>
            <a:xfrm>
              <a:off x="3452400" y="2254320"/>
              <a:ext cx="763560" cy="131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ln w="0">
                    <a:noFill/>
                  </a:ln>
                  <a:gradFill rotWithShape="0">
                    <a:gsLst>
                      <a:gs pos="0">
                        <a:srgbClr val="f3ac40"/>
                      </a:gs>
                      <a:gs pos="100000">
                        <a:srgbClr val="ffce84"/>
                      </a:gs>
                    </a:gsLst>
                    <a:lin ang="5400000"/>
                  </a:gradFill>
                  <a:latin typeface="Arial Black"/>
                </a:rPr>
                <a:t>1</a:t>
              </a:r>
              <a:endPara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3ac40"/>
                    </a:gs>
                    <a:gs pos="100000">
                      <a:srgbClr val="ffce84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403" name="WordArt 33"/>
            <p:cNvSpPr txBox="1"/>
            <p:nvPr/>
          </p:nvSpPr>
          <p:spPr>
            <a:xfrm rot="10800000">
              <a:off x="3429000" y="3548520"/>
              <a:ext cx="763200" cy="29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-1" strike="noStrike">
                  <a:ln w="0">
                    <a:noFill/>
                  </a:ln>
                  <a:gradFill rotWithShape="0">
                    <a:gsLst>
                      <a:gs pos="0">
                        <a:srgbClr val="fb9028">
                          <a:alpha val="20000"/>
                        </a:srgbClr>
                      </a:gs>
                      <a:gs pos="100000">
                        <a:srgbClr val="9b1603"/>
                      </a:gs>
                    </a:gsLst>
                    <a:lin ang="18900000"/>
                  </a:gradFill>
                  <a:latin typeface="Arial Black"/>
                </a:rPr>
                <a:t>1</a:t>
              </a:r>
              <a:endPara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b9028">
                        <a:alpha val="20000"/>
                      </a:srgbClr>
                    </a:gs>
                    <a:gs pos="100000">
                      <a:srgbClr val="9b1603"/>
                    </a:gs>
                  </a:gsLst>
                  <a:lin ang="189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404" name="Text Box 34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5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页脚占位符 36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43280" y="4716360"/>
            <a:ext cx="532764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utoShape 1"/>
          <p:cNvSpPr/>
          <p:nvPr/>
        </p:nvSpPr>
        <p:spPr>
          <a:xfrm>
            <a:off x="5761080" y="4024440"/>
            <a:ext cx="1511280" cy="151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3d8b9"/>
              </a:gs>
              <a:gs pos="100000">
                <a:srgbClr val="d0edde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2"/>
          <p:cNvSpPr/>
          <p:nvPr/>
        </p:nvSpPr>
        <p:spPr>
          <a:xfrm>
            <a:off x="5756400" y="2728800"/>
            <a:ext cx="1511280" cy="151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3d8b9"/>
              </a:gs>
              <a:gs pos="100000">
                <a:srgbClr val="d0edde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7015320" y="4037040"/>
            <a:ext cx="1511280" cy="151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3d8b9"/>
              </a:gs>
              <a:gs pos="100000">
                <a:srgbClr val="d0edde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4"/>
          <p:cNvSpPr/>
          <p:nvPr/>
        </p:nvSpPr>
        <p:spPr>
          <a:xfrm>
            <a:off x="7015320" y="2728800"/>
            <a:ext cx="1511280" cy="151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3d8b9"/>
              </a:gs>
              <a:gs pos="100000">
                <a:srgbClr val="d0edde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Group 5"/>
          <p:cNvGrpSpPr/>
          <p:nvPr/>
        </p:nvGrpSpPr>
        <p:grpSpPr>
          <a:xfrm>
            <a:off x="5267160" y="4503600"/>
            <a:ext cx="1519200" cy="1528560"/>
            <a:chOff x="5267160" y="4503600"/>
            <a:chExt cx="1519200" cy="1528560"/>
          </a:xfrm>
        </p:grpSpPr>
        <p:sp>
          <p:nvSpPr>
            <p:cNvPr id="413" name="Freeform 6"/>
            <p:cNvSpPr/>
            <p:nvPr/>
          </p:nvSpPr>
          <p:spPr>
            <a:xfrm>
              <a:off x="5277960" y="5647680"/>
              <a:ext cx="1508400" cy="38448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7"/>
            <p:cNvSpPr/>
            <p:nvPr/>
          </p:nvSpPr>
          <p:spPr>
            <a:xfrm>
              <a:off x="5267160" y="4503600"/>
              <a:ext cx="1509840" cy="15098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8"/>
          <p:cNvGrpSpPr/>
          <p:nvPr/>
        </p:nvGrpSpPr>
        <p:grpSpPr>
          <a:xfrm>
            <a:off x="6527880" y="4503600"/>
            <a:ext cx="1518840" cy="1528560"/>
            <a:chOff x="6527880" y="4503600"/>
            <a:chExt cx="1518840" cy="1528560"/>
          </a:xfrm>
        </p:grpSpPr>
        <p:sp>
          <p:nvSpPr>
            <p:cNvPr id="416" name="Freeform 9"/>
            <p:cNvSpPr/>
            <p:nvPr/>
          </p:nvSpPr>
          <p:spPr>
            <a:xfrm>
              <a:off x="6538680" y="5647680"/>
              <a:ext cx="1508040" cy="384480"/>
            </a:xfrm>
            <a:prstGeom prst="pie">
              <a:avLst/>
            </a:prstGeom>
            <a:gradFill rotWithShape="0">
              <a:gsLst>
                <a:gs pos="0">
                  <a:srgbClr val="f39700"/>
                </a:gs>
                <a:gs pos="100000">
                  <a:srgbClr val="ffff00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10"/>
            <p:cNvSpPr/>
            <p:nvPr/>
          </p:nvSpPr>
          <p:spPr>
            <a:xfrm>
              <a:off x="6527880" y="4503600"/>
              <a:ext cx="1509480" cy="15098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39700"/>
                </a:gs>
                <a:gs pos="100000">
                  <a:srgbClr val="ffff00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AutoShape 11"/>
          <p:cNvSpPr/>
          <p:nvPr/>
        </p:nvSpPr>
        <p:spPr>
          <a:xfrm>
            <a:off x="2054160" y="4024440"/>
            <a:ext cx="1511280" cy="151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3d8b9"/>
              </a:gs>
              <a:gs pos="100000">
                <a:srgbClr val="d0edde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2"/>
          <p:cNvSpPr/>
          <p:nvPr/>
        </p:nvSpPr>
        <p:spPr>
          <a:xfrm>
            <a:off x="2049480" y="2728800"/>
            <a:ext cx="1511280" cy="151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3d8b9"/>
              </a:gs>
              <a:gs pos="100000">
                <a:srgbClr val="d0edde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3"/>
          <p:cNvSpPr/>
          <p:nvPr/>
        </p:nvSpPr>
        <p:spPr>
          <a:xfrm>
            <a:off x="3308400" y="4037040"/>
            <a:ext cx="1511280" cy="151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3d8b9"/>
              </a:gs>
              <a:gs pos="100000">
                <a:srgbClr val="d0edde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3308400" y="2728800"/>
            <a:ext cx="1511280" cy="151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3d8b9"/>
              </a:gs>
              <a:gs pos="100000">
                <a:srgbClr val="d0edde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5261040" y="3187800"/>
            <a:ext cx="1511280" cy="151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9a94"/>
              </a:gs>
              <a:gs pos="100000">
                <a:srgbClr val="8bd8d4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6532560" y="3197160"/>
            <a:ext cx="1511280" cy="151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3d8b9"/>
              </a:gs>
              <a:gs pos="100000">
                <a:srgbClr val="d0edde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Group 17"/>
          <p:cNvGrpSpPr/>
          <p:nvPr/>
        </p:nvGrpSpPr>
        <p:grpSpPr>
          <a:xfrm>
            <a:off x="1557360" y="4505400"/>
            <a:ext cx="1518840" cy="1528200"/>
            <a:chOff x="1557360" y="4505400"/>
            <a:chExt cx="1518840" cy="1528200"/>
          </a:xfrm>
        </p:grpSpPr>
        <p:sp>
          <p:nvSpPr>
            <p:cNvPr id="425" name="Freeform 18"/>
            <p:cNvSpPr/>
            <p:nvPr/>
          </p:nvSpPr>
          <p:spPr>
            <a:xfrm>
              <a:off x="1569600" y="5648400"/>
              <a:ext cx="1506600" cy="38520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19"/>
            <p:cNvSpPr/>
            <p:nvPr/>
          </p:nvSpPr>
          <p:spPr>
            <a:xfrm>
              <a:off x="1557360" y="4505400"/>
              <a:ext cx="1508040" cy="15109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20"/>
          <p:cNvGrpSpPr/>
          <p:nvPr/>
        </p:nvGrpSpPr>
        <p:grpSpPr>
          <a:xfrm>
            <a:off x="2819520" y="4503600"/>
            <a:ext cx="1518840" cy="1528560"/>
            <a:chOff x="2819520" y="4503600"/>
            <a:chExt cx="1518840" cy="1528560"/>
          </a:xfrm>
        </p:grpSpPr>
        <p:sp>
          <p:nvSpPr>
            <p:cNvPr id="428" name="Freeform 21"/>
            <p:cNvSpPr/>
            <p:nvPr/>
          </p:nvSpPr>
          <p:spPr>
            <a:xfrm>
              <a:off x="2830320" y="5647680"/>
              <a:ext cx="1508040" cy="384480"/>
            </a:xfrm>
            <a:prstGeom prst="pie">
              <a:avLst/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22"/>
            <p:cNvSpPr/>
            <p:nvPr/>
          </p:nvSpPr>
          <p:spPr>
            <a:xfrm>
              <a:off x="2819520" y="4503600"/>
              <a:ext cx="1509480" cy="15098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>
                    <a:alpha val="8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AutoShape 23"/>
          <p:cNvSpPr/>
          <p:nvPr/>
        </p:nvSpPr>
        <p:spPr>
          <a:xfrm>
            <a:off x="1554120" y="3208320"/>
            <a:ext cx="1511280" cy="1513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83d8b9"/>
              </a:gs>
              <a:gs pos="100000">
                <a:srgbClr val="d0edde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4"/>
          <p:cNvSpPr/>
          <p:nvPr/>
        </p:nvSpPr>
        <p:spPr>
          <a:xfrm>
            <a:off x="2824200" y="3200400"/>
            <a:ext cx="1511280" cy="1512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39700"/>
              </a:gs>
              <a:gs pos="100000">
                <a:srgbClr val="ffff00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5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页脚占位符 27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Object 1" descr=""/>
          <p:cNvPicPr/>
          <p:nvPr/>
        </p:nvPicPr>
        <p:blipFill>
          <a:blip r:embed="rId2"/>
          <a:stretch/>
        </p:blipFill>
        <p:spPr>
          <a:xfrm>
            <a:off x="797040" y="2016000"/>
            <a:ext cx="8486640" cy="499428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2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页脚占位符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1"/>
          <p:cNvGrpSpPr/>
          <p:nvPr/>
        </p:nvGrpSpPr>
        <p:grpSpPr>
          <a:xfrm>
            <a:off x="1793880" y="2014560"/>
            <a:ext cx="6489720" cy="1297800"/>
            <a:chOff x="1793880" y="2014560"/>
            <a:chExt cx="6489720" cy="1297800"/>
          </a:xfrm>
        </p:grpSpPr>
        <p:grpSp>
          <p:nvGrpSpPr>
            <p:cNvPr id="87" name="Group 2"/>
            <p:cNvGrpSpPr/>
            <p:nvPr/>
          </p:nvGrpSpPr>
          <p:grpSpPr>
            <a:xfrm>
              <a:off x="1793880" y="2491200"/>
              <a:ext cx="6489720" cy="821160"/>
              <a:chOff x="1793880" y="2491200"/>
              <a:chExt cx="6489720" cy="821160"/>
            </a:xfrm>
          </p:grpSpPr>
          <p:sp>
            <p:nvSpPr>
              <p:cNvPr id="88" name="AutoShape 3"/>
              <p:cNvSpPr/>
              <p:nvPr/>
            </p:nvSpPr>
            <p:spPr>
              <a:xfrm>
                <a:off x="1854000" y="2491200"/>
                <a:ext cx="6356520" cy="5284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3d8b9"/>
                  </a:gs>
                  <a:gs pos="100000">
                    <a:srgbClr val="d0edde"/>
                  </a:gs>
                </a:gsLst>
                <a:lin ang="5400000"/>
              </a:gradFill>
              <a:ln w="28800">
                <a:solidFill>
                  <a:srgbClr val="83d8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5400" rIns="365400" tIns="52200" bIns="52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Please insert your own tex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9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793880" y="3032280"/>
                <a:ext cx="6489720" cy="280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" name="Group 5"/>
            <p:cNvGrpSpPr/>
            <p:nvPr/>
          </p:nvGrpSpPr>
          <p:grpSpPr>
            <a:xfrm>
              <a:off x="2338560" y="2014560"/>
              <a:ext cx="764640" cy="876600"/>
              <a:chOff x="2338560" y="2014560"/>
              <a:chExt cx="764640" cy="876600"/>
            </a:xfrm>
          </p:grpSpPr>
          <p:sp>
            <p:nvSpPr>
              <p:cNvPr id="91" name="Oval 6"/>
              <p:cNvSpPr/>
              <p:nvPr/>
            </p:nvSpPr>
            <p:spPr>
              <a:xfrm>
                <a:off x="2338560" y="2014560"/>
                <a:ext cx="749160" cy="751320"/>
              </a:xfrm>
              <a:prstGeom prst="ellipse">
                <a:avLst/>
              </a:prstGeom>
              <a:gradFill rotWithShape="0">
                <a:gsLst>
                  <a:gs pos="0">
                    <a:srgbClr val="8bd8d4"/>
                  </a:gs>
                  <a:gs pos="100000">
                    <a:srgbClr val="009a94"/>
                  </a:gs>
                </a:gsLst>
                <a:path path="rect">
                  <a:fillToRect l="50000" t="50000" r="50000" b="50000"/>
                </a:path>
              </a:gradFill>
              <a:ln w="28800">
                <a:solidFill>
                  <a:srgbClr val="009a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4400" rIns="104400" tIns="59400" bIns="59400" anchor="ctr">
                <a:noAutofit/>
              </a:bodyPr>
              <a:p>
                <a:pPr algn="ctr">
                  <a:lnSpc>
                    <a:spcPct val="118000"/>
                  </a:lnSpc>
                  <a:tabLst>
                    <a:tab algn="l" pos="0"/>
                    <a:tab algn="l" pos="72396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2339640" y="2018880"/>
                <a:ext cx="76356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Oval 8"/>
              <p:cNvSpPr/>
              <p:nvPr/>
            </p:nvSpPr>
            <p:spPr>
              <a:xfrm>
                <a:off x="2449440" y="2792880"/>
                <a:ext cx="541440" cy="98280"/>
              </a:xfrm>
              <a:prstGeom prst="ellipse">
                <a:avLst/>
              </a:prstGeom>
              <a:solidFill>
                <a:srgbClr val="98989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" name="Text Box 9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1793880" y="3201840"/>
            <a:ext cx="6489720" cy="1298160"/>
            <a:chOff x="1793880" y="3201840"/>
            <a:chExt cx="6489720" cy="1298160"/>
          </a:xfrm>
        </p:grpSpPr>
        <p:grpSp>
          <p:nvGrpSpPr>
            <p:cNvPr id="96" name="Group 11"/>
            <p:cNvGrpSpPr/>
            <p:nvPr/>
          </p:nvGrpSpPr>
          <p:grpSpPr>
            <a:xfrm>
              <a:off x="1793880" y="3679560"/>
              <a:ext cx="6489720" cy="820440"/>
              <a:chOff x="1793880" y="3679560"/>
              <a:chExt cx="6489720" cy="820440"/>
            </a:xfrm>
          </p:grpSpPr>
          <p:sp>
            <p:nvSpPr>
              <p:cNvPr id="97" name="AutoShape 12"/>
              <p:cNvSpPr/>
              <p:nvPr/>
            </p:nvSpPr>
            <p:spPr>
              <a:xfrm>
                <a:off x="1854000" y="3679560"/>
                <a:ext cx="6356520" cy="529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3d8b9"/>
                  </a:gs>
                  <a:gs pos="100000">
                    <a:srgbClr val="d0edde"/>
                  </a:gs>
                </a:gsLst>
                <a:lin ang="5400000"/>
              </a:gradFill>
              <a:ln w="28800">
                <a:solidFill>
                  <a:srgbClr val="83d8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5400" rIns="365400" tIns="52200" bIns="52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Please insert your own tex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1793880" y="4219920"/>
                <a:ext cx="6489720" cy="280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" name="Group 14"/>
            <p:cNvGrpSpPr/>
            <p:nvPr/>
          </p:nvGrpSpPr>
          <p:grpSpPr>
            <a:xfrm>
              <a:off x="2338560" y="3201840"/>
              <a:ext cx="764640" cy="875880"/>
              <a:chOff x="2338560" y="3201840"/>
              <a:chExt cx="764640" cy="875880"/>
            </a:xfrm>
          </p:grpSpPr>
          <p:sp>
            <p:nvSpPr>
              <p:cNvPr id="100" name="Oval 15"/>
              <p:cNvSpPr/>
              <p:nvPr/>
            </p:nvSpPr>
            <p:spPr>
              <a:xfrm>
                <a:off x="2338560" y="3201840"/>
                <a:ext cx="749160" cy="750600"/>
              </a:xfrm>
              <a:prstGeom prst="ellipse">
                <a:avLst/>
              </a:prstGeom>
              <a:gradFill rotWithShape="0">
                <a:gsLst>
                  <a:gs pos="0">
                    <a:srgbClr val="8bd8d4"/>
                  </a:gs>
                  <a:gs pos="100000">
                    <a:srgbClr val="009a94"/>
                  </a:gs>
                </a:gsLst>
                <a:path path="rect">
                  <a:fillToRect l="50000" t="50000" r="50000" b="50000"/>
                </a:path>
              </a:gradFill>
              <a:ln w="28800">
                <a:solidFill>
                  <a:srgbClr val="009a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4400" rIns="104400" tIns="59400" bIns="59400" anchor="ctr">
                <a:noAutofit/>
              </a:bodyPr>
              <a:p>
                <a:pPr algn="ctr">
                  <a:lnSpc>
                    <a:spcPct val="118000"/>
                  </a:lnSpc>
                  <a:tabLst>
                    <a:tab algn="l" pos="0"/>
                    <a:tab algn="l" pos="72396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" name="Pictur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339640" y="3206160"/>
                <a:ext cx="763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Oval 17"/>
              <p:cNvSpPr/>
              <p:nvPr/>
            </p:nvSpPr>
            <p:spPr>
              <a:xfrm>
                <a:off x="2449440" y="3979440"/>
                <a:ext cx="541440" cy="98280"/>
              </a:xfrm>
              <a:prstGeom prst="ellipse">
                <a:avLst/>
              </a:prstGeom>
              <a:solidFill>
                <a:srgbClr val="98989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Group 18"/>
          <p:cNvGrpSpPr/>
          <p:nvPr/>
        </p:nvGrpSpPr>
        <p:grpSpPr>
          <a:xfrm>
            <a:off x="1793880" y="4389480"/>
            <a:ext cx="6489720" cy="1298160"/>
            <a:chOff x="1793880" y="4389480"/>
            <a:chExt cx="6489720" cy="1298160"/>
          </a:xfrm>
        </p:grpSpPr>
        <p:grpSp>
          <p:nvGrpSpPr>
            <p:cNvPr id="104" name="Group 19"/>
            <p:cNvGrpSpPr/>
            <p:nvPr/>
          </p:nvGrpSpPr>
          <p:grpSpPr>
            <a:xfrm>
              <a:off x="1793880" y="4867200"/>
              <a:ext cx="6489720" cy="820440"/>
              <a:chOff x="1793880" y="4867200"/>
              <a:chExt cx="6489720" cy="820440"/>
            </a:xfrm>
          </p:grpSpPr>
          <p:sp>
            <p:nvSpPr>
              <p:cNvPr id="105" name="AutoShape 20"/>
              <p:cNvSpPr/>
              <p:nvPr/>
            </p:nvSpPr>
            <p:spPr>
              <a:xfrm>
                <a:off x="1854000" y="4867200"/>
                <a:ext cx="6356520" cy="5292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3d8b9"/>
                  </a:gs>
                  <a:gs pos="100000">
                    <a:srgbClr val="d0edde"/>
                  </a:gs>
                </a:gsLst>
                <a:lin ang="5400000"/>
              </a:gradFill>
              <a:ln w="28800">
                <a:solidFill>
                  <a:srgbClr val="83d8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5400" rIns="365400" tIns="52200" bIns="52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Please insert your own tex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" name="Pictur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1793880" y="5407560"/>
                <a:ext cx="6489720" cy="280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7" name="Group 22"/>
            <p:cNvGrpSpPr/>
            <p:nvPr/>
          </p:nvGrpSpPr>
          <p:grpSpPr>
            <a:xfrm>
              <a:off x="2338560" y="4389480"/>
              <a:ext cx="764640" cy="875880"/>
              <a:chOff x="2338560" y="4389480"/>
              <a:chExt cx="764640" cy="875880"/>
            </a:xfrm>
          </p:grpSpPr>
          <p:sp>
            <p:nvSpPr>
              <p:cNvPr id="108" name="Oval 23"/>
              <p:cNvSpPr/>
              <p:nvPr/>
            </p:nvSpPr>
            <p:spPr>
              <a:xfrm>
                <a:off x="2338560" y="4389480"/>
                <a:ext cx="749160" cy="750600"/>
              </a:xfrm>
              <a:prstGeom prst="ellipse">
                <a:avLst/>
              </a:prstGeom>
              <a:gradFill rotWithShape="0">
                <a:gsLst>
                  <a:gs pos="0">
                    <a:srgbClr val="8bd8d4"/>
                  </a:gs>
                  <a:gs pos="100000">
                    <a:srgbClr val="009a94"/>
                  </a:gs>
                </a:gsLst>
                <a:path path="rect">
                  <a:fillToRect l="50000" t="50000" r="50000" b="50000"/>
                </a:path>
              </a:gradFill>
              <a:ln w="28800">
                <a:solidFill>
                  <a:srgbClr val="009a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4400" rIns="104400" tIns="59400" bIns="59400" anchor="ctr">
                <a:noAutofit/>
              </a:bodyPr>
              <a:p>
                <a:pPr algn="ctr">
                  <a:lnSpc>
                    <a:spcPct val="118000"/>
                  </a:lnSpc>
                  <a:tabLst>
                    <a:tab algn="l" pos="0"/>
                    <a:tab algn="l" pos="72396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" name="Pictur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2339640" y="4393800"/>
                <a:ext cx="763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Oval 25"/>
              <p:cNvSpPr/>
              <p:nvPr/>
            </p:nvSpPr>
            <p:spPr>
              <a:xfrm>
                <a:off x="2449440" y="5167080"/>
                <a:ext cx="541440" cy="98280"/>
              </a:xfrm>
              <a:prstGeom prst="ellipse">
                <a:avLst/>
              </a:prstGeom>
              <a:solidFill>
                <a:srgbClr val="98989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Group 26"/>
          <p:cNvGrpSpPr/>
          <p:nvPr/>
        </p:nvGrpSpPr>
        <p:grpSpPr>
          <a:xfrm>
            <a:off x="1793880" y="5614920"/>
            <a:ext cx="6489720" cy="1297800"/>
            <a:chOff x="1793880" y="5614920"/>
            <a:chExt cx="6489720" cy="1297800"/>
          </a:xfrm>
        </p:grpSpPr>
        <p:grpSp>
          <p:nvGrpSpPr>
            <p:cNvPr id="112" name="Group 27"/>
            <p:cNvGrpSpPr/>
            <p:nvPr/>
          </p:nvGrpSpPr>
          <p:grpSpPr>
            <a:xfrm>
              <a:off x="1793880" y="6091560"/>
              <a:ext cx="6489720" cy="821160"/>
              <a:chOff x="1793880" y="6091560"/>
              <a:chExt cx="6489720" cy="821160"/>
            </a:xfrm>
          </p:grpSpPr>
          <p:sp>
            <p:nvSpPr>
              <p:cNvPr id="113" name="AutoShape 28"/>
              <p:cNvSpPr/>
              <p:nvPr/>
            </p:nvSpPr>
            <p:spPr>
              <a:xfrm>
                <a:off x="1854000" y="6091560"/>
                <a:ext cx="6356520" cy="529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83d8b9"/>
                  </a:gs>
                  <a:gs pos="100000">
                    <a:srgbClr val="d0edde"/>
                  </a:gs>
                </a:gsLst>
                <a:lin ang="5400000"/>
              </a:gradFill>
              <a:ln w="28800">
                <a:solidFill>
                  <a:srgbClr val="83d8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5400" rIns="365400" tIns="52200" bIns="52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Arial"/>
                    <a:ea typeface="仿宋_GB2312"/>
                  </a:rPr>
                  <a:t>Please insert your own tex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Picture 29" descr=""/>
              <p:cNvPicPr/>
              <p:nvPr/>
            </p:nvPicPr>
            <p:blipFill>
              <a:blip r:embed="rId8"/>
              <a:stretch/>
            </p:blipFill>
            <p:spPr>
              <a:xfrm>
                <a:off x="1793880" y="6632280"/>
                <a:ext cx="6489720" cy="28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5" name="Group 30"/>
            <p:cNvGrpSpPr/>
            <p:nvPr/>
          </p:nvGrpSpPr>
          <p:grpSpPr>
            <a:xfrm>
              <a:off x="2338560" y="5614920"/>
              <a:ext cx="764640" cy="876600"/>
              <a:chOff x="2338560" y="5614920"/>
              <a:chExt cx="764640" cy="876600"/>
            </a:xfrm>
          </p:grpSpPr>
          <p:sp>
            <p:nvSpPr>
              <p:cNvPr id="116" name="Oval 31"/>
              <p:cNvSpPr/>
              <p:nvPr/>
            </p:nvSpPr>
            <p:spPr>
              <a:xfrm>
                <a:off x="2338560" y="5614920"/>
                <a:ext cx="749160" cy="752760"/>
              </a:xfrm>
              <a:prstGeom prst="ellipse">
                <a:avLst/>
              </a:prstGeom>
              <a:gradFill rotWithShape="0">
                <a:gsLst>
                  <a:gs pos="0">
                    <a:srgbClr val="8bd8d4"/>
                  </a:gs>
                  <a:gs pos="100000">
                    <a:srgbClr val="009a94"/>
                  </a:gs>
                </a:gsLst>
                <a:path path="rect">
                  <a:fillToRect l="50000" t="50000" r="50000" b="50000"/>
                </a:path>
              </a:gradFill>
              <a:ln w="28800">
                <a:solidFill>
                  <a:srgbClr val="009a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4400" rIns="104400" tIns="59400" bIns="59400" anchor="ctr">
                <a:noAutofit/>
              </a:bodyPr>
              <a:p>
                <a:pPr algn="ctr">
                  <a:lnSpc>
                    <a:spcPct val="118000"/>
                  </a:lnSpc>
                  <a:tabLst>
                    <a:tab algn="l" pos="0"/>
                    <a:tab algn="l" pos="72396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 Black"/>
                    <a:ea typeface="宋体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" name="Picture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2339640" y="5618160"/>
                <a:ext cx="763560" cy="28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Oval 33"/>
              <p:cNvSpPr/>
              <p:nvPr/>
            </p:nvSpPr>
            <p:spPr>
              <a:xfrm>
                <a:off x="2449440" y="6393240"/>
                <a:ext cx="541440" cy="98280"/>
              </a:xfrm>
              <a:prstGeom prst="ellipse">
                <a:avLst/>
              </a:prstGeom>
              <a:solidFill>
                <a:srgbClr val="98989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Text Box 34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页脚占位符 35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" descr=""/>
          <p:cNvPicPr/>
          <p:nvPr/>
        </p:nvPicPr>
        <p:blipFill>
          <a:blip r:embed="rId2"/>
          <a:stretch/>
        </p:blipFill>
        <p:spPr>
          <a:xfrm>
            <a:off x="1057320" y="2279520"/>
            <a:ext cx="8128080" cy="468972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2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页脚占位符 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008000" y="6588000"/>
            <a:ext cx="532764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17320" y="207720"/>
            <a:ext cx="90471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9160" y="1399680"/>
            <a:ext cx="9842400" cy="575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69000"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8032680" y="368280"/>
            <a:ext cx="15321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1D3D-E632-4B86-B596-0BE3458EF2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"/>
          <p:cNvSpPr/>
          <p:nvPr/>
        </p:nvSpPr>
        <p:spPr>
          <a:xfrm>
            <a:off x="730080" y="3125520"/>
            <a:ext cx="86839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950e"/>
                </a:solidFill>
                <a:latin typeface="Arial"/>
                <a:ea typeface="仿宋_GB2312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页脚占位符 3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1"/>
          <p:cNvGrpSpPr/>
          <p:nvPr/>
        </p:nvGrpSpPr>
        <p:grpSpPr>
          <a:xfrm>
            <a:off x="1359000" y="5275440"/>
            <a:ext cx="7360920" cy="1312560"/>
            <a:chOff x="1359000" y="5275440"/>
            <a:chExt cx="7360920" cy="1312560"/>
          </a:xfrm>
        </p:grpSpPr>
        <p:sp>
          <p:nvSpPr>
            <p:cNvPr id="122" name="AutoShape 2"/>
            <p:cNvSpPr/>
            <p:nvPr/>
          </p:nvSpPr>
          <p:spPr>
            <a:xfrm>
              <a:off x="5541120" y="5596920"/>
              <a:ext cx="3178800" cy="6688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3"/>
            <p:cNvSpPr/>
            <p:nvPr/>
          </p:nvSpPr>
          <p:spPr>
            <a:xfrm>
              <a:off x="1359000" y="5596920"/>
              <a:ext cx="3179160" cy="6688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"/>
            <p:cNvSpPr/>
            <p:nvPr/>
          </p:nvSpPr>
          <p:spPr>
            <a:xfrm>
              <a:off x="4372920" y="5275440"/>
              <a:ext cx="1314000" cy="131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3d8b9"/>
                </a:gs>
              </a:gsLst>
              <a:path path="rect">
                <a:fillToRect l="50000" t="50000" r="50000" b="50000"/>
              </a:path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5"/>
          <p:cNvGrpSpPr/>
          <p:nvPr/>
        </p:nvGrpSpPr>
        <p:grpSpPr>
          <a:xfrm>
            <a:off x="1359000" y="3705120"/>
            <a:ext cx="7360920" cy="1312920"/>
            <a:chOff x="1359000" y="3705120"/>
            <a:chExt cx="7360920" cy="1312920"/>
          </a:xfrm>
        </p:grpSpPr>
        <p:sp>
          <p:nvSpPr>
            <p:cNvPr id="126" name="AutoShape 6"/>
            <p:cNvSpPr/>
            <p:nvPr/>
          </p:nvSpPr>
          <p:spPr>
            <a:xfrm>
              <a:off x="5541120" y="4026960"/>
              <a:ext cx="3178800" cy="6688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7"/>
            <p:cNvSpPr/>
            <p:nvPr/>
          </p:nvSpPr>
          <p:spPr>
            <a:xfrm>
              <a:off x="1359000" y="4026960"/>
              <a:ext cx="3179160" cy="6688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"/>
            <p:cNvSpPr/>
            <p:nvPr/>
          </p:nvSpPr>
          <p:spPr>
            <a:xfrm>
              <a:off x="4372920" y="3705120"/>
              <a:ext cx="1314000" cy="1312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39700"/>
                </a:gs>
              </a:gsLst>
              <a:path path="rect">
                <a:fillToRect l="50000" t="50000" r="50000" b="50000"/>
              </a:path>
            </a:gradFill>
            <a:ln w="28800">
              <a:solidFill>
                <a:srgbClr val="f39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9"/>
          <p:cNvGrpSpPr/>
          <p:nvPr/>
        </p:nvGrpSpPr>
        <p:grpSpPr>
          <a:xfrm>
            <a:off x="1359000" y="2136600"/>
            <a:ext cx="7360920" cy="1312920"/>
            <a:chOff x="1359000" y="2136600"/>
            <a:chExt cx="7360920" cy="1312920"/>
          </a:xfrm>
        </p:grpSpPr>
        <p:sp>
          <p:nvSpPr>
            <p:cNvPr id="130" name="AutoShape 10"/>
            <p:cNvSpPr/>
            <p:nvPr/>
          </p:nvSpPr>
          <p:spPr>
            <a:xfrm>
              <a:off x="5541120" y="2457000"/>
              <a:ext cx="3178800" cy="6688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1"/>
            <p:cNvSpPr/>
            <p:nvPr/>
          </p:nvSpPr>
          <p:spPr>
            <a:xfrm>
              <a:off x="1359000" y="2457000"/>
              <a:ext cx="3179160" cy="6688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2"/>
            <p:cNvSpPr/>
            <p:nvPr/>
          </p:nvSpPr>
          <p:spPr>
            <a:xfrm>
              <a:off x="4372920" y="2136600"/>
              <a:ext cx="1314000" cy="1312920"/>
            </a:xfrm>
            <a:prstGeom prst="ellipse">
              <a:avLst/>
            </a:prstGeom>
            <a:gradFill rotWithShape="0">
              <a:gsLst>
                <a:gs pos="0">
                  <a:srgbClr val="8bd8d4"/>
                </a:gs>
                <a:gs pos="100000">
                  <a:srgbClr val="009a94"/>
                </a:gs>
              </a:gsLst>
              <a:path path="rect">
                <a:fillToRect l="50000" t="50000" r="50000" b="50000"/>
              </a:path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AutoShape 13"/>
          <p:cNvSpPr/>
          <p:nvPr/>
        </p:nvSpPr>
        <p:spPr>
          <a:xfrm rot="10800000">
            <a:off x="4530600" y="3483000"/>
            <a:ext cx="1020960" cy="466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6666"/>
              </a:gs>
              <a:gs pos="100000">
                <a:srgbClr val="cccccc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4"/>
          <p:cNvSpPr/>
          <p:nvPr/>
        </p:nvSpPr>
        <p:spPr>
          <a:xfrm rot="10800000">
            <a:off x="4532040" y="5057280"/>
            <a:ext cx="1020600" cy="466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66666"/>
              </a:gs>
              <a:gs pos="100000">
                <a:srgbClr val="cccccc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页脚占位符 17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Oval 1"/>
          <p:cNvSpPr/>
          <p:nvPr/>
        </p:nvSpPr>
        <p:spPr>
          <a:xfrm>
            <a:off x="4575240" y="2320920"/>
            <a:ext cx="1136520" cy="113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39700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AutoShape 2"/>
          <p:cNvCxnSpPr>
            <a:stCxn id="140" idx="0"/>
            <a:endCxn id="138" idx="3"/>
          </p:cNvCxnSpPr>
          <p:nvPr/>
        </p:nvCxnSpPr>
        <p:spPr>
          <a:xfrm flipV="1">
            <a:off x="3317400" y="3288960"/>
            <a:ext cx="1423080" cy="18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3"/>
          <p:cNvCxnSpPr>
            <a:stCxn id="138" idx="5"/>
            <a:endCxn id="142" idx="0"/>
          </p:cNvCxnSpPr>
          <p:nvPr/>
        </p:nvCxnSpPr>
        <p:spPr>
          <a:xfrm>
            <a:off x="5545080" y="3288960"/>
            <a:ext cx="131040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AutoShape 4"/>
          <p:cNvCxnSpPr/>
          <p:nvPr/>
        </p:nvCxnSpPr>
        <p:spPr>
          <a:xfrm flipH="1">
            <a:off x="3871440" y="5803920"/>
            <a:ext cx="2426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AutoShape 5"/>
          <p:cNvSpPr/>
          <p:nvPr/>
        </p:nvSpPr>
        <p:spPr>
          <a:xfrm>
            <a:off x="2362320" y="2432160"/>
            <a:ext cx="1908000" cy="72072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"/>
          <p:cNvSpPr/>
          <p:nvPr/>
        </p:nvSpPr>
        <p:spPr>
          <a:xfrm>
            <a:off x="2378160" y="2394000"/>
            <a:ext cx="2581200" cy="1555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570800" y="4346640"/>
            <a:ext cx="1908000" cy="72072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588960" y="5108400"/>
            <a:ext cx="1908000" cy="72108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12720" y="5869080"/>
            <a:ext cx="241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6999120" y="5097600"/>
            <a:ext cx="2492640" cy="2379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2749680" y="5121360"/>
            <a:ext cx="1136520" cy="113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39700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2"/>
          <p:cNvSpPr/>
          <p:nvPr/>
        </p:nvSpPr>
        <p:spPr>
          <a:xfrm>
            <a:off x="6286680" y="5121360"/>
            <a:ext cx="1136520" cy="113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39700"/>
              </a:gs>
            </a:gsLst>
            <a:path path="rect">
              <a:fillToRect l="50000" t="50000" r="50000" b="50000"/>
            </a:path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3"/>
          <p:cNvGrpSpPr/>
          <p:nvPr/>
        </p:nvGrpSpPr>
        <p:grpSpPr>
          <a:xfrm>
            <a:off x="4210200" y="3825720"/>
            <a:ext cx="1814400" cy="1863360"/>
            <a:chOff x="4210200" y="3825720"/>
            <a:chExt cx="1814400" cy="1863360"/>
          </a:xfrm>
        </p:grpSpPr>
        <p:grpSp>
          <p:nvGrpSpPr>
            <p:cNvPr id="151" name="Group 14"/>
            <p:cNvGrpSpPr/>
            <p:nvPr/>
          </p:nvGrpSpPr>
          <p:grpSpPr>
            <a:xfrm>
              <a:off x="4210200" y="3825720"/>
              <a:ext cx="1814400" cy="1863360"/>
              <a:chOff x="4210200" y="3825720"/>
              <a:chExt cx="1814400" cy="1863360"/>
            </a:xfrm>
          </p:grpSpPr>
          <p:pic>
            <p:nvPicPr>
              <p:cNvPr id="152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210200" y="5427720"/>
                <a:ext cx="181440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Oval 16"/>
              <p:cNvSpPr/>
              <p:nvPr/>
            </p:nvSpPr>
            <p:spPr>
              <a:xfrm>
                <a:off x="4332240" y="3825720"/>
                <a:ext cx="1618920" cy="1619280"/>
              </a:xfrm>
              <a:prstGeom prst="ellipse">
                <a:avLst/>
              </a:prstGeom>
              <a:gradFill rotWithShape="0">
                <a:gsLst>
                  <a:gs pos="0">
                    <a:srgbClr val="8bd8d4"/>
                  </a:gs>
                  <a:gs pos="100000">
                    <a:srgbClr val="009a94"/>
                  </a:gs>
                </a:gsLst>
                <a:path path="rect">
                  <a:fillToRect l="50000" t="50000" r="50000" b="50000"/>
                </a:path>
              </a:gradFill>
              <a:ln w="28800">
                <a:solidFill>
                  <a:srgbClr val="009a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723960"/>
                    <a:tab algn="l" pos="144792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ex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Text Box 17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页脚占位符 19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1"/>
          <p:cNvGrpSpPr/>
          <p:nvPr/>
        </p:nvGrpSpPr>
        <p:grpSpPr>
          <a:xfrm>
            <a:off x="3814920" y="2181240"/>
            <a:ext cx="2438280" cy="590040"/>
            <a:chOff x="3814920" y="2181240"/>
            <a:chExt cx="2438280" cy="590040"/>
          </a:xfrm>
        </p:grpSpPr>
        <p:sp>
          <p:nvSpPr>
            <p:cNvPr id="158" name="AutoShape 2"/>
            <p:cNvSpPr/>
            <p:nvPr/>
          </p:nvSpPr>
          <p:spPr>
            <a:xfrm>
              <a:off x="3814920" y="2181240"/>
              <a:ext cx="2438280" cy="470160"/>
            </a:xfrm>
            <a:prstGeom prst="roundRect">
              <a:avLst>
                <a:gd name="adj" fmla="val 333"/>
              </a:avLst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Title 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3"/>
            <p:cNvSpPr/>
            <p:nvPr/>
          </p:nvSpPr>
          <p:spPr>
            <a:xfrm>
              <a:off x="3814920" y="2652840"/>
              <a:ext cx="2436840" cy="118440"/>
            </a:xfrm>
            <a:prstGeom prst="pie">
              <a:avLst/>
            </a:prstGeom>
            <a:gradFill rotWithShape="0">
              <a:gsLst>
                <a:gs pos="0">
                  <a:srgbClr val="999999"/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"/>
          <p:cNvGrpSpPr/>
          <p:nvPr/>
        </p:nvGrpSpPr>
        <p:grpSpPr>
          <a:xfrm>
            <a:off x="888840" y="3025800"/>
            <a:ext cx="2560320" cy="3541680"/>
            <a:chOff x="888840" y="3025800"/>
            <a:chExt cx="2560320" cy="3541680"/>
          </a:xfrm>
        </p:grpSpPr>
        <p:grpSp>
          <p:nvGrpSpPr>
            <p:cNvPr id="161" name="Group 5"/>
            <p:cNvGrpSpPr/>
            <p:nvPr/>
          </p:nvGrpSpPr>
          <p:grpSpPr>
            <a:xfrm>
              <a:off x="888840" y="3025800"/>
              <a:ext cx="2559240" cy="3541680"/>
              <a:chOff x="888840" y="3025800"/>
              <a:chExt cx="2559240" cy="3541680"/>
            </a:xfrm>
          </p:grpSpPr>
          <p:sp>
            <p:nvSpPr>
              <p:cNvPr id="162" name="AutoShape 6"/>
              <p:cNvSpPr/>
              <p:nvPr/>
            </p:nvSpPr>
            <p:spPr>
              <a:xfrm rot="16200000">
                <a:off x="523800" y="3643200"/>
                <a:ext cx="3541680" cy="2306880"/>
              </a:xfrm>
              <a:prstGeom prst="pie">
                <a:avLst/>
              </a:prstGeom>
              <a:gradFill rotWithShape="0">
                <a:gsLst>
                  <a:gs pos="0">
                    <a:srgbClr val="83d8b9"/>
                  </a:gs>
                  <a:gs pos="100000">
                    <a:srgbClr val="d0edde"/>
                  </a:gs>
                </a:gsLst>
                <a:lin ang="5400000"/>
              </a:gradFill>
              <a:ln w="28800">
                <a:solidFill>
                  <a:srgbClr val="83d8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7"/>
              <p:cNvSpPr/>
              <p:nvPr/>
            </p:nvSpPr>
            <p:spPr>
              <a:xfrm rot="5400000">
                <a:off x="-766800" y="4681440"/>
                <a:ext cx="3541680" cy="230400"/>
              </a:xfrm>
              <a:prstGeom prst="pie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 Box 8"/>
            <p:cNvSpPr/>
            <p:nvPr/>
          </p:nvSpPr>
          <p:spPr>
            <a:xfrm>
              <a:off x="1163160" y="3583080"/>
              <a:ext cx="228600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 Please insert your  text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9"/>
          <p:cNvGrpSpPr/>
          <p:nvPr/>
        </p:nvGrpSpPr>
        <p:grpSpPr>
          <a:xfrm>
            <a:off x="6627600" y="3025800"/>
            <a:ext cx="2562120" cy="3541680"/>
            <a:chOff x="6627600" y="3025800"/>
            <a:chExt cx="2562120" cy="3541680"/>
          </a:xfrm>
        </p:grpSpPr>
        <p:grpSp>
          <p:nvGrpSpPr>
            <p:cNvPr id="166" name="Group 10"/>
            <p:cNvGrpSpPr/>
            <p:nvPr/>
          </p:nvGrpSpPr>
          <p:grpSpPr>
            <a:xfrm>
              <a:off x="6627600" y="3025800"/>
              <a:ext cx="2562120" cy="3541680"/>
              <a:chOff x="6627600" y="3025800"/>
              <a:chExt cx="2562120" cy="3541680"/>
            </a:xfrm>
          </p:grpSpPr>
          <p:sp>
            <p:nvSpPr>
              <p:cNvPr id="167" name="AutoShape 11"/>
              <p:cNvSpPr/>
              <p:nvPr/>
            </p:nvSpPr>
            <p:spPr>
              <a:xfrm rot="5400000">
                <a:off x="6012720" y="3640320"/>
                <a:ext cx="3541680" cy="2312280"/>
              </a:xfrm>
              <a:prstGeom prst="pie">
                <a:avLst/>
              </a:prstGeom>
              <a:gradFill rotWithShape="0">
                <a:gsLst>
                  <a:gs pos="0">
                    <a:srgbClr val="83d8b9"/>
                  </a:gs>
                  <a:gs pos="100000">
                    <a:srgbClr val="d0edde"/>
                  </a:gs>
                </a:gsLst>
                <a:lin ang="5400000"/>
              </a:gradFill>
              <a:ln w="28800">
                <a:solidFill>
                  <a:srgbClr val="83d8b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12"/>
              <p:cNvSpPr/>
              <p:nvPr/>
            </p:nvSpPr>
            <p:spPr>
              <a:xfrm rot="16200000">
                <a:off x="7303680" y="4681440"/>
                <a:ext cx="3541680" cy="230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Text Box 13"/>
            <p:cNvSpPr/>
            <p:nvPr/>
          </p:nvSpPr>
          <p:spPr>
            <a:xfrm>
              <a:off x="6642360" y="3597480"/>
              <a:ext cx="2286000" cy="78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 Please insert your  text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14"/>
          <p:cNvSpPr/>
          <p:nvPr/>
        </p:nvSpPr>
        <p:spPr>
          <a:xfrm>
            <a:off x="3814920" y="3395520"/>
            <a:ext cx="2439720" cy="2816280"/>
          </a:xfrm>
          <a:prstGeom prst="rect">
            <a:avLst/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266400" bIns="2664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insert your  text...  Please insert your  text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insert your  text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5"/>
          <p:cNvGrpSpPr/>
          <p:nvPr/>
        </p:nvGrpSpPr>
        <p:grpSpPr>
          <a:xfrm>
            <a:off x="1014480" y="2181240"/>
            <a:ext cx="2436840" cy="590040"/>
            <a:chOff x="1014480" y="2181240"/>
            <a:chExt cx="2436840" cy="590040"/>
          </a:xfrm>
        </p:grpSpPr>
        <p:sp>
          <p:nvSpPr>
            <p:cNvPr id="172" name="AutoShape 16"/>
            <p:cNvSpPr/>
            <p:nvPr/>
          </p:nvSpPr>
          <p:spPr>
            <a:xfrm>
              <a:off x="1014480" y="2181240"/>
              <a:ext cx="2436840" cy="470160"/>
            </a:xfrm>
            <a:prstGeom prst="roundRect">
              <a:avLst>
                <a:gd name="adj" fmla="val 333"/>
              </a:avLst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Title 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17"/>
            <p:cNvSpPr/>
            <p:nvPr/>
          </p:nvSpPr>
          <p:spPr>
            <a:xfrm>
              <a:off x="1014480" y="2652840"/>
              <a:ext cx="2435400" cy="118440"/>
            </a:xfrm>
            <a:prstGeom prst="pie">
              <a:avLst/>
            </a:prstGeom>
            <a:gradFill rotWithShape="0">
              <a:gsLst>
                <a:gs pos="0">
                  <a:srgbClr val="999999"/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8"/>
          <p:cNvGrpSpPr/>
          <p:nvPr/>
        </p:nvGrpSpPr>
        <p:grpSpPr>
          <a:xfrm>
            <a:off x="6627960" y="2181240"/>
            <a:ext cx="2436840" cy="590040"/>
            <a:chOff x="6627960" y="2181240"/>
            <a:chExt cx="2436840" cy="590040"/>
          </a:xfrm>
        </p:grpSpPr>
        <p:sp>
          <p:nvSpPr>
            <p:cNvPr id="175" name="AutoShape 19"/>
            <p:cNvSpPr/>
            <p:nvPr/>
          </p:nvSpPr>
          <p:spPr>
            <a:xfrm>
              <a:off x="6627960" y="2181240"/>
              <a:ext cx="2436840" cy="470160"/>
            </a:xfrm>
            <a:prstGeom prst="roundRect">
              <a:avLst>
                <a:gd name="adj" fmla="val 333"/>
              </a:avLst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 anchorCtr="1">
              <a:no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仿宋_GB2312"/>
                  <a:ea typeface="仿宋_GB2312"/>
                </a:rPr>
                <a:t>Title 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0"/>
            <p:cNvSpPr/>
            <p:nvPr/>
          </p:nvSpPr>
          <p:spPr>
            <a:xfrm>
              <a:off x="6629040" y="2652840"/>
              <a:ext cx="2435400" cy="118440"/>
            </a:xfrm>
            <a:prstGeom prst="pie">
              <a:avLst/>
            </a:prstGeom>
            <a:gradFill rotWithShape="0">
              <a:gsLst>
                <a:gs pos="0">
                  <a:srgbClr val="999999"/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21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页脚占位符 23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"/>
          <p:cNvGrpSpPr/>
          <p:nvPr/>
        </p:nvGrpSpPr>
        <p:grpSpPr>
          <a:xfrm>
            <a:off x="1214280" y="2003400"/>
            <a:ext cx="5616720" cy="4912920"/>
            <a:chOff x="1214280" y="2003400"/>
            <a:chExt cx="5616720" cy="4912920"/>
          </a:xfrm>
        </p:grpSpPr>
        <p:sp>
          <p:nvSpPr>
            <p:cNvPr id="181" name="AutoShape 2"/>
            <p:cNvSpPr/>
            <p:nvPr/>
          </p:nvSpPr>
          <p:spPr>
            <a:xfrm>
              <a:off x="1220400" y="2003400"/>
              <a:ext cx="5603760" cy="4557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3"/>
            <p:cNvSpPr/>
            <p:nvPr/>
          </p:nvSpPr>
          <p:spPr>
            <a:xfrm>
              <a:off x="1214280" y="6573600"/>
              <a:ext cx="5616720" cy="342720"/>
            </a:xfrm>
            <a:prstGeom prst="pie">
              <a:avLst/>
            </a:prstGeom>
            <a:gradFill rotWithShape="0">
              <a:gsLst>
                <a:gs pos="0">
                  <a:srgbClr val="999999"/>
                </a:gs>
                <a:gs pos="100000">
                  <a:srgbClr val="ffffff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AutoShape 4"/>
          <p:cNvSpPr/>
          <p:nvPr/>
        </p:nvSpPr>
        <p:spPr>
          <a:xfrm>
            <a:off x="3952800" y="2303640"/>
            <a:ext cx="4913280" cy="109980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1400" bIns="41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仿宋_GB2312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52800" y="3672000"/>
            <a:ext cx="4913280" cy="110016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1400" bIns="41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仿宋_GB2312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3952800" y="5040360"/>
            <a:ext cx="4913280" cy="110016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86400" tIns="41400" bIns="41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仿宋_GB2312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页脚占位符 9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1"/>
          <p:cNvSpPr/>
          <p:nvPr/>
        </p:nvSpPr>
        <p:spPr>
          <a:xfrm>
            <a:off x="7354800" y="4626000"/>
            <a:ext cx="1908360" cy="72072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2"/>
          <p:cNvSpPr/>
          <p:nvPr/>
        </p:nvSpPr>
        <p:spPr>
          <a:xfrm>
            <a:off x="5667480" y="4649760"/>
            <a:ext cx="3617640" cy="7333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830160" y="2523960"/>
            <a:ext cx="1908360" cy="72072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795240" y="4808520"/>
            <a:ext cx="1908360" cy="720720"/>
          </a:xfrm>
          <a:prstGeom prst="roundRect">
            <a:avLst>
              <a:gd name="adj" fmla="val 11741"/>
            </a:avLst>
          </a:pr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5"/>
          <p:cNvSpPr/>
          <p:nvPr/>
        </p:nvSpPr>
        <p:spPr>
          <a:xfrm>
            <a:off x="2898720" y="2664000"/>
            <a:ext cx="2401920" cy="2401560"/>
          </a:xfrm>
          <a:prstGeom prst="ellipse">
            <a:avLst/>
          </a:prstGeom>
          <a:gradFill rotWithShape="0">
            <a:gsLst>
              <a:gs pos="0">
                <a:srgbClr val="8bd8d4"/>
              </a:gs>
              <a:gs pos="100000">
                <a:srgbClr val="009a94">
                  <a:alpha val="70196"/>
                </a:srgbClr>
              </a:gs>
            </a:gsLst>
            <a:path path="rect">
              <a:fillToRect l="50000" t="50000" r="50000" b="50000"/>
            </a:path>
          </a:gradFill>
          <a:ln w="28800">
            <a:solidFill>
              <a:srgbClr val="009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50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"/>
          <p:cNvSpPr/>
          <p:nvPr/>
        </p:nvSpPr>
        <p:spPr>
          <a:xfrm>
            <a:off x="835200" y="2482920"/>
            <a:ext cx="4174920" cy="1166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7"/>
          <p:cNvGrpSpPr/>
          <p:nvPr/>
        </p:nvGrpSpPr>
        <p:grpSpPr>
          <a:xfrm>
            <a:off x="3443400" y="4138560"/>
            <a:ext cx="3136680" cy="2889000"/>
            <a:chOff x="3443400" y="4138560"/>
            <a:chExt cx="3136680" cy="2889000"/>
          </a:xfrm>
        </p:grpSpPr>
        <p:sp>
          <p:nvSpPr>
            <p:cNvPr id="196" name="Oval 8"/>
            <p:cNvSpPr/>
            <p:nvPr/>
          </p:nvSpPr>
          <p:spPr>
            <a:xfrm>
              <a:off x="3812760" y="4138560"/>
              <a:ext cx="2399040" cy="2399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3d8b9">
                    <a:alpha val="70196"/>
                  </a:srgbClr>
                </a:gs>
              </a:gsLst>
              <a:path path="rect">
                <a:fillToRect l="50000" t="50000" r="50000" b="50000"/>
              </a:path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1400" bIns="41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9" descr=""/>
            <p:cNvPicPr/>
            <p:nvPr/>
          </p:nvPicPr>
          <p:blipFill>
            <a:blip r:embed="rId2"/>
            <a:stretch/>
          </p:blipFill>
          <p:spPr>
            <a:xfrm>
              <a:off x="3443400" y="6575760"/>
              <a:ext cx="3136680" cy="45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Line 10"/>
          <p:cNvSpPr/>
          <p:nvPr/>
        </p:nvSpPr>
        <p:spPr>
          <a:xfrm flipH="1">
            <a:off x="801720" y="4773600"/>
            <a:ext cx="3633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1"/>
          <p:cNvSpPr/>
          <p:nvPr/>
        </p:nvSpPr>
        <p:spPr>
          <a:xfrm>
            <a:off x="4784760" y="2664000"/>
            <a:ext cx="2401920" cy="24015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39700">
                  <a:alpha val="70196"/>
                </a:srgbClr>
              </a:gs>
            </a:gsLst>
            <a:path path="rect">
              <a:fillToRect l="50000" t="50000" r="50000" b="50000"/>
            </a:path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6400" rIns="0" tIns="41400" bIns="41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页脚占位符 14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1"/>
          <p:cNvSpPr/>
          <p:nvPr/>
        </p:nvSpPr>
        <p:spPr>
          <a:xfrm>
            <a:off x="1601640" y="2405160"/>
            <a:ext cx="1979640" cy="107928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9a94"/>
              </a:gs>
              <a:gs pos="100000">
                <a:srgbClr val="8bd8d4"/>
              </a:gs>
            </a:gsLst>
            <a:lin ang="5400000"/>
          </a:gradFill>
          <a:ln w="28800">
            <a:solidFill>
              <a:srgbClr val="009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仿宋_GB2312"/>
              </a:rPr>
              <a:t>Step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"/>
          <p:cNvSpPr/>
          <p:nvPr/>
        </p:nvSpPr>
        <p:spPr>
          <a:xfrm>
            <a:off x="4871880" y="2405160"/>
            <a:ext cx="1979640" cy="107928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39700"/>
              </a:gs>
              <a:gs pos="100000">
                <a:srgbClr val="ffff00"/>
              </a:gs>
            </a:gsLst>
            <a:lin ang="5400000"/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仿宋_GB2312"/>
              </a:rPr>
              <a:t>Step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3"/>
          <p:cNvSpPr/>
          <p:nvPr/>
        </p:nvSpPr>
        <p:spPr>
          <a:xfrm>
            <a:off x="6499080" y="2405160"/>
            <a:ext cx="1979640" cy="107928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83d8b9"/>
              </a:gs>
              <a:gs pos="100000">
                <a:srgbClr val="d0edde"/>
              </a:gs>
            </a:gsLst>
            <a:lin ang="5400000"/>
          </a:gradFill>
          <a:ln w="28800">
            <a:solidFill>
              <a:srgbClr val="83d8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仿宋_GB2312"/>
              </a:rPr>
              <a:t>Go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238560" y="2405160"/>
            <a:ext cx="1979640" cy="107928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39700"/>
              </a:gs>
              <a:gs pos="100000">
                <a:srgbClr val="ffff00"/>
              </a:gs>
            </a:gsLst>
            <a:lin ang="5400000"/>
          </a:gradFill>
          <a:ln w="28800">
            <a:solidFill>
              <a:srgbClr val="f39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400" rIns="104400" tIns="59400" bIns="59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仿宋_GB2312"/>
              </a:rPr>
              <a:t>Step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1601640" y="3594240"/>
            <a:ext cx="1485720" cy="2901600"/>
            <a:chOff x="1601640" y="3594240"/>
            <a:chExt cx="1485720" cy="2901600"/>
          </a:xfrm>
        </p:grpSpPr>
        <p:pic>
          <p:nvPicPr>
            <p:cNvPr id="208" name="Picture 6" descr=""/>
            <p:cNvPicPr/>
            <p:nvPr/>
          </p:nvPicPr>
          <p:blipFill>
            <a:blip r:embed="rId2"/>
            <a:stretch/>
          </p:blipFill>
          <p:spPr>
            <a:xfrm>
              <a:off x="1605960" y="6121800"/>
              <a:ext cx="148140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AutoShape 7"/>
            <p:cNvSpPr/>
            <p:nvPr/>
          </p:nvSpPr>
          <p:spPr>
            <a:xfrm>
              <a:off x="1601640" y="3594240"/>
              <a:ext cx="1474920" cy="2517840"/>
            </a:xfrm>
            <a:custGeom>
              <a:avLst/>
              <a:gdLst>
                <a:gd name="textAreaLeft" fmla="*/ 50400 w 1474920"/>
                <a:gd name="textAreaRight" fmla="*/ 1424520 w 1474920"/>
                <a:gd name="textAreaTop" fmla="*/ 50400 h 2517840"/>
                <a:gd name="textAreaBottom" fmla="*/ 2467440 h 2517840"/>
              </a:gdLst>
              <a:ahLst/>
              <a:rect l="textAreaLeft" t="textAreaTop" r="textAreaRight" b="textAreaBottom"/>
              <a:pathLst>
                <a:path w="21600" h="36870">
                  <a:moveTo>
                    <a:pt x="2536" y="0"/>
                  </a:moveTo>
                  <a:arcTo wR="2536" hR="2536" stAng="16200000" swAng="-5400000"/>
                  <a:lnTo>
                    <a:pt x="0" y="34334"/>
                  </a:lnTo>
                  <a:arcTo wR="2536" hR="2536" stAng="10800000" swAng="-5400000"/>
                  <a:lnTo>
                    <a:pt x="19064" y="36870"/>
                  </a:lnTo>
                  <a:arcTo wR="2536" hR="2536" stAng="5400000" swAng="-5400000"/>
                  <a:lnTo>
                    <a:pt x="21600" y="2536"/>
                  </a:lnTo>
                  <a:arcTo wR="2536" hR="2536" stAng="0" swAng="-5400000"/>
                  <a:close/>
                </a:path>
              </a:pathLst>
            </a:cu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8"/>
          <p:cNvGrpSpPr/>
          <p:nvPr/>
        </p:nvGrpSpPr>
        <p:grpSpPr>
          <a:xfrm>
            <a:off x="3232080" y="3594240"/>
            <a:ext cx="1481040" cy="2901600"/>
            <a:chOff x="3232080" y="3594240"/>
            <a:chExt cx="1481040" cy="2901600"/>
          </a:xfrm>
        </p:grpSpPr>
        <p:pic>
          <p:nvPicPr>
            <p:cNvPr id="211" name="Picture 9" descr=""/>
            <p:cNvPicPr/>
            <p:nvPr/>
          </p:nvPicPr>
          <p:blipFill>
            <a:blip r:embed="rId3"/>
            <a:stretch/>
          </p:blipFill>
          <p:spPr>
            <a:xfrm>
              <a:off x="3232080" y="6121800"/>
              <a:ext cx="148104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AutoShape 10"/>
            <p:cNvSpPr/>
            <p:nvPr/>
          </p:nvSpPr>
          <p:spPr>
            <a:xfrm>
              <a:off x="3238200" y="3594240"/>
              <a:ext cx="1474560" cy="2517840"/>
            </a:xfrm>
            <a:custGeom>
              <a:avLst/>
              <a:gdLst>
                <a:gd name="textAreaLeft" fmla="*/ 50400 w 1474560"/>
                <a:gd name="textAreaRight" fmla="*/ 1424160 w 1474560"/>
                <a:gd name="textAreaTop" fmla="*/ 50400 h 2517840"/>
                <a:gd name="textAreaBottom" fmla="*/ 2467440 h 2517840"/>
              </a:gdLst>
              <a:ahLst/>
              <a:rect l="textAreaLeft" t="textAreaTop" r="textAreaRight" b="textAreaBottom"/>
              <a:pathLst>
                <a:path w="21600" h="36879">
                  <a:moveTo>
                    <a:pt x="2536" y="0"/>
                  </a:moveTo>
                  <a:arcTo wR="2536" hR="2536" stAng="16200000" swAng="-5400000"/>
                  <a:lnTo>
                    <a:pt x="0" y="34343"/>
                  </a:lnTo>
                  <a:arcTo wR="2536" hR="2536" stAng="10800000" swAng="-5400000"/>
                  <a:lnTo>
                    <a:pt x="19064" y="36879"/>
                  </a:lnTo>
                  <a:arcTo wR="2536" hR="2536" stAng="5400000" swAng="-5400000"/>
                  <a:lnTo>
                    <a:pt x="21600" y="2536"/>
                  </a:lnTo>
                  <a:arcTo wR="2536" hR="2536" stAng="0" swAng="-5400000"/>
                  <a:close/>
                </a:path>
              </a:pathLst>
            </a:cu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4871880" y="3594240"/>
            <a:ext cx="1496880" cy="2901600"/>
            <a:chOff x="4871880" y="3594240"/>
            <a:chExt cx="1496880" cy="2901600"/>
          </a:xfrm>
        </p:grpSpPr>
        <p:pic>
          <p:nvPicPr>
            <p:cNvPr id="214" name="Picture 12" descr=""/>
            <p:cNvPicPr/>
            <p:nvPr/>
          </p:nvPicPr>
          <p:blipFill>
            <a:blip r:embed="rId4"/>
            <a:stretch/>
          </p:blipFill>
          <p:spPr>
            <a:xfrm>
              <a:off x="4887360" y="6121800"/>
              <a:ext cx="1481400" cy="3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13"/>
            <p:cNvSpPr/>
            <p:nvPr/>
          </p:nvSpPr>
          <p:spPr>
            <a:xfrm>
              <a:off x="4871880" y="3594240"/>
              <a:ext cx="1474920" cy="2517840"/>
            </a:xfrm>
            <a:custGeom>
              <a:avLst/>
              <a:gdLst>
                <a:gd name="textAreaLeft" fmla="*/ 50400 w 1474920"/>
                <a:gd name="textAreaRight" fmla="*/ 1424520 w 1474920"/>
                <a:gd name="textAreaTop" fmla="*/ 50400 h 2517840"/>
                <a:gd name="textAreaBottom" fmla="*/ 2467440 h 2517840"/>
              </a:gdLst>
              <a:ahLst/>
              <a:rect l="textAreaLeft" t="textAreaTop" r="textAreaRight" b="textAreaBottom"/>
              <a:pathLst>
                <a:path w="21600" h="36870">
                  <a:moveTo>
                    <a:pt x="2536" y="0"/>
                  </a:moveTo>
                  <a:arcTo wR="2536" hR="2536" stAng="16200000" swAng="-5400000"/>
                  <a:lnTo>
                    <a:pt x="0" y="34334"/>
                  </a:lnTo>
                  <a:arcTo wR="2536" hR="2536" stAng="10800000" swAng="-5400000"/>
                  <a:lnTo>
                    <a:pt x="19064" y="36870"/>
                  </a:lnTo>
                  <a:arcTo wR="2536" hR="2536" stAng="5400000" swAng="-5400000"/>
                  <a:lnTo>
                    <a:pt x="21600" y="2536"/>
                  </a:lnTo>
                  <a:arcTo wR="2536" hR="2536" stAng="0" swAng="-5400000"/>
                  <a:close/>
                </a:path>
              </a:pathLst>
            </a:cu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4"/>
          <p:cNvGrpSpPr/>
          <p:nvPr/>
        </p:nvGrpSpPr>
        <p:grpSpPr>
          <a:xfrm>
            <a:off x="6499080" y="3594240"/>
            <a:ext cx="1495080" cy="2901600"/>
            <a:chOff x="6499080" y="3594240"/>
            <a:chExt cx="1495080" cy="2901600"/>
          </a:xfrm>
        </p:grpSpPr>
        <p:sp>
          <p:nvSpPr>
            <p:cNvPr id="217" name="AutoShape 15"/>
            <p:cNvSpPr/>
            <p:nvPr/>
          </p:nvSpPr>
          <p:spPr>
            <a:xfrm>
              <a:off x="6499080" y="3594240"/>
              <a:ext cx="1474920" cy="2517840"/>
            </a:xfrm>
            <a:custGeom>
              <a:avLst/>
              <a:gdLst>
                <a:gd name="textAreaLeft" fmla="*/ 50400 w 1474920"/>
                <a:gd name="textAreaRight" fmla="*/ 1424520 w 1474920"/>
                <a:gd name="textAreaTop" fmla="*/ 50400 h 2517840"/>
                <a:gd name="textAreaBottom" fmla="*/ 2467440 h 2517840"/>
              </a:gdLst>
              <a:ahLst/>
              <a:rect l="textAreaLeft" t="textAreaTop" r="textAreaRight" b="textAreaBottom"/>
              <a:pathLst>
                <a:path w="21600" h="36870">
                  <a:moveTo>
                    <a:pt x="2536" y="0"/>
                  </a:moveTo>
                  <a:arcTo wR="2536" hR="2536" stAng="16200000" swAng="-5400000"/>
                  <a:lnTo>
                    <a:pt x="0" y="34334"/>
                  </a:lnTo>
                  <a:arcTo wR="2536" hR="2536" stAng="10800000" swAng="-5400000"/>
                  <a:lnTo>
                    <a:pt x="19064" y="36870"/>
                  </a:lnTo>
                  <a:arcTo wR="2536" hR="2536" stAng="5400000" swAng="-5400000"/>
                  <a:lnTo>
                    <a:pt x="21600" y="2536"/>
                  </a:lnTo>
                  <a:arcTo wR="2536" hR="2536" stAng="0" swAng="-5400000"/>
                  <a:close/>
                </a:path>
              </a:pathLst>
            </a:cu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Picture 16" descr=""/>
            <p:cNvPicPr/>
            <p:nvPr/>
          </p:nvPicPr>
          <p:blipFill>
            <a:blip r:embed="rId5"/>
            <a:stretch/>
          </p:blipFill>
          <p:spPr>
            <a:xfrm>
              <a:off x="6513120" y="6121800"/>
              <a:ext cx="1481040" cy="37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Text Box 17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页脚占位符 19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1"/>
          <p:cNvGrpSpPr/>
          <p:nvPr/>
        </p:nvGrpSpPr>
        <p:grpSpPr>
          <a:xfrm>
            <a:off x="1127160" y="4008600"/>
            <a:ext cx="2363760" cy="2507760"/>
            <a:chOff x="1127160" y="4008600"/>
            <a:chExt cx="2363760" cy="2507760"/>
          </a:xfrm>
        </p:grpSpPr>
        <p:sp>
          <p:nvSpPr>
            <p:cNvPr id="223" name="AutoShape 2"/>
            <p:cNvSpPr/>
            <p:nvPr/>
          </p:nvSpPr>
          <p:spPr>
            <a:xfrm>
              <a:off x="1127160" y="4019400"/>
              <a:ext cx="2362320" cy="2114280"/>
            </a:xfrm>
            <a:prstGeom prst="roundRect">
              <a:avLst>
                <a:gd name="adj" fmla="val 8153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-3600" bIns="-36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3"/>
            <p:cNvSpPr/>
            <p:nvPr/>
          </p:nvSpPr>
          <p:spPr>
            <a:xfrm>
              <a:off x="1127160" y="4008600"/>
              <a:ext cx="2363760" cy="326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仿宋_GB2312"/>
                </a:rPr>
                <a:t>Title 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Picture 4" descr=""/>
            <p:cNvPicPr/>
            <p:nvPr/>
          </p:nvPicPr>
          <p:blipFill>
            <a:blip r:embed="rId2"/>
            <a:stretch/>
          </p:blipFill>
          <p:spPr>
            <a:xfrm>
              <a:off x="1153800" y="6141960"/>
              <a:ext cx="2325960" cy="37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Group 5"/>
          <p:cNvGrpSpPr/>
          <p:nvPr/>
        </p:nvGrpSpPr>
        <p:grpSpPr>
          <a:xfrm>
            <a:off x="6583320" y="3990960"/>
            <a:ext cx="2368080" cy="2525400"/>
            <a:chOff x="6583320" y="3990960"/>
            <a:chExt cx="2368080" cy="2525400"/>
          </a:xfrm>
        </p:grpSpPr>
        <p:sp>
          <p:nvSpPr>
            <p:cNvPr id="227" name="AutoShape 6"/>
            <p:cNvSpPr/>
            <p:nvPr/>
          </p:nvSpPr>
          <p:spPr>
            <a:xfrm>
              <a:off x="6583320" y="4006440"/>
              <a:ext cx="2363400" cy="2125800"/>
            </a:xfrm>
            <a:prstGeom prst="roundRect">
              <a:avLst>
                <a:gd name="adj" fmla="val 8153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-3600" bIns="-36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7"/>
            <p:cNvSpPr/>
            <p:nvPr/>
          </p:nvSpPr>
          <p:spPr>
            <a:xfrm>
              <a:off x="6583320" y="3990960"/>
              <a:ext cx="2363400" cy="326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仿宋_GB2312"/>
                </a:rPr>
                <a:t>Title C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8" descr=""/>
            <p:cNvPicPr/>
            <p:nvPr/>
          </p:nvPicPr>
          <p:blipFill>
            <a:blip r:embed="rId3"/>
            <a:stretch/>
          </p:blipFill>
          <p:spPr>
            <a:xfrm>
              <a:off x="6625800" y="6142320"/>
              <a:ext cx="2325600" cy="37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Group 9"/>
          <p:cNvGrpSpPr/>
          <p:nvPr/>
        </p:nvGrpSpPr>
        <p:grpSpPr>
          <a:xfrm>
            <a:off x="3868560" y="4002120"/>
            <a:ext cx="2364120" cy="2514240"/>
            <a:chOff x="3868560" y="4002120"/>
            <a:chExt cx="2364120" cy="2514240"/>
          </a:xfrm>
        </p:grpSpPr>
        <p:sp>
          <p:nvSpPr>
            <p:cNvPr id="231" name="AutoShape 10"/>
            <p:cNvSpPr/>
            <p:nvPr/>
          </p:nvSpPr>
          <p:spPr>
            <a:xfrm>
              <a:off x="3868560" y="4012920"/>
              <a:ext cx="2364120" cy="2114640"/>
            </a:xfrm>
            <a:prstGeom prst="roundRect">
              <a:avLst>
                <a:gd name="adj" fmla="val 8153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-3600" bIns="-36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1"/>
            <p:cNvSpPr/>
            <p:nvPr/>
          </p:nvSpPr>
          <p:spPr>
            <a:xfrm>
              <a:off x="3868560" y="4002120"/>
              <a:ext cx="2364120" cy="326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仿宋_GB2312"/>
                </a:rPr>
                <a:t>Title 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12" descr=""/>
            <p:cNvPicPr/>
            <p:nvPr/>
          </p:nvPicPr>
          <p:blipFill>
            <a:blip r:embed="rId4"/>
            <a:stretch/>
          </p:blipFill>
          <p:spPr>
            <a:xfrm>
              <a:off x="3906360" y="6142320"/>
              <a:ext cx="2325960" cy="37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Group 13"/>
          <p:cNvGrpSpPr/>
          <p:nvPr/>
        </p:nvGrpSpPr>
        <p:grpSpPr>
          <a:xfrm>
            <a:off x="3867120" y="2444760"/>
            <a:ext cx="2341440" cy="1128600"/>
            <a:chOff x="3867120" y="2444760"/>
            <a:chExt cx="2341440" cy="1128600"/>
          </a:xfrm>
        </p:grpSpPr>
        <p:sp>
          <p:nvSpPr>
            <p:cNvPr id="235" name="AutoShape 14"/>
            <p:cNvSpPr/>
            <p:nvPr/>
          </p:nvSpPr>
          <p:spPr>
            <a:xfrm>
              <a:off x="3867120" y="2618280"/>
              <a:ext cx="2341440" cy="952920"/>
            </a:xfrm>
            <a:prstGeom prst="roundRect">
              <a:avLst>
                <a:gd name="adj" fmla="val 8153"/>
              </a:avLst>
            </a:prstGeom>
            <a:gradFill rotWithShape="0">
              <a:gsLst>
                <a:gs pos="0">
                  <a:srgbClr val="83d8b9"/>
                </a:gs>
                <a:gs pos="100000">
                  <a:srgbClr val="d0edde"/>
                </a:gs>
              </a:gsLst>
              <a:lin ang="5400000"/>
            </a:gradFill>
            <a:ln w="28800">
              <a:solidFill>
                <a:srgbClr val="83d8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-3600" bIns="-36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ease insert your  text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6" name="AutoShape 15"/>
            <p:cNvCxnSpPr>
              <a:stCxn id="235" idx="2"/>
              <a:endCxn id="235" idx="2"/>
            </p:cNvCxnSpPr>
            <p:nvPr/>
          </p:nvCxnSpPr>
          <p:spPr>
            <a:xfrm>
              <a:off x="5037480" y="3571560"/>
              <a:ext cx="2160" cy="2160"/>
            </a:xfrm>
            <a:prstGeom prst="straightConnector1">
              <a:avLst/>
            </a:prstGeom>
            <a:ln w="36000">
              <a:solidFill>
                <a:srgbClr val="c7c7c7"/>
              </a:solidFill>
              <a:miter/>
            </a:ln>
          </p:spPr>
        </p:cxnSp>
        <p:sp>
          <p:nvSpPr>
            <p:cNvPr id="237" name="AutoShape 16"/>
            <p:cNvSpPr/>
            <p:nvPr/>
          </p:nvSpPr>
          <p:spPr>
            <a:xfrm>
              <a:off x="3867120" y="2444760"/>
              <a:ext cx="2341440" cy="344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9a94"/>
                </a:gs>
                <a:gs pos="100000">
                  <a:srgbClr val="8bd8d4"/>
                </a:gs>
              </a:gsLst>
              <a:lin ang="5400000"/>
            </a:gradFill>
            <a:ln w="28800">
              <a:solidFill>
                <a:srgbClr val="009a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4400" rIns="104400" tIns="59400" bIns="594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  <a:ea typeface="仿宋_GB2312"/>
                </a:rPr>
                <a:t>Title 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8" name="AutoShape 17"/>
          <p:cNvCxnSpPr>
            <a:endCxn id="224" idx="0"/>
          </p:cNvCxnSpPr>
          <p:nvPr/>
        </p:nvCxnSpPr>
        <p:spPr>
          <a:xfrm flipV="1" rot="10800000">
            <a:off x="2309040" y="3576240"/>
            <a:ext cx="2729520" cy="434160"/>
          </a:xfrm>
          <a:prstGeom prst="bentConnector3">
            <a:avLst>
              <a:gd name="adj1" fmla="val 499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" name="AutoShape 18"/>
          <p:cNvCxnSpPr/>
          <p:nvPr/>
        </p:nvCxnSpPr>
        <p:spPr>
          <a:xfrm>
            <a:off x="5038560" y="3576600"/>
            <a:ext cx="1368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" name="AutoShape 19"/>
          <p:cNvCxnSpPr/>
          <p:nvPr/>
        </p:nvCxnSpPr>
        <p:spPr>
          <a:xfrm>
            <a:off x="5044680" y="3789360"/>
            <a:ext cx="272484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Text Box 20"/>
          <p:cNvSpPr/>
          <p:nvPr/>
        </p:nvSpPr>
        <p:spPr>
          <a:xfrm>
            <a:off x="7980480" y="587520"/>
            <a:ext cx="19206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仿宋_GB2312"/>
              </a:rPr>
              <a:t>YOUR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2928960" y="73080"/>
            <a:ext cx="515628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Arial Black"/>
                <a:ea typeface="仿宋_GB2312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9b95"/>
                </a:solidFill>
                <a:latin typeface="Arial"/>
                <a:ea typeface="宋体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页脚占位符 22"/>
          <p:cNvSpPr/>
          <p:nvPr/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56:4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04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License">
    <vt:lpwstr>&lt;a href="http://templates.services.openoffice.org/bsd-license"&gt;BSD&lt;/a&gt;</vt:lpwstr>
  </property>
</Properties>
</file>