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57B-B15E-4536-B393-29A18CC4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861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116240"/>
            <a:ext cx="861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DE6-2653-4A9A-8B1A-EB39DACE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320040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11624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411624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0DE-F42A-4980-B33C-5AF9316E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277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240" y="3200400"/>
            <a:ext cx="277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7560" y="3200400"/>
            <a:ext cx="277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116240"/>
            <a:ext cx="277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240" y="4116240"/>
            <a:ext cx="277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7560" y="4116240"/>
            <a:ext cx="277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E80E-859F-41D8-9B60-944625B5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BC4D-708D-42F1-802D-C72454AF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DCAD-9910-4C6E-92EF-39EAAFAF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D0CC-16A0-40A6-BE0E-6945297B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4201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3200400"/>
            <a:ext cx="4201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9F06-7E0F-4C2C-B536-E4C84888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A274-F892-4234-8DEC-2E3DD0BA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590560"/>
            <a:ext cx="853416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4B63-179F-4AEA-846F-89E169CA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3200400"/>
            <a:ext cx="4201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11624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FDC6-6389-4E27-84BB-040E1AE2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809C-823C-4833-AF4F-ABB1EAE2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4201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320040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411624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69C2-2383-4F1A-BD21-DCAA4358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320040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116240"/>
            <a:ext cx="861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CC7A-79C8-42D8-89B7-19C0F69B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861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116240"/>
            <a:ext cx="861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A937-C017-4A84-BB5D-C8271774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320040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11624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411624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D8A1-C10E-4866-AA15-6D58F752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277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240" y="3200400"/>
            <a:ext cx="277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7560" y="3200400"/>
            <a:ext cx="277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116240"/>
            <a:ext cx="277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240" y="4116240"/>
            <a:ext cx="277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7560" y="4116240"/>
            <a:ext cx="277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68CE-8603-42D5-9F97-8B2C67C7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63C2-553B-4AA0-9247-FD3E6FE3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4201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3200400"/>
            <a:ext cx="4201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667F-7FBA-4777-9B7B-490D2A0C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73A9-F369-4B5A-B17D-F82A21F3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590560"/>
            <a:ext cx="853416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EBB2-1F3A-49E6-92B9-6217DC67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3200400"/>
            <a:ext cx="4201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11624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BCE5-0A1F-4731-94D7-73BB90AF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4201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320040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411624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F10D-3CB3-4EC0-A11B-13118B6B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320040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3200400"/>
            <a:ext cx="4201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116240"/>
            <a:ext cx="861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E91F-02C9-4CB9-BEF5-36317D90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9144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pperplate Gothic Bold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pperplate Gothic Bold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pperplate Gothic Bold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opperplate Gothic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pperplate Gothic 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pperplate Gothic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pperplate Gothic 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pperplate Gothic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43E2-F555-4469-91CB-F9DAA325922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E867-E8FB-4979-BE89-10F3A011680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pperplate Gothic Bol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pperplate Gothic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pperplate Gothic Bold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Copperplate Gothic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pperplate Gothic Bol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Copperplate Gothic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opperplate Gothic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opperplate Gothic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Radiosity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pperplate Gothic Bold"/>
              </a:rPr>
              <a:t>Your Subtitle Goes Here</a:t>
            </a: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1062000"/>
            <a:ext cx="4318200" cy="4249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zzard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690480"/>
            <a:ext cx="5105160" cy="5024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zzard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1360" y="27936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zzard"/>
              </a:rPr>
              <a:t>欧美</a:t>
            </a:r>
            <a:r>
              <a:rPr b="0" lang="zh-CN" sz="4000" spc="-1" strike="noStrike">
                <a:solidFill>
                  <a:srgbClr val="000000"/>
                </a:solidFill>
                <a:latin typeface="Wizzard"/>
                <a:ea typeface="宋体"/>
              </a:rPr>
              <a:t>风格</a:t>
            </a:r>
            <a:r>
              <a:rPr b="0" lang="en-US" sz="4000" spc="-1" strike="noStrike">
                <a:solidFill>
                  <a:srgbClr val="000000"/>
                </a:solidFill>
                <a:latin typeface="Wizzard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Wizzard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Your subtopic goes here</a:t>
            </a:r>
            <a:endParaRPr b="0" lang="en-US" sz="2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pic>
        <p:nvPicPr>
          <p:cNvPr id="90" name="radiosity_hiradik" descr=""/>
          <p:cNvPicPr/>
          <p:nvPr/>
        </p:nvPicPr>
        <p:blipFill>
          <a:blip r:embed="rId2"/>
          <a:stretch/>
        </p:blipFill>
        <p:spPr>
          <a:xfrm>
            <a:off x="8305920" y="5562720"/>
            <a:ext cx="7808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Bold"/>
              </a:rPr>
              <a:t>Your subtopic goes here</a:t>
            </a:r>
            <a:endParaRPr b="0" lang="en-US" sz="2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pic>
        <p:nvPicPr>
          <p:cNvPr id="96" name="radiosity_hiradik" descr=""/>
          <p:cNvPicPr/>
          <p:nvPr/>
        </p:nvPicPr>
        <p:blipFill>
          <a:blip r:embed="rId2"/>
          <a:stretch/>
        </p:blipFill>
        <p:spPr>
          <a:xfrm>
            <a:off x="8305920" y="5562720"/>
            <a:ext cx="7808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pperplate Gothic Bold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pperplate Gothic Bold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opperplate Gothic Bold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opperplate Gothic Bold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opperplate Gothic Bold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opperplate Gothic Bold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opperplate Gothic Bold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opperplate Gothic Bold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opperplate Gothic Bold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opperplate Gothic Bold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pperplate Gothic Bold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pperplate Gothic Bol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pperplate Gothic Bold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pperplate Gothic Bold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opperplate Gothic Bold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19CA-7D4F-46F6-8761-39BC31F4AD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Element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1" name="radiosity_prt" descr=""/>
          <p:cNvPicPr/>
          <p:nvPr/>
        </p:nvPicPr>
        <p:blipFill>
          <a:blip r:embed="rId1"/>
          <a:stretch/>
        </p:blipFill>
        <p:spPr>
          <a:xfrm>
            <a:off x="6934320" y="1522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102" name="radiosity_qx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103" name="radiosity_sld" descr=""/>
          <p:cNvPicPr/>
          <p:nvPr/>
        </p:nvPicPr>
        <p:blipFill>
          <a:blip r:embed="rId3"/>
          <a:stretch/>
        </p:blipFill>
        <p:spPr>
          <a:xfrm>
            <a:off x="2362320" y="1522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104" name="radiosity_trs" descr=""/>
          <p:cNvPicPr/>
          <p:nvPr/>
        </p:nvPicPr>
        <p:blipFill>
          <a:blip r:embed="rId4"/>
          <a:stretch/>
        </p:blipFill>
        <p:spPr>
          <a:xfrm>
            <a:off x="4724280" y="1522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105" name="radiosity_hiradik" descr=""/>
          <p:cNvPicPr/>
          <p:nvPr/>
        </p:nvPicPr>
        <p:blipFill>
          <a:blip r:embed="rId5"/>
          <a:stretch/>
        </p:blipFill>
        <p:spPr>
          <a:xfrm>
            <a:off x="4181400" y="365760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32004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6:48:2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11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