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83A27-F389-4177-AD4E-387742BDA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C7BE6-C899-4626-A391-6495EA4F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61A89-843E-4A07-92CA-518381C25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915B0-6FC8-4FD7-943F-BE941C50F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0921D-1176-4187-92BE-A4522587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A1038-DA53-4082-B53C-E55E1423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786BA-F7DE-4448-A2B8-08D6E500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C75A1-76C4-480A-A533-676454B0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703A2-4484-4DA8-A782-CBF31F36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D6EDA-DB14-4BAF-9DE1-D8BB308A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5DCE9-AE26-4B2A-9134-1B2BE95C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7EDD9-4700-4B4E-A8C7-C87B2BE8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274F-B44F-4049-ACD8-9AB99DE9829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</a:rPr>
              <a:t>KMCN IT User manual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D2D7-7B25-45BC-87DB-0B400311E3E3}" type="datetime5">
              <a:rPr b="0" lang="zh-CN" sz="1200" spc="-1" strike="noStrike">
                <a:solidFill>
                  <a:srgbClr val="898989"/>
                </a:solidFill>
                <a:latin typeface="Arial"/>
              </a:rPr>
              <a:t>2026.07.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6724800" y="6357960"/>
            <a:ext cx="21333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微软雅黑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58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 Unicode MS"/>
              </a:rPr>
              <a:t>Our Te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203640" y="3429000"/>
            <a:ext cx="2736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Arial"/>
                <a:ea typeface="Arial Unicode MS"/>
              </a:rPr>
              <a:t>By: Waff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Arial"/>
                <a:ea typeface="Arial Unicode MS"/>
              </a:rPr>
              <a:t>10-Apr-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96680" y="148428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欧美风格团队介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图片 6" descr="图片2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7"/>
          <p:cNvSpPr/>
          <p:nvPr/>
        </p:nvSpPr>
        <p:spPr>
          <a:xfrm>
            <a:off x="6724800" y="6357960"/>
            <a:ext cx="21333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微软雅黑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44"/>
          <p:cNvSpPr/>
          <p:nvPr/>
        </p:nvSpPr>
        <p:spPr>
          <a:xfrm>
            <a:off x="4006080" y="326376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直接连接符 19"/>
          <p:cNvSpPr/>
          <p:nvPr/>
        </p:nvSpPr>
        <p:spPr>
          <a:xfrm flipV="1">
            <a:off x="4435560" y="1636560"/>
            <a:ext cx="0" cy="1503360"/>
          </a:xfrm>
          <a:prstGeom prst="line">
            <a:avLst/>
          </a:prstGeom>
          <a:ln w="9360">
            <a:solidFill>
              <a:srgbClr val="636b7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5"/>
          <p:cNvSpPr/>
          <p:nvPr/>
        </p:nvSpPr>
        <p:spPr>
          <a:xfrm>
            <a:off x="412920" y="6157800"/>
            <a:ext cx="72072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Organ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7"/>
          <p:cNvSpPr/>
          <p:nvPr/>
        </p:nvSpPr>
        <p:spPr>
          <a:xfrm>
            <a:off x="1374840" y="6149880"/>
            <a:ext cx="71892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7"/>
          <p:cNvSpPr/>
          <p:nvPr/>
        </p:nvSpPr>
        <p:spPr>
          <a:xfrm>
            <a:off x="3316320" y="6157800"/>
            <a:ext cx="71928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Ques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Abo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Roadma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7"/>
          <p:cNvSpPr/>
          <p:nvPr/>
        </p:nvSpPr>
        <p:spPr>
          <a:xfrm>
            <a:off x="2347920" y="6157800"/>
            <a:ext cx="71928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Staff Num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7"/>
          <p:cNvSpPr/>
          <p:nvPr/>
        </p:nvSpPr>
        <p:spPr>
          <a:xfrm>
            <a:off x="3316320" y="6157800"/>
            <a:ext cx="71928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Ques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Abo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Roadma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5"/>
          <p:cNvSpPr/>
          <p:nvPr/>
        </p:nvSpPr>
        <p:spPr>
          <a:xfrm>
            <a:off x="2347920" y="6157800"/>
            <a:ext cx="71928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Staff Numb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10"/>
          <p:cNvSpPr/>
          <p:nvPr/>
        </p:nvSpPr>
        <p:spPr>
          <a:xfrm>
            <a:off x="179280" y="6583320"/>
            <a:ext cx="4384800" cy="230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圆角矩形 4"/>
          <p:cNvSpPr/>
          <p:nvPr/>
        </p:nvSpPr>
        <p:spPr>
          <a:xfrm>
            <a:off x="398520" y="1123920"/>
            <a:ext cx="360360" cy="720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圆角矩形 11"/>
          <p:cNvSpPr/>
          <p:nvPr/>
        </p:nvSpPr>
        <p:spPr>
          <a:xfrm>
            <a:off x="844560" y="1123920"/>
            <a:ext cx="5238720" cy="720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Questions About Road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19717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about Road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13"/>
          <p:cNvSpPr/>
          <p:nvPr/>
        </p:nvSpPr>
        <p:spPr>
          <a:xfrm>
            <a:off x="3571920" y="3141720"/>
            <a:ext cx="1727280" cy="1728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raining in KM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接连接符 15"/>
          <p:cNvSpPr/>
          <p:nvPr/>
        </p:nvSpPr>
        <p:spPr>
          <a:xfrm>
            <a:off x="5299200" y="4005360"/>
            <a:ext cx="1504800" cy="1440"/>
          </a:xfrm>
          <a:prstGeom prst="line">
            <a:avLst/>
          </a:prstGeom>
          <a:ln w="9360">
            <a:solidFill>
              <a:srgbClr val="636b7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17"/>
          <p:cNvSpPr/>
          <p:nvPr/>
        </p:nvSpPr>
        <p:spPr>
          <a:xfrm flipV="1">
            <a:off x="5046840" y="2329920"/>
            <a:ext cx="1063440" cy="1063800"/>
          </a:xfrm>
          <a:prstGeom prst="line">
            <a:avLst/>
          </a:prstGeom>
          <a:ln w="9360">
            <a:solidFill>
              <a:srgbClr val="636b7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直接连接符 21"/>
          <p:cNvSpPr/>
          <p:nvPr/>
        </p:nvSpPr>
        <p:spPr>
          <a:xfrm flipH="1" flipV="1">
            <a:off x="2760840" y="2329920"/>
            <a:ext cx="1063440" cy="1063800"/>
          </a:xfrm>
          <a:prstGeom prst="line">
            <a:avLst/>
          </a:prstGeom>
          <a:ln w="9360">
            <a:solidFill>
              <a:srgbClr val="636b7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25"/>
          <p:cNvSpPr/>
          <p:nvPr/>
        </p:nvSpPr>
        <p:spPr>
          <a:xfrm flipH="1">
            <a:off x="2066400" y="4005360"/>
            <a:ext cx="1505160" cy="1440"/>
          </a:xfrm>
          <a:prstGeom prst="line">
            <a:avLst/>
          </a:prstGeom>
          <a:ln w="9360">
            <a:solidFill>
              <a:srgbClr val="636b7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直接连接符 27"/>
          <p:cNvSpPr/>
          <p:nvPr/>
        </p:nvSpPr>
        <p:spPr>
          <a:xfrm flipH="1">
            <a:off x="2760840" y="4616280"/>
            <a:ext cx="1063440" cy="1063800"/>
          </a:xfrm>
          <a:prstGeom prst="line">
            <a:avLst/>
          </a:prstGeom>
          <a:ln w="9360">
            <a:solidFill>
              <a:srgbClr val="636b7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29"/>
          <p:cNvSpPr/>
          <p:nvPr/>
        </p:nvSpPr>
        <p:spPr>
          <a:xfrm>
            <a:off x="4435560" y="4869000"/>
            <a:ext cx="0" cy="1296720"/>
          </a:xfrm>
          <a:prstGeom prst="line">
            <a:avLst/>
          </a:prstGeom>
          <a:ln w="9360">
            <a:solidFill>
              <a:srgbClr val="636b7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接连接符 31"/>
          <p:cNvSpPr/>
          <p:nvPr/>
        </p:nvSpPr>
        <p:spPr>
          <a:xfrm>
            <a:off x="5046840" y="4616280"/>
            <a:ext cx="1063440" cy="1063800"/>
          </a:xfrm>
          <a:prstGeom prst="line">
            <a:avLst/>
          </a:prstGeom>
          <a:ln w="9360">
            <a:solidFill>
              <a:srgbClr val="636b7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9"/>
          <p:cNvSpPr/>
          <p:nvPr/>
        </p:nvSpPr>
        <p:spPr>
          <a:xfrm>
            <a:off x="4509720" y="227664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e-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2"/>
          <p:cNvSpPr/>
          <p:nvPr/>
        </p:nvSpPr>
        <p:spPr>
          <a:xfrm>
            <a:off x="5310000" y="335268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nternal trai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3"/>
          <p:cNvSpPr/>
          <p:nvPr/>
        </p:nvSpPr>
        <p:spPr>
          <a:xfrm>
            <a:off x="5312880" y="4211640"/>
            <a:ext cx="21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nviting specialis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professional  trai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4"/>
          <p:cNvSpPr/>
          <p:nvPr/>
        </p:nvSpPr>
        <p:spPr>
          <a:xfrm>
            <a:off x="4462560" y="5353200"/>
            <a:ext cx="162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Attending the open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12"/>
          <p:cNvSpPr/>
          <p:nvPr/>
        </p:nvSpPr>
        <p:spPr>
          <a:xfrm>
            <a:off x="3219120" y="516744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3 enj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14"/>
          <p:cNvSpPr/>
          <p:nvPr/>
        </p:nvSpPr>
        <p:spPr>
          <a:xfrm>
            <a:off x="2102040" y="43498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Ori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6"/>
          <p:cNvSpPr/>
          <p:nvPr/>
        </p:nvSpPr>
        <p:spPr>
          <a:xfrm>
            <a:off x="1932120" y="3213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ork licens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30"/>
          <p:cNvSpPr/>
          <p:nvPr/>
        </p:nvSpPr>
        <p:spPr>
          <a:xfrm>
            <a:off x="3133800" y="2000160"/>
            <a:ext cx="15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ompany-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o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dur="indefinite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1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700"/>
                            </p:stCondLst>
                            <p:childTnLst>
                              <p:par>
                                <p:cTn id="3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3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25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25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2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25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dur="indefinite" nodeType="withEffect" fill="hold" presetClass="entr" presetID="2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25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2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25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entr" presetID="2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25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25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图片 6" descr="图片2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7"/>
          <p:cNvSpPr/>
          <p:nvPr/>
        </p:nvSpPr>
        <p:spPr>
          <a:xfrm>
            <a:off x="6724800" y="6357960"/>
            <a:ext cx="21333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微软雅黑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5"/>
          <p:cNvSpPr/>
          <p:nvPr/>
        </p:nvSpPr>
        <p:spPr>
          <a:xfrm>
            <a:off x="412920" y="6157800"/>
            <a:ext cx="72072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Organ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7"/>
          <p:cNvSpPr/>
          <p:nvPr/>
        </p:nvSpPr>
        <p:spPr>
          <a:xfrm>
            <a:off x="1374840" y="6149880"/>
            <a:ext cx="71892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7"/>
          <p:cNvSpPr/>
          <p:nvPr/>
        </p:nvSpPr>
        <p:spPr>
          <a:xfrm>
            <a:off x="3316320" y="6157800"/>
            <a:ext cx="71928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Ques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Abo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Roadma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5"/>
          <p:cNvSpPr/>
          <p:nvPr/>
        </p:nvSpPr>
        <p:spPr>
          <a:xfrm>
            <a:off x="2347920" y="6157800"/>
            <a:ext cx="71928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Staff Numb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10"/>
          <p:cNvSpPr/>
          <p:nvPr/>
        </p:nvSpPr>
        <p:spPr>
          <a:xfrm>
            <a:off x="179280" y="6583320"/>
            <a:ext cx="4384800" cy="230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圆角矩形 4"/>
          <p:cNvSpPr/>
          <p:nvPr/>
        </p:nvSpPr>
        <p:spPr>
          <a:xfrm>
            <a:off x="398520" y="1123920"/>
            <a:ext cx="360360" cy="720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圆角矩形 11"/>
          <p:cNvSpPr/>
          <p:nvPr/>
        </p:nvSpPr>
        <p:spPr>
          <a:xfrm>
            <a:off x="844560" y="1123920"/>
            <a:ext cx="5238720" cy="720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Questions About Road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组合 15"/>
          <p:cNvGrpSpPr/>
          <p:nvPr/>
        </p:nvGrpSpPr>
        <p:grpSpPr>
          <a:xfrm>
            <a:off x="674640" y="2166840"/>
            <a:ext cx="1728720" cy="1728720"/>
            <a:chOff x="674640" y="2166840"/>
            <a:chExt cx="1728720" cy="1728720"/>
          </a:xfrm>
        </p:grpSpPr>
        <p:sp>
          <p:nvSpPr>
            <p:cNvPr id="273" name="TextBox 12"/>
            <p:cNvSpPr/>
            <p:nvPr/>
          </p:nvSpPr>
          <p:spPr>
            <a:xfrm>
              <a:off x="1109160" y="2246040"/>
              <a:ext cx="858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椭圆 13"/>
            <p:cNvSpPr/>
            <p:nvPr/>
          </p:nvSpPr>
          <p:spPr>
            <a:xfrm>
              <a:off x="674640" y="2166840"/>
              <a:ext cx="1728720" cy="1728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14"/>
            <p:cNvSpPr/>
            <p:nvPr/>
          </p:nvSpPr>
          <p:spPr>
            <a:xfrm>
              <a:off x="763560" y="2707920"/>
              <a:ext cx="155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Competen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Analysi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6" name="Picture 2" descr="http://pic1.sc.chinaz.com/files/pic/pic8/xpic2449.jpg"/>
          <p:cNvPicPr/>
          <p:nvPr/>
        </p:nvPicPr>
        <p:blipFill>
          <a:blip r:embed="rId2"/>
          <a:stretch/>
        </p:blipFill>
        <p:spPr>
          <a:xfrm>
            <a:off x="3316320" y="1862280"/>
            <a:ext cx="1913040" cy="3043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C:\Users\sony\AppData\Local\Temp\HZ$D.001.2174\shangwusx522.JPG"/>
          <p:cNvPicPr/>
          <p:nvPr/>
        </p:nvPicPr>
        <p:blipFill>
          <a:blip r:embed="rId3"/>
          <a:stretch/>
        </p:blipFill>
        <p:spPr>
          <a:xfrm>
            <a:off x="6553080" y="692280"/>
            <a:ext cx="1727280" cy="3108240"/>
          </a:xfrm>
          <a:prstGeom prst="rect">
            <a:avLst/>
          </a:prstGeom>
          <a:ln w="0">
            <a:noFill/>
          </a:ln>
        </p:spPr>
      </p:pic>
      <p:sp>
        <p:nvSpPr>
          <p:cNvPr id="278" name="上箭头 19"/>
          <p:cNvSpPr/>
          <p:nvPr/>
        </p:nvSpPr>
        <p:spPr>
          <a:xfrm rot="861600">
            <a:off x="5857920" y="3197160"/>
            <a:ext cx="452520" cy="639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536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20"/>
          <p:cNvSpPr/>
          <p:nvPr/>
        </p:nvSpPr>
        <p:spPr>
          <a:xfrm>
            <a:off x="5019840" y="4280040"/>
            <a:ext cx="368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What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微软雅黑"/>
              </a:rPr>
              <a:t>competenc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How to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微软雅黑"/>
              </a:rPr>
              <a:t>analys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6"/>
          <p:cNvSpPr/>
          <p:nvPr/>
        </p:nvSpPr>
        <p:spPr>
          <a:xfrm>
            <a:off x="3007800" y="8267760"/>
            <a:ext cx="32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</a:rPr>
              <a:t>www .51pptmoban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85185E-006 L 0.32396 0.14213 E">
                                      <p:cBhvr>
                                        <p:cTn id="471" dur="5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500"/>
                            </p:stCondLst>
                            <p:childTnLst>
                              <p:par>
                                <p:cTn id="48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图片 6" descr="图片2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7"/>
          <p:cNvSpPr/>
          <p:nvPr/>
        </p:nvSpPr>
        <p:spPr>
          <a:xfrm>
            <a:off x="6724800" y="6357960"/>
            <a:ext cx="21333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微软雅黑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组合 58"/>
          <p:cNvGrpSpPr/>
          <p:nvPr/>
        </p:nvGrpSpPr>
        <p:grpSpPr>
          <a:xfrm>
            <a:off x="2567880" y="1753920"/>
            <a:ext cx="3724200" cy="4496040"/>
            <a:chOff x="2567880" y="1753920"/>
            <a:chExt cx="3724200" cy="4496040"/>
          </a:xfrm>
        </p:grpSpPr>
        <p:sp>
          <p:nvSpPr>
            <p:cNvPr id="284" name="饼形 54"/>
            <p:cNvSpPr/>
            <p:nvPr/>
          </p:nvSpPr>
          <p:spPr>
            <a:xfrm rot="12642600">
              <a:off x="2754360" y="4552560"/>
              <a:ext cx="1990800" cy="1278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饼形 54"/>
            <p:cNvSpPr/>
            <p:nvPr/>
          </p:nvSpPr>
          <p:spPr>
            <a:xfrm rot="1842600">
              <a:off x="4114440" y="2172600"/>
              <a:ext cx="1990800" cy="1278360"/>
            </a:xfrm>
            <a:prstGeom prst="pie">
              <a:avLst/>
            </a:prstGeom>
            <a:solidFill>
              <a:srgbClr val="7f7f7f"/>
            </a:solidFill>
            <a:ln w="12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ternal recruit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饼形 53"/>
          <p:cNvSpPr/>
          <p:nvPr/>
        </p:nvSpPr>
        <p:spPr>
          <a:xfrm rot="1816200">
            <a:off x="2344320" y="2233440"/>
            <a:ext cx="4027680" cy="3767400"/>
          </a:xfrm>
          <a:prstGeom prst="pie">
            <a:avLst/>
          </a:prstGeom>
          <a:solidFill>
            <a:srgbClr val="bfbfbf"/>
          </a:soli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5"/>
          <p:cNvSpPr/>
          <p:nvPr/>
        </p:nvSpPr>
        <p:spPr>
          <a:xfrm>
            <a:off x="412920" y="6157800"/>
            <a:ext cx="72072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Organ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7"/>
          <p:cNvSpPr/>
          <p:nvPr/>
        </p:nvSpPr>
        <p:spPr>
          <a:xfrm>
            <a:off x="1374840" y="6149880"/>
            <a:ext cx="71892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7"/>
          <p:cNvSpPr/>
          <p:nvPr/>
        </p:nvSpPr>
        <p:spPr>
          <a:xfrm>
            <a:off x="3316320" y="6157800"/>
            <a:ext cx="71928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Ques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Abo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Roadma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5"/>
          <p:cNvSpPr/>
          <p:nvPr/>
        </p:nvSpPr>
        <p:spPr>
          <a:xfrm>
            <a:off x="2347920" y="6157800"/>
            <a:ext cx="71928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Staff Numb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10"/>
          <p:cNvSpPr/>
          <p:nvPr/>
        </p:nvSpPr>
        <p:spPr>
          <a:xfrm>
            <a:off x="179280" y="6583320"/>
            <a:ext cx="4384800" cy="230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圆角矩形 4"/>
          <p:cNvSpPr/>
          <p:nvPr/>
        </p:nvSpPr>
        <p:spPr>
          <a:xfrm>
            <a:off x="398520" y="1123920"/>
            <a:ext cx="360360" cy="720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圆角矩形 11"/>
          <p:cNvSpPr/>
          <p:nvPr/>
        </p:nvSpPr>
        <p:spPr>
          <a:xfrm>
            <a:off x="844560" y="1123920"/>
            <a:ext cx="5238720" cy="720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Questions About Road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组合 10"/>
          <p:cNvGrpSpPr/>
          <p:nvPr/>
        </p:nvGrpSpPr>
        <p:grpSpPr>
          <a:xfrm>
            <a:off x="3586320" y="3146400"/>
            <a:ext cx="1728720" cy="1728720"/>
            <a:chOff x="3586320" y="3146400"/>
            <a:chExt cx="1728720" cy="1728720"/>
          </a:xfrm>
        </p:grpSpPr>
        <p:sp>
          <p:nvSpPr>
            <p:cNvPr id="295" name="TextBox 11"/>
            <p:cNvSpPr/>
            <p:nvPr/>
          </p:nvSpPr>
          <p:spPr>
            <a:xfrm>
              <a:off x="4020840" y="3225600"/>
              <a:ext cx="858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椭圆 12"/>
            <p:cNvSpPr/>
            <p:nvPr/>
          </p:nvSpPr>
          <p:spPr>
            <a:xfrm>
              <a:off x="3586320" y="3146400"/>
              <a:ext cx="1728720" cy="1728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13"/>
            <p:cNvSpPr/>
            <p:nvPr/>
          </p:nvSpPr>
          <p:spPr>
            <a:xfrm>
              <a:off x="3693960" y="382608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Recruit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直接连接符 62"/>
          <p:cNvSpPr/>
          <p:nvPr/>
        </p:nvSpPr>
        <p:spPr>
          <a:xfrm>
            <a:off x="5238720" y="4438800"/>
            <a:ext cx="952560" cy="571320"/>
          </a:xfrm>
          <a:prstGeom prst="line">
            <a:avLst/>
          </a:prstGeom>
          <a:ln w="9360">
            <a:solidFill>
              <a:srgbClr val="636b7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71"/>
          <p:cNvSpPr/>
          <p:nvPr/>
        </p:nvSpPr>
        <p:spPr>
          <a:xfrm>
            <a:off x="4435560" y="4869000"/>
            <a:ext cx="0" cy="1131840"/>
          </a:xfrm>
          <a:prstGeom prst="line">
            <a:avLst/>
          </a:prstGeom>
          <a:ln w="9360">
            <a:solidFill>
              <a:srgbClr val="636b7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75"/>
          <p:cNvSpPr/>
          <p:nvPr/>
        </p:nvSpPr>
        <p:spPr>
          <a:xfrm flipV="1">
            <a:off x="2755800" y="4543200"/>
            <a:ext cx="952560" cy="571320"/>
          </a:xfrm>
          <a:prstGeom prst="line">
            <a:avLst/>
          </a:prstGeom>
          <a:ln w="9360">
            <a:solidFill>
              <a:srgbClr val="636b7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76"/>
          <p:cNvSpPr/>
          <p:nvPr/>
        </p:nvSpPr>
        <p:spPr>
          <a:xfrm>
            <a:off x="2755800" y="2930400"/>
            <a:ext cx="952560" cy="571680"/>
          </a:xfrm>
          <a:prstGeom prst="line">
            <a:avLst/>
          </a:prstGeom>
          <a:ln w="9360">
            <a:solidFill>
              <a:srgbClr val="636b7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任意多边形 82"/>
          <p:cNvSpPr/>
          <p:nvPr/>
        </p:nvSpPr>
        <p:spPr>
          <a:xfrm>
            <a:off x="6291360" y="2705040"/>
            <a:ext cx="2705040" cy="671400"/>
          </a:xfrm>
          <a:prstGeom prst="pie">
            <a:avLst/>
          </a:prstGeom>
          <a:noFill/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83"/>
          <p:cNvSpPr/>
          <p:nvPr/>
        </p:nvSpPr>
        <p:spPr>
          <a:xfrm>
            <a:off x="6588000" y="2452680"/>
            <a:ext cx="144720" cy="144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84"/>
          <p:cNvSpPr/>
          <p:nvPr/>
        </p:nvSpPr>
        <p:spPr>
          <a:xfrm>
            <a:off x="6728760" y="234000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External recrui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85"/>
          <p:cNvSpPr/>
          <p:nvPr/>
        </p:nvSpPr>
        <p:spPr>
          <a:xfrm rot="5400000">
            <a:off x="5196600" y="3594960"/>
            <a:ext cx="134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Talent resourc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86"/>
          <p:cNvSpPr/>
          <p:nvPr/>
        </p:nvSpPr>
        <p:spPr>
          <a:xfrm rot="19403400">
            <a:off x="4572720" y="50194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e-recr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87"/>
          <p:cNvSpPr/>
          <p:nvPr/>
        </p:nvSpPr>
        <p:spPr>
          <a:xfrm rot="1772400">
            <a:off x="3020040" y="4959720"/>
            <a:ext cx="15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Employee recomm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88"/>
          <p:cNvSpPr/>
          <p:nvPr/>
        </p:nvSpPr>
        <p:spPr>
          <a:xfrm rot="16200000">
            <a:off x="2167920" y="3732120"/>
            <a:ext cx="17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Campus recrui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89"/>
          <p:cNvSpPr/>
          <p:nvPr/>
        </p:nvSpPr>
        <p:spPr>
          <a:xfrm rot="19560600">
            <a:off x="3002040" y="252072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Headh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92"/>
          <p:cNvGrpSpPr/>
          <p:nvPr/>
        </p:nvGrpSpPr>
        <p:grpSpPr>
          <a:xfrm>
            <a:off x="2763720" y="1844640"/>
            <a:ext cx="3477960" cy="4321080"/>
            <a:chOff x="2763720" y="1844640"/>
            <a:chExt cx="3477960" cy="4321080"/>
          </a:xfrm>
        </p:grpSpPr>
        <p:pic>
          <p:nvPicPr>
            <p:cNvPr id="311" name="Picture 2" descr=""/>
            <p:cNvPicPr/>
            <p:nvPr/>
          </p:nvPicPr>
          <p:blipFill>
            <a:blip r:embed="rId2"/>
            <a:stretch/>
          </p:blipFill>
          <p:spPr>
            <a:xfrm>
              <a:off x="2763720" y="1844640"/>
              <a:ext cx="3343320" cy="43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TextBox 90"/>
            <p:cNvSpPr/>
            <p:nvPr/>
          </p:nvSpPr>
          <p:spPr>
            <a:xfrm rot="539400">
              <a:off x="3040200" y="2266920"/>
              <a:ext cx="319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ternal recruitment in KM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E89C7-BE69-404F-ACA0-3D9C069843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753 -0.14312 L -1.38889E-006 -3.17919E-006 E">
                                      <p:cBhvr>
                                        <p:cTn id="499" dur="5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75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1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3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25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25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25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25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799879">
                                      <p:cBhvr>
                                        <p:cTn id="56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3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indefinite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indefinite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indefinite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indefinite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indefinite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indefinite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indefinite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indefinite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indefinite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indefinite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indefinite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indefinite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indefinite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indefinite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图片 6" descr="图片2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7"/>
          <p:cNvSpPr/>
          <p:nvPr/>
        </p:nvSpPr>
        <p:spPr>
          <a:xfrm>
            <a:off x="6724800" y="6357960"/>
            <a:ext cx="21333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微软雅黑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5"/>
          <p:cNvSpPr/>
          <p:nvPr/>
        </p:nvSpPr>
        <p:spPr>
          <a:xfrm>
            <a:off x="412920" y="6157800"/>
            <a:ext cx="72072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Organ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7"/>
          <p:cNvSpPr/>
          <p:nvPr/>
        </p:nvSpPr>
        <p:spPr>
          <a:xfrm>
            <a:off x="1374840" y="6149880"/>
            <a:ext cx="71892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7"/>
          <p:cNvSpPr/>
          <p:nvPr/>
        </p:nvSpPr>
        <p:spPr>
          <a:xfrm>
            <a:off x="3316320" y="6157800"/>
            <a:ext cx="71928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Ques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Abo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Roadma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5"/>
          <p:cNvSpPr/>
          <p:nvPr/>
        </p:nvSpPr>
        <p:spPr>
          <a:xfrm>
            <a:off x="2347920" y="6157800"/>
            <a:ext cx="71928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Staff Numb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10"/>
          <p:cNvSpPr/>
          <p:nvPr/>
        </p:nvSpPr>
        <p:spPr>
          <a:xfrm>
            <a:off x="179280" y="6583320"/>
            <a:ext cx="4384800" cy="230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圆角矩形 4"/>
          <p:cNvSpPr/>
          <p:nvPr/>
        </p:nvSpPr>
        <p:spPr>
          <a:xfrm>
            <a:off x="398520" y="1123920"/>
            <a:ext cx="360360" cy="720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圆角矩形 11"/>
          <p:cNvSpPr/>
          <p:nvPr/>
        </p:nvSpPr>
        <p:spPr>
          <a:xfrm>
            <a:off x="844560" y="1123920"/>
            <a:ext cx="5238720" cy="720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Questions About Road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10"/>
          <p:cNvGrpSpPr/>
          <p:nvPr/>
        </p:nvGrpSpPr>
        <p:grpSpPr>
          <a:xfrm>
            <a:off x="654120" y="3141720"/>
            <a:ext cx="1728720" cy="1728720"/>
            <a:chOff x="654120" y="3141720"/>
            <a:chExt cx="1728720" cy="1728720"/>
          </a:xfrm>
        </p:grpSpPr>
        <p:sp>
          <p:nvSpPr>
            <p:cNvPr id="323" name="TextBox 11"/>
            <p:cNvSpPr/>
            <p:nvPr/>
          </p:nvSpPr>
          <p:spPr>
            <a:xfrm>
              <a:off x="1088640" y="3220920"/>
              <a:ext cx="858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4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椭圆 12"/>
            <p:cNvSpPr/>
            <p:nvPr/>
          </p:nvSpPr>
          <p:spPr>
            <a:xfrm>
              <a:off x="654120" y="3141720"/>
              <a:ext cx="1728720" cy="1728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13"/>
            <p:cNvSpPr/>
            <p:nvPr/>
          </p:nvSpPr>
          <p:spPr>
            <a:xfrm>
              <a:off x="881640" y="38214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Dimis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直接连接符 16"/>
          <p:cNvSpPr/>
          <p:nvPr/>
        </p:nvSpPr>
        <p:spPr>
          <a:xfrm>
            <a:off x="2382840" y="4005360"/>
            <a:ext cx="3794040" cy="1440"/>
          </a:xfrm>
          <a:prstGeom prst="line">
            <a:avLst/>
          </a:prstGeom>
          <a:ln w="63360">
            <a:solidFill>
              <a:srgbClr val="636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直接连接符 20"/>
          <p:cNvSpPr/>
          <p:nvPr/>
        </p:nvSpPr>
        <p:spPr>
          <a:xfrm flipH="1" flipV="1">
            <a:off x="6168600" y="4005360"/>
            <a:ext cx="1111320" cy="1224000"/>
          </a:xfrm>
          <a:prstGeom prst="line">
            <a:avLst/>
          </a:prstGeom>
          <a:ln w="63360">
            <a:solidFill>
              <a:srgbClr val="636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直接连接符 23"/>
          <p:cNvSpPr/>
          <p:nvPr/>
        </p:nvSpPr>
        <p:spPr>
          <a:xfrm flipH="1" flipV="1">
            <a:off x="4282920" y="4005360"/>
            <a:ext cx="1113120" cy="1224000"/>
          </a:xfrm>
          <a:prstGeom prst="line">
            <a:avLst/>
          </a:prstGeom>
          <a:ln w="63360">
            <a:solidFill>
              <a:srgbClr val="636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直接连接符 26"/>
          <p:cNvSpPr/>
          <p:nvPr/>
        </p:nvSpPr>
        <p:spPr>
          <a:xfrm flipH="1">
            <a:off x="6176520" y="2789280"/>
            <a:ext cx="1111320" cy="1224000"/>
          </a:xfrm>
          <a:prstGeom prst="line">
            <a:avLst/>
          </a:prstGeom>
          <a:ln w="63360">
            <a:solidFill>
              <a:srgbClr val="636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28"/>
          <p:cNvSpPr/>
          <p:nvPr/>
        </p:nvSpPr>
        <p:spPr>
          <a:xfrm flipH="1">
            <a:off x="4308120" y="2776680"/>
            <a:ext cx="1112760" cy="1224000"/>
          </a:xfrm>
          <a:prstGeom prst="line">
            <a:avLst/>
          </a:prstGeom>
          <a:ln w="63360">
            <a:solidFill>
              <a:srgbClr val="636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31"/>
          <p:cNvSpPr/>
          <p:nvPr/>
        </p:nvSpPr>
        <p:spPr>
          <a:xfrm rot="18751200">
            <a:off x="4210560" y="292680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Back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32"/>
          <p:cNvSpPr/>
          <p:nvPr/>
        </p:nvSpPr>
        <p:spPr>
          <a:xfrm rot="18751200">
            <a:off x="5616720" y="302364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nadequate sa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33"/>
          <p:cNvSpPr/>
          <p:nvPr/>
        </p:nvSpPr>
        <p:spPr>
          <a:xfrm rot="2863800">
            <a:off x="4427280" y="4862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Bette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34"/>
          <p:cNvSpPr/>
          <p:nvPr/>
        </p:nvSpPr>
        <p:spPr>
          <a:xfrm rot="2863800">
            <a:off x="6352920" y="443196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ndefin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promo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组合 46"/>
          <p:cNvGrpSpPr/>
          <p:nvPr/>
        </p:nvGrpSpPr>
        <p:grpSpPr>
          <a:xfrm>
            <a:off x="1436040" y="4154040"/>
            <a:ext cx="2100240" cy="1745280"/>
            <a:chOff x="1436040" y="4154040"/>
            <a:chExt cx="2100240" cy="1745280"/>
          </a:xfrm>
        </p:grpSpPr>
        <p:sp>
          <p:nvSpPr>
            <p:cNvPr id="336" name="矩形 47"/>
            <p:cNvSpPr/>
            <p:nvPr/>
          </p:nvSpPr>
          <p:spPr>
            <a:xfrm rot="386400">
              <a:off x="1503360" y="4481280"/>
              <a:ext cx="1965240" cy="1311840"/>
            </a:xfrm>
            <a:prstGeom prst="rect">
              <a:avLst/>
            </a:prstGeom>
            <a:solidFill>
              <a:srgbClr val="ffd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Produ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work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7" name="Picture 7" descr="C:\Documents and Settings\user\桌面\未标题-1.png"/>
            <p:cNvPicPr/>
            <p:nvPr/>
          </p:nvPicPr>
          <p:blipFill>
            <a:blip r:embed="rId2"/>
            <a:stretch/>
          </p:blipFill>
          <p:spPr>
            <a:xfrm rot="386400">
              <a:off x="2346480" y="4183200"/>
              <a:ext cx="563040" cy="72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8" name="组合 51"/>
          <p:cNvGrpSpPr/>
          <p:nvPr/>
        </p:nvGrpSpPr>
        <p:grpSpPr>
          <a:xfrm>
            <a:off x="1650240" y="2159280"/>
            <a:ext cx="2115720" cy="1757520"/>
            <a:chOff x="1650240" y="2159280"/>
            <a:chExt cx="2115720" cy="1757520"/>
          </a:xfrm>
        </p:grpSpPr>
        <p:sp>
          <p:nvSpPr>
            <p:cNvPr id="339" name="矩形 52"/>
            <p:cNvSpPr/>
            <p:nvPr/>
          </p:nvSpPr>
          <p:spPr>
            <a:xfrm rot="21163800">
              <a:off x="1725120" y="2484360"/>
              <a:ext cx="1965240" cy="1312920"/>
            </a:xfrm>
            <a:prstGeom prst="rect">
              <a:avLst/>
            </a:prstGeom>
            <a:solidFill>
              <a:srgbClr val="ffd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Serious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dimiss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0" name="Picture 7" descr="C:\Documents and Settings\user\桌面\未标题-1.png"/>
            <p:cNvPicPr/>
            <p:nvPr/>
          </p:nvPicPr>
          <p:blipFill>
            <a:blip r:embed="rId3"/>
            <a:stretch/>
          </p:blipFill>
          <p:spPr>
            <a:xfrm rot="21163800">
              <a:off x="2546280" y="2191680"/>
              <a:ext cx="563040" cy="723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60116E-006 L 0.31823 -2.60116E-006 E">
                                      <p:cBhvr>
                                        <p:cTn id="605" dur="5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25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25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dur="indefinite" nodeType="withEffect" fill="hold" presetClass="entr" presetID="22" presetSubtype="8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25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dur="indefinite" nodeType="withEffect" fill="hold" presetClass="entr" presetID="22" presetSubtype="8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25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25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25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25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25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图片 6" descr="图片2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7"/>
          <p:cNvSpPr/>
          <p:nvPr/>
        </p:nvSpPr>
        <p:spPr>
          <a:xfrm>
            <a:off x="6724800" y="6357960"/>
            <a:ext cx="21333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微软雅黑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任意多边形 35"/>
          <p:cNvSpPr/>
          <p:nvPr/>
        </p:nvSpPr>
        <p:spPr>
          <a:xfrm>
            <a:off x="2214720" y="4141800"/>
            <a:ext cx="4162320" cy="409680"/>
          </a:xfrm>
          <a:prstGeom prst="pie">
            <a:avLst/>
          </a:prstGeom>
          <a:noFill/>
          <a:ln w="316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36"/>
          <p:cNvSpPr/>
          <p:nvPr/>
        </p:nvSpPr>
        <p:spPr>
          <a:xfrm>
            <a:off x="2225520" y="3357720"/>
            <a:ext cx="4143600" cy="1191960"/>
          </a:xfrm>
          <a:prstGeom prst="pie">
            <a:avLst/>
          </a:prstGeom>
          <a:noFill/>
          <a:ln w="316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任意多边形 18"/>
          <p:cNvSpPr/>
          <p:nvPr/>
        </p:nvSpPr>
        <p:spPr>
          <a:xfrm>
            <a:off x="2209680" y="2565360"/>
            <a:ext cx="4157640" cy="1955880"/>
          </a:xfrm>
          <a:prstGeom prst="pie">
            <a:avLst/>
          </a:prstGeom>
          <a:noFill/>
          <a:ln w="316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5"/>
          <p:cNvSpPr/>
          <p:nvPr/>
        </p:nvSpPr>
        <p:spPr>
          <a:xfrm>
            <a:off x="412920" y="6157800"/>
            <a:ext cx="72072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Organ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7"/>
          <p:cNvSpPr/>
          <p:nvPr/>
        </p:nvSpPr>
        <p:spPr>
          <a:xfrm>
            <a:off x="1374840" y="6149880"/>
            <a:ext cx="71892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7"/>
          <p:cNvSpPr/>
          <p:nvPr/>
        </p:nvSpPr>
        <p:spPr>
          <a:xfrm>
            <a:off x="3316320" y="6157800"/>
            <a:ext cx="71928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Ques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Abo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Roadma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5"/>
          <p:cNvSpPr/>
          <p:nvPr/>
        </p:nvSpPr>
        <p:spPr>
          <a:xfrm>
            <a:off x="2347920" y="6157800"/>
            <a:ext cx="71928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Staff Numb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10"/>
          <p:cNvSpPr/>
          <p:nvPr/>
        </p:nvSpPr>
        <p:spPr>
          <a:xfrm>
            <a:off x="179280" y="6583320"/>
            <a:ext cx="4384800" cy="230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圆角矩形 4"/>
          <p:cNvSpPr/>
          <p:nvPr/>
        </p:nvSpPr>
        <p:spPr>
          <a:xfrm>
            <a:off x="398520" y="1123920"/>
            <a:ext cx="360360" cy="720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圆角矩形 11"/>
          <p:cNvSpPr/>
          <p:nvPr/>
        </p:nvSpPr>
        <p:spPr>
          <a:xfrm>
            <a:off x="844560" y="1123920"/>
            <a:ext cx="5238720" cy="720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Questions About Road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组合 10"/>
          <p:cNvGrpSpPr/>
          <p:nvPr/>
        </p:nvGrpSpPr>
        <p:grpSpPr>
          <a:xfrm>
            <a:off x="682560" y="4221000"/>
            <a:ext cx="1728720" cy="1729080"/>
            <a:chOff x="682560" y="4221000"/>
            <a:chExt cx="1728720" cy="1729080"/>
          </a:xfrm>
        </p:grpSpPr>
        <p:sp>
          <p:nvSpPr>
            <p:cNvPr id="354" name="TextBox 11"/>
            <p:cNvSpPr/>
            <p:nvPr/>
          </p:nvSpPr>
          <p:spPr>
            <a:xfrm>
              <a:off x="1117080" y="4300200"/>
              <a:ext cx="858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5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椭圆 12"/>
            <p:cNvSpPr/>
            <p:nvPr/>
          </p:nvSpPr>
          <p:spPr>
            <a:xfrm>
              <a:off x="682560" y="4221000"/>
              <a:ext cx="1728720" cy="1729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Box 13"/>
            <p:cNvSpPr/>
            <p:nvPr/>
          </p:nvSpPr>
          <p:spPr>
            <a:xfrm>
              <a:off x="783720" y="4623480"/>
              <a:ext cx="1526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Chines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employ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stat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Box 17"/>
          <p:cNvSpPr/>
          <p:nvPr/>
        </p:nvSpPr>
        <p:spPr>
          <a:xfrm>
            <a:off x="3271680" y="2195640"/>
            <a:ext cx="20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Hig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attritio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任意多边形 37"/>
          <p:cNvSpPr/>
          <p:nvPr/>
        </p:nvSpPr>
        <p:spPr>
          <a:xfrm>
            <a:off x="2244600" y="4540320"/>
            <a:ext cx="4137120" cy="398520"/>
          </a:xfrm>
          <a:prstGeom prst="pie">
            <a:avLst/>
          </a:prstGeom>
          <a:noFill/>
          <a:ln w="316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38"/>
          <p:cNvSpPr/>
          <p:nvPr/>
        </p:nvSpPr>
        <p:spPr>
          <a:xfrm>
            <a:off x="3269880" y="2987640"/>
            <a:ext cx="165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H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to recr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39"/>
          <p:cNvSpPr/>
          <p:nvPr/>
        </p:nvSpPr>
        <p:spPr>
          <a:xfrm>
            <a:off x="3273480" y="3763800"/>
            <a:ext cx="31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gener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40"/>
          <p:cNvSpPr/>
          <p:nvPr/>
        </p:nvSpPr>
        <p:spPr>
          <a:xfrm>
            <a:off x="3279600" y="4572000"/>
            <a:ext cx="32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Low labor cost days hav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p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81481E-006 L -8.33333E-007 -0.15741 E">
                                      <p:cBhvr>
                                        <p:cTn id="664" dur="5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dur="indefinite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35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dur="indefinite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35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dur="indefinite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35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dur="indefinite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35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图片 6" descr="图片2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7"/>
          <p:cNvSpPr/>
          <p:nvPr/>
        </p:nvSpPr>
        <p:spPr>
          <a:xfrm>
            <a:off x="6724800" y="6357960"/>
            <a:ext cx="21333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微软雅黑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组合 3"/>
          <p:cNvGrpSpPr/>
          <p:nvPr/>
        </p:nvGrpSpPr>
        <p:grpSpPr>
          <a:xfrm>
            <a:off x="3780000" y="2276640"/>
            <a:ext cx="1728720" cy="1728720"/>
            <a:chOff x="3780000" y="2276640"/>
            <a:chExt cx="1728720" cy="1728720"/>
          </a:xfrm>
        </p:grpSpPr>
        <p:sp>
          <p:nvSpPr>
            <p:cNvPr id="365" name="TextBox 4"/>
            <p:cNvSpPr/>
            <p:nvPr/>
          </p:nvSpPr>
          <p:spPr>
            <a:xfrm>
              <a:off x="4214520" y="2355840"/>
              <a:ext cx="858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6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椭圆 5"/>
            <p:cNvSpPr/>
            <p:nvPr/>
          </p:nvSpPr>
          <p:spPr>
            <a:xfrm>
              <a:off x="3780000" y="2276640"/>
              <a:ext cx="1728720" cy="1728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Box 6"/>
            <p:cNvSpPr/>
            <p:nvPr/>
          </p:nvSpPr>
          <p:spPr>
            <a:xfrm>
              <a:off x="3970800" y="2956320"/>
              <a:ext cx="134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SAP-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组合 34"/>
          <p:cNvGrpSpPr/>
          <p:nvPr/>
        </p:nvGrpSpPr>
        <p:grpSpPr>
          <a:xfrm>
            <a:off x="1116000" y="2060640"/>
            <a:ext cx="2664000" cy="3889440"/>
            <a:chOff x="1116000" y="2060640"/>
            <a:chExt cx="2664000" cy="3889440"/>
          </a:xfrm>
        </p:grpSpPr>
        <p:sp>
          <p:nvSpPr>
            <p:cNvPr id="369" name="圆角矩形 19"/>
            <p:cNvSpPr/>
            <p:nvPr/>
          </p:nvSpPr>
          <p:spPr>
            <a:xfrm>
              <a:off x="1116000" y="2327760"/>
              <a:ext cx="2664000" cy="3622320"/>
            </a:xfrm>
            <a:custGeom>
              <a:avLst/>
              <a:gdLst>
                <a:gd name="textAreaLeft" fmla="*/ 50400 w 2664000"/>
                <a:gd name="textAreaRight" fmla="*/ 2613600 w 2664000"/>
                <a:gd name="textAreaTop" fmla="*/ 50400 h 3622320"/>
                <a:gd name="textAreaBottom" fmla="*/ 3571920 h 3622320"/>
              </a:gdLst>
              <a:ahLst/>
              <a:rect l="textAreaLeft" t="textAreaTop" r="textAreaRight" b="textAreaBottom"/>
              <a:pathLst>
                <a:path w="21600" h="29369">
                  <a:moveTo>
                    <a:pt x="1403" y="0"/>
                  </a:moveTo>
                  <a:arcTo wR="1403" hR="1403" stAng="16200000" swAng="-5400000"/>
                  <a:lnTo>
                    <a:pt x="0" y="27966"/>
                  </a:lnTo>
                  <a:arcTo wR="1403" hR="1403" stAng="10800000" swAng="-5400000"/>
                  <a:lnTo>
                    <a:pt x="20197" y="29369"/>
                  </a:lnTo>
                  <a:arcTo wR="1403" hR="1403" stAng="5400000" swAng="-5400000"/>
                  <a:lnTo>
                    <a:pt x="21600" y="1403"/>
                  </a:lnTo>
                  <a:arcTo wR="1403" hR="1403" stAng="0" swAng="-5400000"/>
                  <a:close/>
                </a:path>
              </a:pathLst>
            </a:custGeom>
            <a:noFill/>
            <a:ln w="3168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圆角矩形 17"/>
            <p:cNvSpPr/>
            <p:nvPr/>
          </p:nvSpPr>
          <p:spPr>
            <a:xfrm>
              <a:off x="1487160" y="2060640"/>
              <a:ext cx="1197360" cy="507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168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Statu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组合 35"/>
          <p:cNvGrpSpPr/>
          <p:nvPr/>
        </p:nvGrpSpPr>
        <p:grpSpPr>
          <a:xfrm>
            <a:off x="5508720" y="2060640"/>
            <a:ext cx="2663640" cy="3889440"/>
            <a:chOff x="5508720" y="2060640"/>
            <a:chExt cx="2663640" cy="3889440"/>
          </a:xfrm>
        </p:grpSpPr>
        <p:sp>
          <p:nvSpPr>
            <p:cNvPr id="372" name="圆角矩形 20"/>
            <p:cNvSpPr/>
            <p:nvPr/>
          </p:nvSpPr>
          <p:spPr>
            <a:xfrm>
              <a:off x="5508720" y="2327760"/>
              <a:ext cx="2663640" cy="3622320"/>
            </a:xfrm>
            <a:custGeom>
              <a:avLst/>
              <a:gdLst>
                <a:gd name="textAreaLeft" fmla="*/ 50400 w 2663640"/>
                <a:gd name="textAreaRight" fmla="*/ 2613240 w 2663640"/>
                <a:gd name="textAreaTop" fmla="*/ 50400 h 3622320"/>
                <a:gd name="textAreaBottom" fmla="*/ 3571920 h 3622320"/>
              </a:gdLst>
              <a:ahLst/>
              <a:rect l="textAreaLeft" t="textAreaTop" r="textAreaRight" b="textAreaBottom"/>
              <a:pathLst>
                <a:path w="21600" h="29373">
                  <a:moveTo>
                    <a:pt x="1403" y="0"/>
                  </a:moveTo>
                  <a:arcTo wR="1403" hR="1403" stAng="16200000" swAng="-5400000"/>
                  <a:lnTo>
                    <a:pt x="0" y="27970"/>
                  </a:lnTo>
                  <a:arcTo wR="1403" hR="1403" stAng="10800000" swAng="-5400000"/>
                  <a:lnTo>
                    <a:pt x="20197" y="29373"/>
                  </a:lnTo>
                  <a:arcTo wR="1403" hR="1403" stAng="5400000" swAng="-5400000"/>
                  <a:lnTo>
                    <a:pt x="21600" y="1403"/>
                  </a:lnTo>
                  <a:arcTo wR="1403" hR="1403" stAng="0" swAng="-5400000"/>
                  <a:close/>
                </a:path>
              </a:pathLst>
            </a:custGeom>
            <a:noFill/>
            <a:ln w="3168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圆角矩形 21"/>
            <p:cNvSpPr/>
            <p:nvPr/>
          </p:nvSpPr>
          <p:spPr>
            <a:xfrm>
              <a:off x="5879880" y="2060640"/>
              <a:ext cx="1500480" cy="507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168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Question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圆角矩形 22"/>
          <p:cNvSpPr/>
          <p:nvPr/>
        </p:nvSpPr>
        <p:spPr>
          <a:xfrm>
            <a:off x="1542960" y="2711520"/>
            <a:ext cx="1925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rt in March, lunched in Ju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圆角矩形 23"/>
          <p:cNvSpPr/>
          <p:nvPr/>
        </p:nvSpPr>
        <p:spPr>
          <a:xfrm>
            <a:off x="1542960" y="3803760"/>
            <a:ext cx="1925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ten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ste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圆角矩形 30"/>
          <p:cNvSpPr/>
          <p:nvPr/>
        </p:nvSpPr>
        <p:spPr>
          <a:xfrm>
            <a:off x="1542960" y="4896000"/>
            <a:ext cx="192564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unning smooth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圆角矩形 31"/>
          <p:cNvSpPr/>
          <p:nvPr/>
        </p:nvSpPr>
        <p:spPr>
          <a:xfrm>
            <a:off x="5872320" y="2711520"/>
            <a:ext cx="1925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tendance man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K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圆角矩形 32"/>
          <p:cNvSpPr/>
          <p:nvPr/>
        </p:nvSpPr>
        <p:spPr>
          <a:xfrm>
            <a:off x="5872320" y="3803760"/>
            <a:ext cx="1925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P-HR &amp; S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圆角矩形 33"/>
          <p:cNvSpPr/>
          <p:nvPr/>
        </p:nvSpPr>
        <p:spPr>
          <a:xfrm>
            <a:off x="5872320" y="4896000"/>
            <a:ext cx="192564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-hour analysis in K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5"/>
          <p:cNvSpPr/>
          <p:nvPr/>
        </p:nvSpPr>
        <p:spPr>
          <a:xfrm>
            <a:off x="412920" y="6157800"/>
            <a:ext cx="72072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Organ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7"/>
          <p:cNvSpPr/>
          <p:nvPr/>
        </p:nvSpPr>
        <p:spPr>
          <a:xfrm>
            <a:off x="1374840" y="6149880"/>
            <a:ext cx="71892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7"/>
          <p:cNvSpPr/>
          <p:nvPr/>
        </p:nvSpPr>
        <p:spPr>
          <a:xfrm>
            <a:off x="3316320" y="6157800"/>
            <a:ext cx="71928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Ques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Abo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Roadma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5"/>
          <p:cNvSpPr/>
          <p:nvPr/>
        </p:nvSpPr>
        <p:spPr>
          <a:xfrm>
            <a:off x="2347920" y="6157800"/>
            <a:ext cx="71928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Staff Numb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10"/>
          <p:cNvSpPr/>
          <p:nvPr/>
        </p:nvSpPr>
        <p:spPr>
          <a:xfrm>
            <a:off x="179280" y="6583320"/>
            <a:ext cx="4384800" cy="230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圆角矩形 4"/>
          <p:cNvSpPr/>
          <p:nvPr/>
        </p:nvSpPr>
        <p:spPr>
          <a:xfrm>
            <a:off x="398520" y="1123920"/>
            <a:ext cx="360360" cy="720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圆角矩形 11"/>
          <p:cNvSpPr/>
          <p:nvPr/>
        </p:nvSpPr>
        <p:spPr>
          <a:xfrm>
            <a:off x="844560" y="1123920"/>
            <a:ext cx="5238720" cy="720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Questions About Road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37E-007 L -0.33698 0.28357 E">
                                      <p:cBhvr>
                                        <p:cTn id="702" dur="5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图片 6" descr="图片2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7"/>
          <p:cNvSpPr/>
          <p:nvPr/>
        </p:nvSpPr>
        <p:spPr>
          <a:xfrm>
            <a:off x="6724800" y="6357960"/>
            <a:ext cx="21333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微软雅黑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5"/>
          <p:cNvSpPr/>
          <p:nvPr/>
        </p:nvSpPr>
        <p:spPr>
          <a:xfrm>
            <a:off x="412920" y="6157800"/>
            <a:ext cx="72072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Organ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7"/>
          <p:cNvSpPr/>
          <p:nvPr/>
        </p:nvSpPr>
        <p:spPr>
          <a:xfrm>
            <a:off x="1374840" y="6149880"/>
            <a:ext cx="71892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7"/>
          <p:cNvSpPr/>
          <p:nvPr/>
        </p:nvSpPr>
        <p:spPr>
          <a:xfrm>
            <a:off x="3316320" y="6157800"/>
            <a:ext cx="71928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Ques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Abo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Roadma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5"/>
          <p:cNvSpPr/>
          <p:nvPr/>
        </p:nvSpPr>
        <p:spPr>
          <a:xfrm>
            <a:off x="2347920" y="6157800"/>
            <a:ext cx="71928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Staff Numb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10"/>
          <p:cNvSpPr/>
          <p:nvPr/>
        </p:nvSpPr>
        <p:spPr>
          <a:xfrm>
            <a:off x="179280" y="6583320"/>
            <a:ext cx="4384800" cy="230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圆角矩形 4"/>
          <p:cNvSpPr/>
          <p:nvPr/>
        </p:nvSpPr>
        <p:spPr>
          <a:xfrm>
            <a:off x="398520" y="1123920"/>
            <a:ext cx="360360" cy="720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圆角矩形 11"/>
          <p:cNvSpPr/>
          <p:nvPr/>
        </p:nvSpPr>
        <p:spPr>
          <a:xfrm>
            <a:off x="844560" y="1123920"/>
            <a:ext cx="5238720" cy="720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Questions About Road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 rot="1144200">
            <a:off x="4878360" y="2644920"/>
            <a:ext cx="1903320" cy="2458800"/>
          </a:xfrm>
          <a:prstGeom prst="rect">
            <a:avLst/>
          </a:prstGeom>
          <a:ln w="0">
            <a:noFill/>
          </a:ln>
        </p:spPr>
      </p:pic>
      <p:grpSp>
        <p:nvGrpSpPr>
          <p:cNvPr id="397" name="组合 12"/>
          <p:cNvGrpSpPr/>
          <p:nvPr/>
        </p:nvGrpSpPr>
        <p:grpSpPr>
          <a:xfrm>
            <a:off x="2050920" y="2955960"/>
            <a:ext cx="1729080" cy="1728720"/>
            <a:chOff x="2050920" y="2955960"/>
            <a:chExt cx="1729080" cy="1728720"/>
          </a:xfrm>
        </p:grpSpPr>
        <p:sp>
          <p:nvSpPr>
            <p:cNvPr id="398" name="TextBox 14"/>
            <p:cNvSpPr/>
            <p:nvPr/>
          </p:nvSpPr>
          <p:spPr>
            <a:xfrm>
              <a:off x="2485800" y="3035160"/>
              <a:ext cx="858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7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椭圆 15"/>
            <p:cNvSpPr/>
            <p:nvPr/>
          </p:nvSpPr>
          <p:spPr>
            <a:xfrm>
              <a:off x="2050920" y="2955960"/>
              <a:ext cx="1729080" cy="1728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Box 16"/>
            <p:cNvSpPr/>
            <p:nvPr/>
          </p:nvSpPr>
          <p:spPr>
            <a:xfrm>
              <a:off x="2276280" y="3466080"/>
              <a:ext cx="127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BK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0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4444E-006 L 0.18906 -0.09884 E">
                                      <p:cBhvr>
                                        <p:cTn id="750" dur="5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1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dur="indefinite" autoRev="1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899880">
                                      <p:cBhvr>
                                        <p:cTn id="75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C6393-32CA-4566-A0EF-C286A128EF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图片 6" descr="图片2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7"/>
          <p:cNvSpPr/>
          <p:nvPr/>
        </p:nvSpPr>
        <p:spPr>
          <a:xfrm>
            <a:off x="6724800" y="6357960"/>
            <a:ext cx="21333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微软雅黑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4"/>
          <p:cNvSpPr/>
          <p:nvPr/>
        </p:nvSpPr>
        <p:spPr>
          <a:xfrm>
            <a:off x="1601640" y="3112920"/>
            <a:ext cx="487440" cy="225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5"/>
          <p:cNvSpPr/>
          <p:nvPr/>
        </p:nvSpPr>
        <p:spPr>
          <a:xfrm>
            <a:off x="2482920" y="2682720"/>
            <a:ext cx="585720" cy="219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6"/>
          <p:cNvSpPr/>
          <p:nvPr/>
        </p:nvSpPr>
        <p:spPr>
          <a:xfrm>
            <a:off x="1620720" y="2870280"/>
            <a:ext cx="1444680" cy="244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7"/>
          <p:cNvSpPr/>
          <p:nvPr/>
        </p:nvSpPr>
        <p:spPr>
          <a:xfrm>
            <a:off x="1246320" y="3071880"/>
            <a:ext cx="1371600" cy="712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8"/>
          <p:cNvSpPr/>
          <p:nvPr/>
        </p:nvSpPr>
        <p:spPr>
          <a:xfrm>
            <a:off x="1711440" y="3564000"/>
            <a:ext cx="911160" cy="225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9"/>
          <p:cNvSpPr/>
          <p:nvPr/>
        </p:nvSpPr>
        <p:spPr>
          <a:xfrm>
            <a:off x="3192480" y="3402000"/>
            <a:ext cx="465120" cy="376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10"/>
          <p:cNvSpPr/>
          <p:nvPr/>
        </p:nvSpPr>
        <p:spPr>
          <a:xfrm>
            <a:off x="3795840" y="3413160"/>
            <a:ext cx="333360" cy="358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11"/>
          <p:cNvSpPr/>
          <p:nvPr/>
        </p:nvSpPr>
        <p:spPr>
          <a:xfrm>
            <a:off x="3946680" y="3413160"/>
            <a:ext cx="501480" cy="326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14"/>
          <p:cNvSpPr/>
          <p:nvPr/>
        </p:nvSpPr>
        <p:spPr>
          <a:xfrm>
            <a:off x="5629320" y="3360600"/>
            <a:ext cx="217440" cy="104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15"/>
          <p:cNvSpPr/>
          <p:nvPr/>
        </p:nvSpPr>
        <p:spPr>
          <a:xfrm>
            <a:off x="5813280" y="2892600"/>
            <a:ext cx="1148040" cy="888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16"/>
          <p:cNvSpPr/>
          <p:nvPr/>
        </p:nvSpPr>
        <p:spPr>
          <a:xfrm>
            <a:off x="6176880" y="3875040"/>
            <a:ext cx="330120" cy="297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17"/>
          <p:cNvSpPr/>
          <p:nvPr/>
        </p:nvSpPr>
        <p:spPr>
          <a:xfrm>
            <a:off x="5364000" y="3863880"/>
            <a:ext cx="822600" cy="644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18"/>
          <p:cNvSpPr/>
          <p:nvPr/>
        </p:nvSpPr>
        <p:spPr>
          <a:xfrm>
            <a:off x="6087960" y="3255840"/>
            <a:ext cx="542880" cy="619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19"/>
          <p:cNvSpPr/>
          <p:nvPr/>
        </p:nvSpPr>
        <p:spPr>
          <a:xfrm>
            <a:off x="5780160" y="2911320"/>
            <a:ext cx="573120" cy="854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20"/>
          <p:cNvSpPr/>
          <p:nvPr/>
        </p:nvSpPr>
        <p:spPr>
          <a:xfrm>
            <a:off x="5626080" y="2900520"/>
            <a:ext cx="633600" cy="471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21"/>
          <p:cNvSpPr/>
          <p:nvPr/>
        </p:nvSpPr>
        <p:spPr>
          <a:xfrm>
            <a:off x="6510240" y="3413160"/>
            <a:ext cx="382680" cy="368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22"/>
          <p:cNvSpPr/>
          <p:nvPr/>
        </p:nvSpPr>
        <p:spPr>
          <a:xfrm>
            <a:off x="6627960" y="3413160"/>
            <a:ext cx="360360" cy="368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23"/>
          <p:cNvSpPr/>
          <p:nvPr/>
        </p:nvSpPr>
        <p:spPr>
          <a:xfrm>
            <a:off x="7013520" y="3417840"/>
            <a:ext cx="333360" cy="195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24"/>
          <p:cNvSpPr/>
          <p:nvPr/>
        </p:nvSpPr>
        <p:spPr>
          <a:xfrm>
            <a:off x="7024680" y="3419640"/>
            <a:ext cx="318960" cy="339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25"/>
          <p:cNvSpPr/>
          <p:nvPr/>
        </p:nvSpPr>
        <p:spPr>
          <a:xfrm>
            <a:off x="7058160" y="3400560"/>
            <a:ext cx="623880" cy="365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26"/>
          <p:cNvSpPr/>
          <p:nvPr/>
        </p:nvSpPr>
        <p:spPr>
          <a:xfrm>
            <a:off x="7351560" y="3448080"/>
            <a:ext cx="281160" cy="298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27"/>
          <p:cNvSpPr/>
          <p:nvPr/>
        </p:nvSpPr>
        <p:spPr>
          <a:xfrm>
            <a:off x="7385040" y="3527280"/>
            <a:ext cx="355680" cy="225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28"/>
          <p:cNvSpPr/>
          <p:nvPr/>
        </p:nvSpPr>
        <p:spPr>
          <a:xfrm>
            <a:off x="2716200" y="2595600"/>
            <a:ext cx="911160" cy="869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29"/>
          <p:cNvSpPr/>
          <p:nvPr/>
        </p:nvSpPr>
        <p:spPr>
          <a:xfrm>
            <a:off x="2884320" y="3413160"/>
            <a:ext cx="277920" cy="365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30"/>
          <p:cNvSpPr/>
          <p:nvPr/>
        </p:nvSpPr>
        <p:spPr>
          <a:xfrm>
            <a:off x="2955960" y="3556080"/>
            <a:ext cx="318960" cy="218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31"/>
          <p:cNvSpPr/>
          <p:nvPr/>
        </p:nvSpPr>
        <p:spPr>
          <a:xfrm>
            <a:off x="2666880" y="3413160"/>
            <a:ext cx="427320" cy="301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32"/>
          <p:cNvSpPr/>
          <p:nvPr/>
        </p:nvSpPr>
        <p:spPr>
          <a:xfrm>
            <a:off x="2581200" y="2595600"/>
            <a:ext cx="1112760" cy="1001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33"/>
          <p:cNvSpPr/>
          <p:nvPr/>
        </p:nvSpPr>
        <p:spPr>
          <a:xfrm>
            <a:off x="2521080" y="3429000"/>
            <a:ext cx="341280" cy="343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34"/>
          <p:cNvSpPr/>
          <p:nvPr/>
        </p:nvSpPr>
        <p:spPr>
          <a:xfrm>
            <a:off x="4540320" y="3330720"/>
            <a:ext cx="608040" cy="36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35"/>
          <p:cNvSpPr/>
          <p:nvPr/>
        </p:nvSpPr>
        <p:spPr>
          <a:xfrm>
            <a:off x="4890960" y="3330720"/>
            <a:ext cx="314280" cy="36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36"/>
          <p:cNvSpPr/>
          <p:nvPr/>
        </p:nvSpPr>
        <p:spPr>
          <a:xfrm>
            <a:off x="4959360" y="3475080"/>
            <a:ext cx="318960" cy="220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37"/>
          <p:cNvSpPr/>
          <p:nvPr/>
        </p:nvSpPr>
        <p:spPr>
          <a:xfrm>
            <a:off x="6851520" y="3552840"/>
            <a:ext cx="230400" cy="139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38"/>
          <p:cNvSpPr/>
          <p:nvPr/>
        </p:nvSpPr>
        <p:spPr>
          <a:xfrm>
            <a:off x="3511440" y="3552840"/>
            <a:ext cx="355680" cy="225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39"/>
          <p:cNvSpPr/>
          <p:nvPr/>
        </p:nvSpPr>
        <p:spPr>
          <a:xfrm>
            <a:off x="3484440" y="3409920"/>
            <a:ext cx="327240" cy="362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图片 37" descr="羽毛.png"/>
          <p:cNvPicPr/>
          <p:nvPr/>
        </p:nvPicPr>
        <p:blipFill>
          <a:blip r:embed="rId2"/>
          <a:stretch/>
        </p:blipFill>
        <p:spPr>
          <a:xfrm rot="1350000">
            <a:off x="7903800" y="-915840"/>
            <a:ext cx="1239840" cy="3966840"/>
          </a:xfrm>
          <a:prstGeom prst="rect">
            <a:avLst/>
          </a:prstGeom>
          <a:ln w="0">
            <a:noFill/>
          </a:ln>
        </p:spPr>
      </p:pic>
      <p:sp>
        <p:nvSpPr>
          <p:cNvPr id="441" name="Freeform 42"/>
          <p:cNvSpPr/>
          <p:nvPr/>
        </p:nvSpPr>
        <p:spPr>
          <a:xfrm>
            <a:off x="4572000" y="2538360"/>
            <a:ext cx="1112760" cy="1001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43"/>
          <p:cNvSpPr/>
          <p:nvPr/>
        </p:nvSpPr>
        <p:spPr>
          <a:xfrm>
            <a:off x="4727520" y="2538360"/>
            <a:ext cx="911160" cy="870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44"/>
          <p:cNvSpPr/>
          <p:nvPr/>
        </p:nvSpPr>
        <p:spPr>
          <a:xfrm>
            <a:off x="4140360" y="3402000"/>
            <a:ext cx="326880" cy="360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45"/>
          <p:cNvSpPr/>
          <p:nvPr/>
        </p:nvSpPr>
        <p:spPr>
          <a:xfrm>
            <a:off x="4145040" y="3475080"/>
            <a:ext cx="498240" cy="297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1"/>
          <p:cNvSpPr/>
          <p:nvPr/>
        </p:nvSpPr>
        <p:spPr>
          <a:xfrm>
            <a:off x="3000960" y="826776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573 -0.00788 C -0.54965 -0.01134 -0.52795 -0.02591 -0.51927 -0.02869 C -0.51059 -0.03146 -0.50747 -0.02822 -0.50365 -0.02452 C -0.49983 -0.02082 -0.49774 -0.00996 -0.49618 -0.00603 E">
                                      <p:cBhvr>
                                        <p:cTn id="762" dur="1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1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00"/>
                            </p:stCondLst>
                            <p:childTnLst>
                              <p:par>
                                <p:cTn id="767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052 0.02704 C -0.64653 0.0238 -0.63403 0.01247 -0.62552 0.00877 C -0.61702 0.00507 -0.61649 0.00322 -0.59948 0.00461 C -0.58247 0.006 -0.54011 0.01617 -0.52327 0.01709 C -0.50643 0.01802 -0.50243 0.01432 -0.49792 0.01085 C -0.4934 0.00738 -0.4967 -0.00094 -0.49636 -0.00395 E">
                                      <p:cBhvr>
                                        <p:cTn id="768" dur="2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9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2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300"/>
                            </p:stCondLst>
                            <p:childTnLst>
                              <p:par>
                                <p:cTn id="773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0434 0.03929 C -0.60486 0.04183 -0.60174 0.05062 -0.60434 0.05409 C -0.60695 0.05756 -0.61389 0.05894 -0.62014 0.06033 C -0.62639 0.06172 -0.63698 0.06449 -0.64219 0.06195 C -0.6474 0.05941 -0.65 0.05108 -0.65156 0.0453 C -0.65313 0.03952 -0.65156 0.03097 -0.65156 0.02704 E">
                                      <p:cBhvr>
                                        <p:cTn id="774" dur="3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7" dur="3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600"/>
                            </p:stCondLst>
                            <p:childTnLst>
                              <p:par>
                                <p:cTn id="779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9983 0.0585 C -0.57743 0.05064 -0.55486 0.04278 -0.54584 0.03954 E">
                                      <p:cBhvr>
                                        <p:cTn id="780" dur="1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700"/>
                            </p:stCondLst>
                            <p:childTnLst>
                              <p:par>
                                <p:cTn id="782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8681 0.12715 C -0.67813 0.126 -0.64948 0.12808 -0.63438 0.12068 C -0.61927 0.11328 -0.60469 0.09201 -0.59618 0.08322 C -0.58768 0.07444 -0.58889 0.07513 -0.58368 0.06796 C -0.57847 0.06079 -0.56962 0.04808 -0.56459 0.04045 C -0.55955 0.03282 -0.55573 0.02542 -0.55347 0.02149 E">
                                      <p:cBhvr>
                                        <p:cTn id="783" dur="1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1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800"/>
                            </p:stCondLst>
                            <p:childTnLst>
                              <p:par>
                                <p:cTn id="78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8524 0.12715 C -0.67726 0.12692 -0.64827 0.12507 -0.63577 0.12507 C -0.62327 0.12507 -0.62066 0.12785 -0.61059 0.12715 C -0.60052 0.12646 -0.58698 0.12461 -0.5757 0.12068 C -0.56441 0.11675 -0.54931 0.10727 -0.54236 0.1038 E">
                                      <p:cBhvr>
                                        <p:cTn id="789" dur="1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1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900"/>
                            </p:stCondLst>
                            <p:childTnLst>
                              <p:par>
                                <p:cTn id="794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4254 0.10357 C -0.53976 0.10195 -0.5349 0.10449 -0.52778 0.0964 C -0.52066 0.08831 -0.51111 0.06912 -0.49948 0.05524 C -0.48785 0.0416 -0.46893 0.02403 -0.45834 0.01293 C -0.44774 0.00183 -0.44045 -0.00395 -0.43594 -0.01204 C -0.43143 -0.02013 -0.43177 -0.03077 -0.43073 -0.03562 E">
                                      <p:cBhvr>
                                        <p:cTn id="795" dur="1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1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0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3212 -0.0384 C -0.43455 -0.03817 -0.43889 -0.04395 -0.4467 -0.03701 C -0.45452 -0.03007 -0.46788 -0.01111 -0.47899 0.00322 C -0.49011 0.01756 -0.50382 0.03351 -0.51354 0.049 C -0.52327 0.06449 -0.53212 0.08646 -0.53698 0.0964 E">
                                      <p:cBhvr>
                                        <p:cTn id="801" dur="1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4" dur="1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100"/>
                            </p:stCondLst>
                            <p:childTnLst>
                              <p:par>
                                <p:cTn id="806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3698 0.0964 C -0.53889 0.10126 -0.54601 0.11952 -0.54844 0.12553 E">
                                      <p:cBhvr>
                                        <p:cTn id="807" dur="1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1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200"/>
                            </p:stCondLst>
                            <p:childTnLst>
                              <p:par>
                                <p:cTn id="812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993 0.08068 C -0.49497 0.08322 -0.51163 0.08761 -0.5217 0.09548 C -0.53177 0.10334 -0.54427 0.12045 -0.55035 0.12715 E">
                                      <p:cBhvr>
                                        <p:cTn id="813" dur="1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1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300"/>
                            </p:stCondLst>
                            <p:childTnLst>
                              <p:par>
                                <p:cTn id="81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059 0.12923 C -0.50747 0.12507 -0.49844 0.11166 -0.49479 0.1038 C -0.49115 0.09594 -0.48976 0.08715 -0.48837 0.08276 E">
                                      <p:cBhvr>
                                        <p:cTn id="819" dur="1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1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400"/>
                            </p:stCondLst>
                            <p:childTnLst>
                              <p:par>
                                <p:cTn id="824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3924 0.09594 C -0.44115 0.09316 -0.44427 0.07929 -0.44879 0.07698 C -0.4533 0.07467 -0.4599 0.07767 -0.46615 0.08276 C -0.4724 0.08785 -0.47969 0.10079 -0.48681 0.10819 C -0.49393 0.11559 -0.50452 0.12345 -0.5092 0.12738 E">
                                      <p:cBhvr>
                                        <p:cTn id="825" dur="1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1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500"/>
                            </p:stCondLst>
                            <p:childTnLst>
                              <p:par>
                                <p:cTn id="830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014 0.07629 C -0.4217 0.0786 -0.41962 0.08207 -0.42656 0.0897 C -0.43351 0.09733 -0.45295 0.11629 -0.46146 0.12253 C -0.46997 0.12877 -0.47552 0.13085 -0.47743 0.12692 C -0.47934 0.12299 -0.47656 0.10773 -0.47257 0.09941 C -0.46858 0.09108 -0.45886 0.07998 -0.45347 0.07744 C -0.44809 0.0749 -0.44323 0.07998 -0.4408 0.08368 C -0.43837 0.08738 -0.43959 0.09617 -0.43924 0.09941 E">
                                      <p:cBhvr>
                                        <p:cTn id="831" dur="1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2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4" dur="1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600"/>
                            </p:stCondLst>
                            <p:childTnLst>
                              <p:par>
                                <p:cTn id="836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1632 0.0749 C -0.42118 0.08322 -0.43941 0.11467 -0.44549 0.12507 E">
                                      <p:cBhvr>
                                        <p:cTn id="837" dur="1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0" dur="1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700"/>
                            </p:stCondLst>
                            <p:childTnLst>
                              <p:par>
                                <p:cTn id="842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774 0.12854 C -0.44445 0.12877 -0.44097 0.12923 -0.43663 0.12761 C -0.43229 0.126 -0.42604 0.12183 -0.42205 0.11906 C -0.41806 0.11629 -0.41528 0.11328 -0.41285 0.11074 C -0.41042 0.1075 -0.40816 0.10126 -0.40729 0.09894 C -0.40643 0.0964 -0.40764 0.09594 -0.40764 0.09524 E">
                                      <p:cBhvr>
                                        <p:cTn id="843" dur="1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6" dur="1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800"/>
                            </p:stCondLst>
                            <p:childTnLst>
                              <p:par>
                                <p:cTn id="84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851 0.12415 C -0.40452 0.12022 -0.3882 0.10657 -0.38472 0.09871 C -0.38125 0.09085 -0.38455 0.07813 -0.38785 0.07744 C -0.39115 0.07675 -0.40139 0.09131 -0.40486 0.09501 E">
                                      <p:cBhvr>
                                        <p:cTn id="849" dur="1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1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900"/>
                            </p:stCondLst>
                            <p:childTnLst>
                              <p:par>
                                <p:cTn id="854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549 0.08253 C -0.34965 0.08461 -0.36215 0.086 -0.37257 0.09293 C -0.38299 0.09987 -0.40243 0.11952 -0.40851 0.12484 E">
                                      <p:cBhvr>
                                        <p:cTn id="855" dur="1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1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2000"/>
                            </p:stCondLst>
                            <p:childTnLst>
                              <p:par>
                                <p:cTn id="860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879 0.08473 C -0.35226 0.0919 -0.36528 0.11899 -0.36962 0.12801 E">
                                      <p:cBhvr>
                                        <p:cTn id="861" dur="1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1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2100"/>
                            </p:stCondLst>
                            <p:childTnLst>
                              <p:par>
                                <p:cTn id="866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962 0.1375 C -0.36771 0.14075 -0.36563 0.14399 -0.35851 0.13936 C -0.35139 0.13473 -0.33906 0.12223 -0.32656 0.10973 E">
                                      <p:cBhvr>
                                        <p:cTn id="867" dur="1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0" dur="1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2200"/>
                            </p:stCondLst>
                            <p:childTnLst>
                              <p:par>
                                <p:cTn id="872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441 -0.04606 C -0.21511 -0.04328 -0.21215 -0.03981 -0.21858 -0.02939 C -0.225 -0.01898 -0.23438 -0.00509 -0.2533 0.0169 C -0.27222 0.03889 -0.31597 0.08519 -0.33247 0.10324 E">
                                      <p:cBhvr>
                                        <p:cTn id="873" dur="1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6" dur="1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2300"/>
                            </p:stCondLst>
                            <p:childTnLst>
                              <p:par>
                                <p:cTn id="87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163 -0.03101 C -0.21459 -0.03055 -0.21736 -0.02986 -0.22274 -0.02546 C -0.22813 -0.02106 -0.23264 -0.01898 -0.24358 -0.00509 C -0.25452 0.0088 -0.2757 0.03866 -0.28802 0.05787 C -0.30035 0.07709 -0.30886 0.09306 -0.31719 0.10973 E">
                                      <p:cBhvr>
                                        <p:cTn id="879" dur="1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1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2400"/>
                            </p:stCondLst>
                            <p:childTnLst>
                              <p:par>
                                <p:cTn id="884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049 0.09131 C -0.32274 0.09779 -0.33524 0.1253 -0.33438 0.1297 C -0.33351 0.13409 -0.32153 0.12299 -0.31545 0.11698 C -0.30938 0.11097 -0.30365 0.09918 -0.29792 0.09363 C -0.29219 0.08808 -0.2842 0.08553 -0.28056 0.08322 E">
                                      <p:cBhvr>
                                        <p:cTn id="885" dur="2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2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2600"/>
                            </p:stCondLst>
                            <p:childTnLst>
                              <p:par>
                                <p:cTn id="890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368 0.08322 C -0.2816 0.08299 -0.27344 0.07813 -0.27101 0.07952 C -0.26858 0.08091 -0.2684 0.08877 -0.26945 0.09201 C -0.27049 0.09524 -0.27431 0.09686 -0.27743 0.09848 C -0.28056 0.1001 -0.28316 0.09848 -0.28785 0.10126 C -0.29254 0.10403 -0.30226 0.11074 -0.30521 0.11536 C -0.30816 0.11998 -0.30712 0.12738 -0.30521 0.129 C -0.3033 0.13062 -0.29636 0.12553 -0.2941 0.12461 E">
                                      <p:cBhvr>
                                        <p:cTn id="891" dur="2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4" dur="2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2800"/>
                            </p:stCondLst>
                            <p:childTnLst>
                              <p:par>
                                <p:cTn id="896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393 0.14382 C -0.29045 0.14081 -0.28038 0.13342 -0.27344 0.12625 C -0.26649 0.11908 -0.25712 0.10613 -0.25278 0.10081 E">
                                      <p:cBhvr>
                                        <p:cTn id="897" dur="3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3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3100"/>
                            </p:stCondLst>
                            <p:childTnLst>
                              <p:par>
                                <p:cTn id="902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434 0.10289 C -0.24757 0.10474 -0.22257 0.11631 -0.21181 0.11561 C -0.20104 0.11492 -0.19306 0.10151 -0.18959 0.09873 E">
                                      <p:cBhvr>
                                        <p:cTn id="903" dur="1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3200"/>
                            </p:stCondLst>
                            <p:childTnLst>
                              <p:par>
                                <p:cTn id="905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584 0.08368 C -0.19722 0.08392 -0.2007 0.08623 -0.20434 0.08507 C -0.20799 0.08392 -0.21528 0.07906 -0.21806 0.07744 E">
                                      <p:cBhvr>
                                        <p:cTn id="906" dur="1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9" dur="1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3300"/>
                            </p:stCondLst>
                            <p:childTnLst>
                              <p:par>
                                <p:cTn id="911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879 0.00715 C -0.15243 0.00738 -0.16389 0.006 -0.17101 0.00923 C -0.17813 0.01247 -0.18594 0.0201 -0.19167 0.02611 C -0.1974 0.03212 -0.20243 0.03952 -0.2059 0.04507 C -0.20938 0.05062 -0.21007 0.05455 -0.21215 0.05987 C -0.21424 0.06519 -0.21684 0.07374 -0.21806 0.07744 E">
                                      <p:cBhvr>
                                        <p:cTn id="912" dur="2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5" dur="2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3500"/>
                            </p:stCondLst>
                            <p:childTnLst>
                              <p:par>
                                <p:cTn id="917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167 0.1149 C -0.18715 0.10773 -0.17396 0.08692 -0.16615 0.0742 C -0.15834 0.06149 -0.14965 0.04831 -0.14462 0.03929 C -0.13959 0.03027 -0.13524 0.02496 -0.13611 0.01964 C -0.13698 0.01432 -0.1474 0.0097 -0.15035 0.00715 E">
                                      <p:cBhvr>
                                        <p:cTn id="918" dur="2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1" dur="2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3700"/>
                            </p:stCondLst>
                            <p:childTnLst>
                              <p:par>
                                <p:cTn id="923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58 0.06241 C -0.11997 0.06611 -0.12917 0.08831 -0.12656 0.08415 C -0.12396 0.07998 -0.10886 0.04854 -0.10278 0.03698 C -0.0967 0.02542 -0.09445 0.01987 -0.08993 0.01478 C -0.08542 0.0097 -0.07656 0.00299 -0.0757 0.00646 C -0.07483 0.00993 -0.07413 0.0201 -0.08524 0.03605 C -0.09636 0.05201 -0.12518 0.08646 -0.14236 0.10264 C -0.15955 0.11883 -0.18021 0.13039 -0.18837 0.13293 C -0.19653 0.13548 -0.19097 0.12114 -0.19167 0.11813 E">
                                      <p:cBhvr>
                                        <p:cTn id="924" dur="1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7" dur="1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3800"/>
                            </p:stCondLst>
                            <p:childTnLst>
                              <p:par>
                                <p:cTn id="929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823 0.15255 C -0.16181 0.13982 -0.13507 0.09399 -0.12639 0.07848 E">
                                      <p:cBhvr>
                                        <p:cTn id="930" dur="1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1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3" dur="1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3900"/>
                            </p:stCondLst>
                            <p:childTnLst>
                              <p:par>
                                <p:cTn id="935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91 0.17037 C -0.17118 0.18033 -0.19774 0.225 -0.20938 0.23889 C -0.22101 0.25278 -0.23177 0.25255 -0.23854 0.25371 C -0.24531 0.25487 -0.24965 0.25209 -0.24965 0.2463 C -0.24965 0.24051 -0.2441 0.22662 -0.23854 0.21852 C -0.23299 0.21042 -0.22327 0.20463 -0.21632 0.19815 C -0.20938 0.19167 -0.20452 0.18403 -0.19688 0.17963 C -0.18924 0.17524 -0.16702 0.16042 -0.1691 0.17037 Z">
                                      <p:cBhvr>
                                        <p:cTn id="936" dur="1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1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4000"/>
                            </p:stCondLst>
                            <p:childTnLst>
                              <p:par>
                                <p:cTn id="941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222 0.1676 C -0.16597 0.16482 -0.1599 0.16412 -0.15417 0.16389 C -0.14844 0.16366 -0.14254 0.16366 -0.13768 0.16551 C -0.13281 0.16737 -0.12865 0.16991 -0.12518 0.17477 C -0.1217 0.17963 -0.11858 0.19098 -0.11684 0.19514 E">
                                      <p:cBhvr>
                                        <p:cTn id="942" dur="1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5" dur="1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4100"/>
                            </p:stCondLst>
                            <p:childTnLst>
                              <p:par>
                                <p:cTn id="947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545 0.19862 C -0.1184 0.1748 -0.1217 0.15029 -0.1217 0.13735 C -0.1217 0.1244 -0.11684 0.12394 -0.11545 0.12047 E">
                                      <p:cBhvr>
                                        <p:cTn id="948" dur="1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4200"/>
                            </p:stCondLst>
                            <p:childTnLst>
                              <p:par>
                                <p:cTn id="950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702 0.12278 C -0.10209 0.10868 -0.08715 0.09457 -0.08524 0.09526 C -0.08334 0.09596 -0.10174 0.11839 -0.1059 0.12694 C -0.11007 0.1355 -0.11042 0.14081 -0.11059 0.14613 E">
                                      <p:cBhvr>
                                        <p:cTn id="951" dur="1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1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4300"/>
                            </p:stCondLst>
                            <p:childTnLst>
                              <p:par>
                                <p:cTn id="956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92 0.14035 C -0.1033 0.14197 -0.0974 0.14359 -0.09184 0.14035 C -0.08629 0.13711 -0.07986 0.12671 -0.07587 0.12116 C -0.07188 0.11561 -0.0691 0.11099 -0.06806 0.10636 C -0.06702 0.10174 -0.06945 0.09365 -0.06962 0.09365 C -0.06979 0.09365 -0.06771 0.10105 -0.06962 0.10636 C -0.07153 0.11168 -0.07917 0.12232 -0.08073 0.12555 E">
                                      <p:cBhvr>
                                        <p:cTn id="957" dur="1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0" dur="1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4400"/>
                            </p:stCondLst>
                            <p:childTnLst>
                              <p:par>
                                <p:cTn id="962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88 0.09688 C -0.07726 0.11145 -0.08247 0.12602 -0.08143 0.13087 C -0.08038 0.13573 -0.0684 0.12833 -0.06545 0.12648 E">
                                      <p:cBhvr>
                                        <p:cTn id="963" dur="1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6" dur="1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4500"/>
                            </p:stCondLst>
                            <p:childTnLst>
                              <p:par>
                                <p:cTn id="96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93 0.12509 L -0.02257 0.09318 E">
                                      <p:cBhvr>
                                        <p:cTn id="969" dur="1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1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4600"/>
                            </p:stCondLst>
                            <p:childTnLst>
                              <p:par>
                                <p:cTn id="974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257 0.09318 C -0.03281 0.10266 -0.04288 0.11214 -0.04792 0.1207 C -0.05295 0.12925 -0.05243 0.14012 -0.05261 0.14405 E">
                                      <p:cBhvr>
                                        <p:cTn id="975" dur="1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1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4700"/>
                            </p:stCondLst>
                            <p:childTnLst>
                              <p:par>
                                <p:cTn id="980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39 0.14243 C -0.03941 0.13295 -0.02726 0.12347 -0.01806 0.11492 C -0.00886 0.10636 -0.00243 0.09896 0.00416 0.09157 E">
                                      <p:cBhvr>
                                        <p:cTn id="981" dur="1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4" dur="1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4800"/>
                            </p:stCondLst>
                            <p:childTnLst>
                              <p:par>
                                <p:cTn id="986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0.09526 C 0.00191 0.09989 -0.00625 0.11515 -0.01059 0.12255 C -0.01493 0.12995 -0.01945 0.13596 -0.0217 0.13943 E">
                                      <p:cBhvr>
                                        <p:cTn id="987" dur="1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0" dur="1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4900"/>
                            </p:stCondLst>
                            <p:childTnLst>
                              <p:par>
                                <p:cTn id="992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01 0.14197 C -0.01389 0.14151 -0.00799 0.1422 -0.00209 0.13781 C 0.00382 0.13342 0.01128 0.12093 0.01476 0.11631 E">
                                      <p:cBhvr>
                                        <p:cTn id="993" dur="3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6" dur="3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200"/>
                            </p:stCondLst>
                            <p:childTnLst>
                              <p:par>
                                <p:cTn id="99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88 0.11389 C 0.01632 0.16436 -0.01233 0.30487 0.00816 0.41667 C 0.02864 0.52848 0.11441 0.71181 0.14045 0.7845 C 0.16649 0.85718 0.15955 0.83889 0.16458 0.85325 E">
                                      <p:cBhvr>
                                        <p:cTn id="999" dur="1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7" descr="图片2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7"/>
          <p:cNvSpPr/>
          <p:nvPr/>
        </p:nvSpPr>
        <p:spPr>
          <a:xfrm>
            <a:off x="6724800" y="6357960"/>
            <a:ext cx="21333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微软雅黑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7"/>
          <p:cNvSpPr/>
          <p:nvPr/>
        </p:nvSpPr>
        <p:spPr>
          <a:xfrm>
            <a:off x="4630680" y="2400480"/>
            <a:ext cx="1440000" cy="1404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Staff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1397160" y="2400480"/>
            <a:ext cx="1439640" cy="1404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5"/>
          <p:cNvSpPr/>
          <p:nvPr/>
        </p:nvSpPr>
        <p:spPr>
          <a:xfrm>
            <a:off x="1389240" y="2384280"/>
            <a:ext cx="1439640" cy="1405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13920"/>
            <a:ext cx="822960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组合 1"/>
          <p:cNvGrpSpPr/>
          <p:nvPr/>
        </p:nvGrpSpPr>
        <p:grpSpPr>
          <a:xfrm>
            <a:off x="609480" y="2378160"/>
            <a:ext cx="7925040" cy="2825640"/>
            <a:chOff x="609480" y="2378160"/>
            <a:chExt cx="7925040" cy="2825640"/>
          </a:xfrm>
        </p:grpSpPr>
        <p:sp>
          <p:nvSpPr>
            <p:cNvPr id="54" name="Freeform 6"/>
            <p:cNvSpPr/>
            <p:nvPr/>
          </p:nvSpPr>
          <p:spPr>
            <a:xfrm>
              <a:off x="3015360" y="3798360"/>
              <a:ext cx="1440360" cy="1405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Fun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8"/>
            <p:cNvSpPr/>
            <p:nvPr/>
          </p:nvSpPr>
          <p:spPr>
            <a:xfrm>
              <a:off x="6351120" y="3798360"/>
              <a:ext cx="1440360" cy="1405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Ques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b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Road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4629600" y="2392560"/>
              <a:ext cx="1440360" cy="1405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000000"/>
            </a:gradFill>
            <a:ln w="12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taff 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"/>
            <p:cNvSpPr/>
            <p:nvPr/>
          </p:nvSpPr>
          <p:spPr>
            <a:xfrm>
              <a:off x="1394640" y="2378160"/>
              <a:ext cx="1440360" cy="1405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000000"/>
            </a:gradFill>
            <a:ln w="12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609480" y="3499560"/>
              <a:ext cx="7925040" cy="598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Freeform 6"/>
          <p:cNvSpPr/>
          <p:nvPr/>
        </p:nvSpPr>
        <p:spPr>
          <a:xfrm>
            <a:off x="3016080" y="3805200"/>
            <a:ext cx="1441800" cy="1405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8"/>
          <p:cNvSpPr/>
          <p:nvPr/>
        </p:nvSpPr>
        <p:spPr>
          <a:xfrm>
            <a:off x="6351480" y="3805200"/>
            <a:ext cx="1440000" cy="1405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Ab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Road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0"/>
          <p:cNvSpPr/>
          <p:nvPr/>
        </p:nvSpPr>
        <p:spPr>
          <a:xfrm>
            <a:off x="611280" y="3506760"/>
            <a:ext cx="7923240" cy="598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5"/>
          <p:cNvSpPr/>
          <p:nvPr/>
        </p:nvSpPr>
        <p:spPr>
          <a:xfrm>
            <a:off x="844560" y="1123920"/>
            <a:ext cx="3006720" cy="703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圆角矩形 4"/>
          <p:cNvSpPr/>
          <p:nvPr/>
        </p:nvSpPr>
        <p:spPr>
          <a:xfrm>
            <a:off x="398520" y="1123920"/>
            <a:ext cx="360360" cy="703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组合 19"/>
          <p:cNvGrpSpPr/>
          <p:nvPr/>
        </p:nvGrpSpPr>
        <p:grpSpPr>
          <a:xfrm>
            <a:off x="179280" y="6157800"/>
            <a:ext cx="4384800" cy="655920"/>
            <a:chOff x="179280" y="6157800"/>
            <a:chExt cx="4384800" cy="655920"/>
          </a:xfrm>
        </p:grpSpPr>
        <p:sp>
          <p:nvSpPr>
            <p:cNvPr id="65" name="Freeform 7"/>
            <p:cNvSpPr/>
            <p:nvPr/>
          </p:nvSpPr>
          <p:spPr>
            <a:xfrm>
              <a:off x="1379880" y="6157800"/>
              <a:ext cx="719640" cy="540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000000"/>
            </a:gradFill>
            <a:ln w="12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Fun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7"/>
            <p:cNvSpPr/>
            <p:nvPr/>
          </p:nvSpPr>
          <p:spPr>
            <a:xfrm>
              <a:off x="3315240" y="6157800"/>
              <a:ext cx="719640" cy="540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000000"/>
            </a:gradFill>
            <a:ln w="12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Questio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bou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Roadma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7"/>
            <p:cNvSpPr/>
            <p:nvPr/>
          </p:nvSpPr>
          <p:spPr>
            <a:xfrm>
              <a:off x="2347560" y="6157800"/>
              <a:ext cx="719640" cy="540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000000"/>
            </a:gradFill>
            <a:ln w="12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taff Numb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5"/>
            <p:cNvSpPr/>
            <p:nvPr/>
          </p:nvSpPr>
          <p:spPr>
            <a:xfrm>
              <a:off x="412560" y="6157800"/>
              <a:ext cx="719640" cy="540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000000"/>
            </a:gradFill>
            <a:ln w="1260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Organiz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0"/>
            <p:cNvSpPr/>
            <p:nvPr/>
          </p:nvSpPr>
          <p:spPr>
            <a:xfrm>
              <a:off x="179280" y="6583680"/>
              <a:ext cx="4384800" cy="230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27168E-006 L -0.1573 0.26196 E">
                                      <p:cBhvr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0 L -0.18733 -0.2125 E">
                                      <p:cBhvr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1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path" presetID="56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5E-006 1.32948E-006 L 0.08316 -0.13041 E">
                                      <p:cBhvr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6" descr="图片2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7"/>
          <p:cNvSpPr/>
          <p:nvPr/>
        </p:nvSpPr>
        <p:spPr>
          <a:xfrm>
            <a:off x="6724800" y="6357960"/>
            <a:ext cx="21333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微软雅黑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1027"/>
          <p:cNvSpPr/>
          <p:nvPr/>
        </p:nvSpPr>
        <p:spPr>
          <a:xfrm>
            <a:off x="1806480" y="5084640"/>
            <a:ext cx="2556000" cy="1800"/>
          </a:xfrm>
          <a:prstGeom prst="line">
            <a:avLst/>
          </a:prstGeom>
          <a:ln w="9360">
            <a:solidFill>
              <a:srgbClr val="636b7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60"/>
          <p:cNvSpPr/>
          <p:nvPr/>
        </p:nvSpPr>
        <p:spPr>
          <a:xfrm>
            <a:off x="1739880" y="3789360"/>
            <a:ext cx="5635800" cy="0"/>
          </a:xfrm>
          <a:prstGeom prst="line">
            <a:avLst/>
          </a:prstGeom>
          <a:ln w="9360">
            <a:solidFill>
              <a:srgbClr val="636b7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58"/>
          <p:cNvSpPr/>
          <p:nvPr/>
        </p:nvSpPr>
        <p:spPr>
          <a:xfrm>
            <a:off x="1739880" y="3139920"/>
            <a:ext cx="2622600" cy="1800"/>
          </a:xfrm>
          <a:prstGeom prst="line">
            <a:avLst/>
          </a:prstGeom>
          <a:ln w="9360">
            <a:solidFill>
              <a:srgbClr val="636b7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7"/>
          <p:cNvSpPr/>
          <p:nvPr/>
        </p:nvSpPr>
        <p:spPr>
          <a:xfrm>
            <a:off x="1380960" y="6157800"/>
            <a:ext cx="71928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7"/>
          <p:cNvSpPr/>
          <p:nvPr/>
        </p:nvSpPr>
        <p:spPr>
          <a:xfrm>
            <a:off x="3316320" y="6157800"/>
            <a:ext cx="71928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Ques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Abo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Roadma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7"/>
          <p:cNvSpPr/>
          <p:nvPr/>
        </p:nvSpPr>
        <p:spPr>
          <a:xfrm>
            <a:off x="2347920" y="6157800"/>
            <a:ext cx="71928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Staff Num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5"/>
          <p:cNvSpPr/>
          <p:nvPr/>
        </p:nvSpPr>
        <p:spPr>
          <a:xfrm>
            <a:off x="412920" y="6157800"/>
            <a:ext cx="72072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Organ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0"/>
          <p:cNvSpPr/>
          <p:nvPr/>
        </p:nvSpPr>
        <p:spPr>
          <a:xfrm>
            <a:off x="179280" y="6583320"/>
            <a:ext cx="4384800" cy="230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5"/>
          <p:cNvSpPr/>
          <p:nvPr/>
        </p:nvSpPr>
        <p:spPr>
          <a:xfrm>
            <a:off x="844560" y="1123920"/>
            <a:ext cx="3006720" cy="720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圆角矩形 4"/>
          <p:cNvSpPr/>
          <p:nvPr/>
        </p:nvSpPr>
        <p:spPr>
          <a:xfrm>
            <a:off x="398520" y="1123920"/>
            <a:ext cx="360360" cy="720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26"/>
          <p:cNvSpPr/>
          <p:nvPr/>
        </p:nvSpPr>
        <p:spPr>
          <a:xfrm>
            <a:off x="-2629080" y="2295360"/>
            <a:ext cx="2210040" cy="1800"/>
          </a:xfrm>
          <a:prstGeom prst="line">
            <a:avLst/>
          </a:prstGeom>
          <a:ln w="9360">
            <a:solidFill>
              <a:srgbClr val="636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27"/>
          <p:cNvSpPr/>
          <p:nvPr/>
        </p:nvSpPr>
        <p:spPr>
          <a:xfrm>
            <a:off x="-2651040" y="4289400"/>
            <a:ext cx="2209680" cy="0"/>
          </a:xfrm>
          <a:prstGeom prst="line">
            <a:avLst/>
          </a:prstGeom>
          <a:ln w="9360">
            <a:solidFill>
              <a:srgbClr val="636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29"/>
          <p:cNvSpPr/>
          <p:nvPr/>
        </p:nvSpPr>
        <p:spPr>
          <a:xfrm>
            <a:off x="2192400" y="-1692360"/>
            <a:ext cx="0" cy="1569960"/>
          </a:xfrm>
          <a:prstGeom prst="line">
            <a:avLst/>
          </a:prstGeom>
          <a:ln w="9360">
            <a:solidFill>
              <a:srgbClr val="636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37"/>
          <p:cNvSpPr/>
          <p:nvPr/>
        </p:nvSpPr>
        <p:spPr>
          <a:xfrm>
            <a:off x="4362480" y="-1755720"/>
            <a:ext cx="1440" cy="1571400"/>
          </a:xfrm>
          <a:prstGeom prst="line">
            <a:avLst/>
          </a:prstGeom>
          <a:ln w="9360">
            <a:solidFill>
              <a:srgbClr val="636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38"/>
          <p:cNvSpPr/>
          <p:nvPr/>
        </p:nvSpPr>
        <p:spPr>
          <a:xfrm>
            <a:off x="6535800" y="-1755720"/>
            <a:ext cx="0" cy="1571400"/>
          </a:xfrm>
          <a:prstGeom prst="line">
            <a:avLst/>
          </a:prstGeom>
          <a:ln w="9360">
            <a:solidFill>
              <a:srgbClr val="636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12920" y="2205000"/>
            <a:ext cx="1687320" cy="3745080"/>
            <a:chOff x="412920" y="2205000"/>
            <a:chExt cx="1687320" cy="3745080"/>
          </a:xfrm>
        </p:grpSpPr>
        <p:sp>
          <p:nvSpPr>
            <p:cNvPr id="88" name=""/>
            <p:cNvSpPr/>
            <p:nvPr/>
          </p:nvSpPr>
          <p:spPr>
            <a:xfrm>
              <a:off x="412920" y="2205000"/>
              <a:ext cx="1687320" cy="51660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 w="25560">
              <a:solidFill>
                <a:srgbClr val="f24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37400" y="2220120"/>
              <a:ext cx="163800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20160" bIns="201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 Manag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1400" y="2721600"/>
              <a:ext cx="168480" cy="387360"/>
            </a:xfrm>
            <a:custGeom>
              <a:avLst/>
              <a:gdLst>
                <a:gd name="textAreaLeft" fmla="*/ 0 w 168480"/>
                <a:gd name="textAreaRight" fmla="*/ 168480 w 16848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103142" h="386786">
                  <a:moveTo>
                    <a:pt x="0" y="0"/>
                  </a:moveTo>
                  <a:lnTo>
                    <a:pt x="0" y="386786"/>
                  </a:lnTo>
                  <a:lnTo>
                    <a:pt x="103142" y="386786"/>
                  </a:lnTo>
                </a:path>
              </a:pathLst>
            </a:custGeom>
            <a:noFill/>
            <a:ln w="25560">
              <a:solidFill>
                <a:srgbClr val="f24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240" y="2850480"/>
              <a:ext cx="1350000" cy="5166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24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75080" y="2865600"/>
              <a:ext cx="130068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12600" bIns="126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ary Administra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1400" y="2721600"/>
              <a:ext cx="168480" cy="1033200"/>
            </a:xfrm>
            <a:custGeom>
              <a:avLst/>
              <a:gdLst>
                <a:gd name="textAreaLeft" fmla="*/ 0 w 168480"/>
                <a:gd name="textAreaRight" fmla="*/ 168480 w 168480"/>
                <a:gd name="textAreaTop" fmla="*/ 0 h 1033200"/>
                <a:gd name="textAreaBottom" fmla="*/ 1033560 h 1033200"/>
              </a:gdLst>
              <a:ahLst/>
              <a:rect l="textAreaLeft" t="textAreaTop" r="textAreaRight" b="textAreaBottom"/>
              <a:pathLst>
                <a:path w="103142" h="1031429">
                  <a:moveTo>
                    <a:pt x="0" y="0"/>
                  </a:moveTo>
                  <a:lnTo>
                    <a:pt x="0" y="1031429"/>
                  </a:lnTo>
                  <a:lnTo>
                    <a:pt x="103142" y="1031429"/>
                  </a:lnTo>
                </a:path>
              </a:pathLst>
            </a:custGeom>
            <a:noFill/>
            <a:ln w="25560">
              <a:solidFill>
                <a:srgbClr val="f24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0240" y="3496320"/>
              <a:ext cx="1350000" cy="5166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24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75080" y="3511440"/>
              <a:ext cx="130068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12600" bIns="126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ruitment Administra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1400" y="2721600"/>
              <a:ext cx="168480" cy="1678680"/>
            </a:xfrm>
            <a:custGeom>
              <a:avLst/>
              <a:gdLst>
                <a:gd name="textAreaLeft" fmla="*/ 0 w 168480"/>
                <a:gd name="textAreaRight" fmla="*/ 168480 w 168480"/>
                <a:gd name="textAreaTop" fmla="*/ 0 h 1678680"/>
                <a:gd name="textAreaBottom" fmla="*/ 1679040 h 1678680"/>
              </a:gdLst>
              <a:ahLst/>
              <a:rect l="textAreaLeft" t="textAreaTop" r="textAreaRight" b="textAreaBottom"/>
              <a:pathLst>
                <a:path w="103142" h="1676073">
                  <a:moveTo>
                    <a:pt x="0" y="0"/>
                  </a:moveTo>
                  <a:lnTo>
                    <a:pt x="0" y="1676073"/>
                  </a:lnTo>
                  <a:lnTo>
                    <a:pt x="103142" y="1676073"/>
                  </a:lnTo>
                </a:path>
              </a:pathLst>
            </a:custGeom>
            <a:noFill/>
            <a:ln w="25560">
              <a:solidFill>
                <a:srgbClr val="f24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0240" y="4142160"/>
              <a:ext cx="1350000" cy="5166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24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75080" y="4157280"/>
              <a:ext cx="130068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12600" bIns="126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ining Supervis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1400" y="2721600"/>
              <a:ext cx="168480" cy="2324520"/>
            </a:xfrm>
            <a:custGeom>
              <a:avLst/>
              <a:gdLst>
                <a:gd name="textAreaLeft" fmla="*/ 0 w 168480"/>
                <a:gd name="textAreaRight" fmla="*/ 168480 w 168480"/>
                <a:gd name="textAreaTop" fmla="*/ 0 h 2324520"/>
                <a:gd name="textAreaBottom" fmla="*/ 2324880 h 2324520"/>
              </a:gdLst>
              <a:ahLst/>
              <a:rect l="textAreaLeft" t="textAreaTop" r="textAreaRight" b="textAreaBottom"/>
              <a:pathLst>
                <a:path w="103142" h="2320716">
                  <a:moveTo>
                    <a:pt x="0" y="0"/>
                  </a:moveTo>
                  <a:lnTo>
                    <a:pt x="0" y="2320716"/>
                  </a:lnTo>
                  <a:lnTo>
                    <a:pt x="103142" y="2320716"/>
                  </a:lnTo>
                </a:path>
              </a:pathLst>
            </a:custGeom>
            <a:noFill/>
            <a:ln w="25560">
              <a:solidFill>
                <a:srgbClr val="f24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50240" y="4788000"/>
              <a:ext cx="1350000" cy="5166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24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5080" y="4803120"/>
              <a:ext cx="130068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12600" bIns="126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sonnel Administra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81400" y="2721600"/>
              <a:ext cx="168480" cy="2970360"/>
            </a:xfrm>
            <a:custGeom>
              <a:avLst/>
              <a:gdLst>
                <a:gd name="textAreaLeft" fmla="*/ 0 w 168480"/>
                <a:gd name="textAreaRight" fmla="*/ 168480 w 168480"/>
                <a:gd name="textAreaTop" fmla="*/ 0 h 2970360"/>
                <a:gd name="textAreaBottom" fmla="*/ 2970720 h 2970360"/>
              </a:gdLst>
              <a:ahLst/>
              <a:rect l="textAreaLeft" t="textAreaTop" r="textAreaRight" b="textAreaBottom"/>
              <a:pathLst>
                <a:path w="103142" h="2965360">
                  <a:moveTo>
                    <a:pt x="0" y="0"/>
                  </a:moveTo>
                  <a:lnTo>
                    <a:pt x="0" y="2965360"/>
                  </a:lnTo>
                  <a:lnTo>
                    <a:pt x="103142" y="2965360"/>
                  </a:lnTo>
                </a:path>
              </a:pathLst>
            </a:custGeom>
            <a:noFill/>
            <a:ln w="25560">
              <a:solidFill>
                <a:srgbClr val="f24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0240" y="5433480"/>
              <a:ext cx="1350000" cy="5166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24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75080" y="5448600"/>
              <a:ext cx="130068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sista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图片 42" descr=""/>
          <p:cNvPicPr/>
          <p:nvPr/>
        </p:nvPicPr>
        <p:blipFill>
          <a:blip r:embed="rId2"/>
          <a:stretch/>
        </p:blipFill>
        <p:spPr>
          <a:xfrm>
            <a:off x="6535800" y="2481120"/>
            <a:ext cx="1679400" cy="944640"/>
          </a:xfrm>
          <a:prstGeom prst="rect">
            <a:avLst/>
          </a:prstGeom>
          <a:ln w="19080">
            <a:solidFill>
              <a:srgbClr val="636b70"/>
            </a:solidFill>
            <a:miter/>
          </a:ln>
        </p:spPr>
      </p:pic>
      <p:pic>
        <p:nvPicPr>
          <p:cNvPr id="106" name="图片 43" descr=""/>
          <p:cNvPicPr/>
          <p:nvPr/>
        </p:nvPicPr>
        <p:blipFill>
          <a:blip r:embed="rId3"/>
          <a:stretch/>
        </p:blipFill>
        <p:spPr>
          <a:xfrm>
            <a:off x="2195640" y="2481120"/>
            <a:ext cx="1681200" cy="944640"/>
          </a:xfrm>
          <a:prstGeom prst="rect">
            <a:avLst/>
          </a:prstGeom>
          <a:ln w="19080">
            <a:solidFill>
              <a:srgbClr val="636b70"/>
            </a:solidFill>
            <a:miter/>
          </a:ln>
        </p:spPr>
      </p:pic>
      <p:pic>
        <p:nvPicPr>
          <p:cNvPr id="107" name="图片 46" descr=""/>
          <p:cNvPicPr/>
          <p:nvPr/>
        </p:nvPicPr>
        <p:blipFill>
          <a:blip r:embed="rId4"/>
          <a:stretch/>
        </p:blipFill>
        <p:spPr>
          <a:xfrm>
            <a:off x="4362480" y="2481120"/>
            <a:ext cx="1681200" cy="944640"/>
          </a:xfrm>
          <a:prstGeom prst="rect">
            <a:avLst/>
          </a:prstGeom>
          <a:ln w="19080">
            <a:solidFill>
              <a:srgbClr val="636b70"/>
            </a:solidFill>
            <a:miter/>
          </a:ln>
        </p:spPr>
      </p:pic>
      <p:sp>
        <p:nvSpPr>
          <p:cNvPr id="108" name="直接连接符 47"/>
          <p:cNvSpPr/>
          <p:nvPr/>
        </p:nvSpPr>
        <p:spPr>
          <a:xfrm>
            <a:off x="-2638440" y="3613320"/>
            <a:ext cx="2208240" cy="0"/>
          </a:xfrm>
          <a:prstGeom prst="line">
            <a:avLst/>
          </a:prstGeom>
          <a:ln w="9360">
            <a:solidFill>
              <a:srgbClr val="636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48"/>
          <p:cNvSpPr/>
          <p:nvPr/>
        </p:nvSpPr>
        <p:spPr>
          <a:xfrm>
            <a:off x="-2629080" y="5589720"/>
            <a:ext cx="2210040" cy="0"/>
          </a:xfrm>
          <a:prstGeom prst="line">
            <a:avLst/>
          </a:prstGeom>
          <a:ln w="9360">
            <a:solidFill>
              <a:srgbClr val="636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49"/>
          <p:cNvSpPr/>
          <p:nvPr/>
        </p:nvSpPr>
        <p:spPr>
          <a:xfrm>
            <a:off x="3871800" y="-1749600"/>
            <a:ext cx="1800" cy="1570320"/>
          </a:xfrm>
          <a:prstGeom prst="line">
            <a:avLst/>
          </a:prstGeom>
          <a:ln w="9360">
            <a:solidFill>
              <a:srgbClr val="636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50"/>
          <p:cNvSpPr/>
          <p:nvPr/>
        </p:nvSpPr>
        <p:spPr>
          <a:xfrm>
            <a:off x="6041880" y="-1812960"/>
            <a:ext cx="1800" cy="1571760"/>
          </a:xfrm>
          <a:prstGeom prst="line">
            <a:avLst/>
          </a:prstGeom>
          <a:ln w="9360">
            <a:solidFill>
              <a:srgbClr val="636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51"/>
          <p:cNvSpPr/>
          <p:nvPr/>
        </p:nvSpPr>
        <p:spPr>
          <a:xfrm>
            <a:off x="8215200" y="-1812960"/>
            <a:ext cx="0" cy="1571760"/>
          </a:xfrm>
          <a:prstGeom prst="line">
            <a:avLst/>
          </a:prstGeom>
          <a:ln w="9360">
            <a:solidFill>
              <a:srgbClr val="636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53"/>
          <p:cNvSpPr/>
          <p:nvPr/>
        </p:nvSpPr>
        <p:spPr>
          <a:xfrm>
            <a:off x="1806480" y="2492280"/>
            <a:ext cx="357120" cy="1800"/>
          </a:xfrm>
          <a:prstGeom prst="line">
            <a:avLst/>
          </a:prstGeom>
          <a:ln w="9360">
            <a:solidFill>
              <a:srgbClr val="636b7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62"/>
          <p:cNvSpPr/>
          <p:nvPr/>
        </p:nvSpPr>
        <p:spPr>
          <a:xfrm>
            <a:off x="1806480" y="4437000"/>
            <a:ext cx="357120" cy="1800"/>
          </a:xfrm>
          <a:prstGeom prst="line">
            <a:avLst/>
          </a:prstGeom>
          <a:ln w="9360">
            <a:solidFill>
              <a:srgbClr val="636b7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1029"/>
          <p:cNvSpPr/>
          <p:nvPr/>
        </p:nvSpPr>
        <p:spPr>
          <a:xfrm>
            <a:off x="1778040" y="5734080"/>
            <a:ext cx="5635440" cy="0"/>
          </a:xfrm>
          <a:prstGeom prst="line">
            <a:avLst/>
          </a:prstGeom>
          <a:ln w="9360">
            <a:solidFill>
              <a:srgbClr val="636b7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1031"/>
          <p:cNvSpPr/>
          <p:nvPr/>
        </p:nvSpPr>
        <p:spPr>
          <a:xfrm flipV="1">
            <a:off x="7375680" y="3584160"/>
            <a:ext cx="0" cy="204840"/>
          </a:xfrm>
          <a:prstGeom prst="line">
            <a:avLst/>
          </a:prstGeom>
          <a:ln w="9360">
            <a:solidFill>
              <a:srgbClr val="636b7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72"/>
          <p:cNvSpPr/>
          <p:nvPr/>
        </p:nvSpPr>
        <p:spPr>
          <a:xfrm flipV="1">
            <a:off x="7413480" y="5517720"/>
            <a:ext cx="0" cy="204840"/>
          </a:xfrm>
          <a:prstGeom prst="line">
            <a:avLst/>
          </a:prstGeom>
          <a:ln w="9360">
            <a:solidFill>
              <a:srgbClr val="636b7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9280" y="-126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5"/>
          <a:stretch/>
        </p:blipFill>
        <p:spPr>
          <a:xfrm>
            <a:off x="6535800" y="4465800"/>
            <a:ext cx="1679400" cy="944280"/>
          </a:xfrm>
          <a:prstGeom prst="rect">
            <a:avLst/>
          </a:prstGeom>
          <a:ln w="19080">
            <a:solidFill>
              <a:srgbClr val="636b70"/>
            </a:solidFill>
            <a:miter/>
          </a:ln>
        </p:spPr>
      </p:pic>
      <p:pic>
        <p:nvPicPr>
          <p:cNvPr id="120" name="Picture 3" descr=""/>
          <p:cNvPicPr/>
          <p:nvPr/>
        </p:nvPicPr>
        <p:blipFill>
          <a:blip r:embed="rId6"/>
          <a:stretch/>
        </p:blipFill>
        <p:spPr>
          <a:xfrm>
            <a:off x="4365720" y="4465800"/>
            <a:ext cx="1679400" cy="944280"/>
          </a:xfrm>
          <a:prstGeom prst="rect">
            <a:avLst/>
          </a:prstGeom>
          <a:ln w="19080">
            <a:solidFill>
              <a:srgbClr val="636b70"/>
            </a:solidFill>
            <a:miter/>
          </a:ln>
        </p:spPr>
      </p:pic>
      <p:pic>
        <p:nvPicPr>
          <p:cNvPr id="121" name="图片 41" descr=""/>
          <p:cNvPicPr/>
          <p:nvPr/>
        </p:nvPicPr>
        <p:blipFill>
          <a:blip r:embed="rId7"/>
          <a:stretch/>
        </p:blipFill>
        <p:spPr>
          <a:xfrm>
            <a:off x="2195640" y="4465800"/>
            <a:ext cx="1681200" cy="944280"/>
          </a:xfrm>
          <a:prstGeom prst="rect">
            <a:avLst/>
          </a:prstGeom>
          <a:ln w="19080">
            <a:solidFill>
              <a:srgbClr val="636b70"/>
            </a:solidFill>
            <a:miter/>
          </a:ln>
        </p:spPr>
      </p:pic>
      <p:sp>
        <p:nvSpPr>
          <p:cNvPr id="122" name="椭圆 1033"/>
          <p:cNvSpPr/>
          <p:nvPr/>
        </p:nvSpPr>
        <p:spPr>
          <a:xfrm>
            <a:off x="7289640" y="3529080"/>
            <a:ext cx="162000" cy="163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75"/>
          <p:cNvSpPr/>
          <p:nvPr/>
        </p:nvSpPr>
        <p:spPr>
          <a:xfrm>
            <a:off x="2108160" y="2411280"/>
            <a:ext cx="163440" cy="163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76"/>
          <p:cNvSpPr/>
          <p:nvPr/>
        </p:nvSpPr>
        <p:spPr>
          <a:xfrm>
            <a:off x="4282920" y="3059280"/>
            <a:ext cx="163800" cy="163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77"/>
          <p:cNvSpPr/>
          <p:nvPr/>
        </p:nvSpPr>
        <p:spPr>
          <a:xfrm>
            <a:off x="7342200" y="5492880"/>
            <a:ext cx="163440" cy="163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78"/>
          <p:cNvSpPr/>
          <p:nvPr/>
        </p:nvSpPr>
        <p:spPr>
          <a:xfrm>
            <a:off x="2104920" y="4365720"/>
            <a:ext cx="162000" cy="16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79"/>
          <p:cNvSpPr/>
          <p:nvPr/>
        </p:nvSpPr>
        <p:spPr>
          <a:xfrm>
            <a:off x="4268880" y="4994280"/>
            <a:ext cx="163440" cy="163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2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"/>
                            </p:stCondLst>
                            <p:childTnLst>
                              <p:par>
                                <p:cTn id="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2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2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2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2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2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2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2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2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1.46997 -3.33333E-006 E">
                                      <p:cBhvr>
                                        <p:cTn id="118" dur="15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path" presetID="63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5.55556E-007 7.40741E-007 L 1.46823 7.40741E-007 E">
                                      <p:cBhvr>
                                        <p:cTn id="120" dur="15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05556E-006 -4.07407E-006 L 3.05556E-006 1.35672 E">
                                      <p:cBhvr>
                                        <p:cTn id="122" dur="15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3.33333E-006 -4.81481E-006 L -0.00069 1.36598 E">
                                      <p:cBhvr>
                                        <p:cTn id="124" dur="15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05556E-006 -4.81481E-006 L 3.05556E-006 1.36598 E">
                                      <p:cBhvr>
                                        <p:cTn id="126" dur="15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-3.33333E-006 L 1.46997 -3.33333E-006 E">
                                      <p:cBhvr>
                                        <p:cTn id="128" dur="15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path" presetID="63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5.55556E-007 7.40741E-007 L 1.46823 7.40741E-007 E">
                                      <p:cBhvr>
                                        <p:cTn id="130" dur="15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3.05556E-006 -4.07407E-006 L 3.05556E-006 1.35672 E">
                                      <p:cBhvr>
                                        <p:cTn id="132" dur="15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path" presetID="42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3.33333E-006 -4.81481E-006 L -0.00069 1.36598 E">
                                      <p:cBhvr>
                                        <p:cTn id="134" dur="15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3.05556E-006 -4.81481E-006 L 3.05556E-006 1.36598 E">
                                      <p:cBhvr>
                                        <p:cTn id="136" dur="15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2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2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0" repeatCount="2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2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0" repeatCount="200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2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0" repeatCount="200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2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10" repeatCount="200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2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0" repeatCount="200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2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10" repeatCount="2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2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6" descr="图片2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7"/>
          <p:cNvSpPr/>
          <p:nvPr/>
        </p:nvSpPr>
        <p:spPr>
          <a:xfrm>
            <a:off x="6724800" y="6357960"/>
            <a:ext cx="21333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微软雅黑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5"/>
          <p:cNvSpPr/>
          <p:nvPr/>
        </p:nvSpPr>
        <p:spPr>
          <a:xfrm>
            <a:off x="412920" y="6157800"/>
            <a:ext cx="72072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Organ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7"/>
          <p:cNvSpPr/>
          <p:nvPr/>
        </p:nvSpPr>
        <p:spPr>
          <a:xfrm>
            <a:off x="1374840" y="6149880"/>
            <a:ext cx="71892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7"/>
          <p:cNvSpPr/>
          <p:nvPr/>
        </p:nvSpPr>
        <p:spPr>
          <a:xfrm>
            <a:off x="1374840" y="6149880"/>
            <a:ext cx="71892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7"/>
          <p:cNvSpPr/>
          <p:nvPr/>
        </p:nvSpPr>
        <p:spPr>
          <a:xfrm>
            <a:off x="3316320" y="6157800"/>
            <a:ext cx="71928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Ques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Abo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Roadma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7"/>
          <p:cNvSpPr/>
          <p:nvPr/>
        </p:nvSpPr>
        <p:spPr>
          <a:xfrm>
            <a:off x="2347920" y="6157800"/>
            <a:ext cx="71928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Staff Num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5"/>
          <p:cNvSpPr/>
          <p:nvPr/>
        </p:nvSpPr>
        <p:spPr>
          <a:xfrm>
            <a:off x="412920" y="6157800"/>
            <a:ext cx="72072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Organ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10"/>
          <p:cNvSpPr/>
          <p:nvPr/>
        </p:nvSpPr>
        <p:spPr>
          <a:xfrm>
            <a:off x="179280" y="6583320"/>
            <a:ext cx="4384800" cy="230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5"/>
          <p:cNvSpPr/>
          <p:nvPr/>
        </p:nvSpPr>
        <p:spPr>
          <a:xfrm>
            <a:off x="844560" y="1123920"/>
            <a:ext cx="3006720" cy="720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圆角矩形 4"/>
          <p:cNvSpPr/>
          <p:nvPr/>
        </p:nvSpPr>
        <p:spPr>
          <a:xfrm>
            <a:off x="398520" y="1123920"/>
            <a:ext cx="360360" cy="720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12920" y="-146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陈小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6"/>
          <p:cNvSpPr/>
          <p:nvPr/>
        </p:nvSpPr>
        <p:spPr>
          <a:xfrm>
            <a:off x="743040" y="1773360"/>
            <a:ext cx="6350040" cy="3980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Ms. 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Join Time:19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Responsibil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. Employees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. Overtime w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. Performance w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4. Housing f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5. Income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6. Annual bo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15" descr=""/>
          <p:cNvPicPr/>
          <p:nvPr/>
        </p:nvPicPr>
        <p:blipFill>
          <a:blip r:embed="rId2"/>
          <a:stretch/>
        </p:blipFill>
        <p:spPr>
          <a:xfrm>
            <a:off x="5435640" y="2133720"/>
            <a:ext cx="3073320" cy="1726920"/>
          </a:xfrm>
          <a:prstGeom prst="rect">
            <a:avLst/>
          </a:prstGeom>
          <a:ln w="19080">
            <a:solidFill>
              <a:srgbClr val="636b70"/>
            </a:solidFill>
            <a:miter/>
          </a:ln>
        </p:spPr>
      </p:pic>
      <p:sp>
        <p:nvSpPr>
          <p:cNvPr id="142" name="矩形 17"/>
          <p:cNvSpPr/>
          <p:nvPr/>
        </p:nvSpPr>
        <p:spPr>
          <a:xfrm>
            <a:off x="5014800" y="4292640"/>
            <a:ext cx="3914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ages and Benefits Administ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3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-0.19167 -0.01042 E">
                                      <p:cBhvr>
                                        <p:cTn id="243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6" descr="图片2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7"/>
          <p:cNvSpPr/>
          <p:nvPr/>
        </p:nvSpPr>
        <p:spPr>
          <a:xfrm>
            <a:off x="6724800" y="6357960"/>
            <a:ext cx="21333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微软雅黑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5"/>
          <p:cNvSpPr/>
          <p:nvPr/>
        </p:nvSpPr>
        <p:spPr>
          <a:xfrm>
            <a:off x="412920" y="6157800"/>
            <a:ext cx="72072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Organ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7"/>
          <p:cNvSpPr/>
          <p:nvPr/>
        </p:nvSpPr>
        <p:spPr>
          <a:xfrm>
            <a:off x="1374840" y="6149880"/>
            <a:ext cx="71892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7"/>
          <p:cNvSpPr/>
          <p:nvPr/>
        </p:nvSpPr>
        <p:spPr>
          <a:xfrm>
            <a:off x="1374840" y="6149880"/>
            <a:ext cx="71892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7"/>
          <p:cNvSpPr/>
          <p:nvPr/>
        </p:nvSpPr>
        <p:spPr>
          <a:xfrm>
            <a:off x="3316320" y="6157800"/>
            <a:ext cx="71928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Ques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Abo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Roadma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7"/>
          <p:cNvSpPr/>
          <p:nvPr/>
        </p:nvSpPr>
        <p:spPr>
          <a:xfrm>
            <a:off x="2347920" y="6157800"/>
            <a:ext cx="71928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Staff Num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5"/>
          <p:cNvSpPr/>
          <p:nvPr/>
        </p:nvSpPr>
        <p:spPr>
          <a:xfrm>
            <a:off x="412920" y="6157800"/>
            <a:ext cx="72072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Organ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0"/>
          <p:cNvSpPr/>
          <p:nvPr/>
        </p:nvSpPr>
        <p:spPr>
          <a:xfrm>
            <a:off x="179280" y="6583320"/>
            <a:ext cx="4384800" cy="230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5"/>
          <p:cNvSpPr/>
          <p:nvPr/>
        </p:nvSpPr>
        <p:spPr>
          <a:xfrm>
            <a:off x="844560" y="1123920"/>
            <a:ext cx="3006720" cy="720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圆角矩形 4"/>
          <p:cNvSpPr/>
          <p:nvPr/>
        </p:nvSpPr>
        <p:spPr>
          <a:xfrm>
            <a:off x="398520" y="1123920"/>
            <a:ext cx="360360" cy="720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2920" y="-146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张黎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6"/>
          <p:cNvSpPr/>
          <p:nvPr/>
        </p:nvSpPr>
        <p:spPr>
          <a:xfrm>
            <a:off x="743040" y="1917720"/>
            <a:ext cx="6350040" cy="3385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Ms. 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Join Time: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ntroduc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. Recruitment 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. Internal/external recrui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. Recruitment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4. M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opin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图片 18" descr=""/>
          <p:cNvPicPr/>
          <p:nvPr/>
        </p:nvPicPr>
        <p:blipFill>
          <a:blip r:embed="rId2"/>
          <a:stretch/>
        </p:blipFill>
        <p:spPr>
          <a:xfrm>
            <a:off x="5435640" y="2133720"/>
            <a:ext cx="3073320" cy="1726920"/>
          </a:xfrm>
          <a:prstGeom prst="rect">
            <a:avLst/>
          </a:prstGeom>
          <a:ln w="19080">
            <a:solidFill>
              <a:srgbClr val="636b70"/>
            </a:solidFill>
            <a:miter/>
          </a:ln>
        </p:spPr>
      </p:pic>
      <p:sp>
        <p:nvSpPr>
          <p:cNvPr id="157" name="矩形 17"/>
          <p:cNvSpPr/>
          <p:nvPr/>
        </p:nvSpPr>
        <p:spPr>
          <a:xfrm>
            <a:off x="5434920" y="4292640"/>
            <a:ext cx="3074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Recruitment Administ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3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6" descr="图片2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7"/>
          <p:cNvSpPr/>
          <p:nvPr/>
        </p:nvSpPr>
        <p:spPr>
          <a:xfrm>
            <a:off x="6724800" y="6357960"/>
            <a:ext cx="21333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微软雅黑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5"/>
          <p:cNvSpPr/>
          <p:nvPr/>
        </p:nvSpPr>
        <p:spPr>
          <a:xfrm>
            <a:off x="412920" y="6157800"/>
            <a:ext cx="72072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Organ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7"/>
          <p:cNvSpPr/>
          <p:nvPr/>
        </p:nvSpPr>
        <p:spPr>
          <a:xfrm>
            <a:off x="1374840" y="6149880"/>
            <a:ext cx="71892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7"/>
          <p:cNvSpPr/>
          <p:nvPr/>
        </p:nvSpPr>
        <p:spPr>
          <a:xfrm>
            <a:off x="1374840" y="6149880"/>
            <a:ext cx="71892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7"/>
          <p:cNvSpPr/>
          <p:nvPr/>
        </p:nvSpPr>
        <p:spPr>
          <a:xfrm>
            <a:off x="3316320" y="6157800"/>
            <a:ext cx="71928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Ques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Abo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Roadma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7"/>
          <p:cNvSpPr/>
          <p:nvPr/>
        </p:nvSpPr>
        <p:spPr>
          <a:xfrm>
            <a:off x="2347920" y="6157800"/>
            <a:ext cx="71928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Staff Num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5"/>
          <p:cNvSpPr/>
          <p:nvPr/>
        </p:nvSpPr>
        <p:spPr>
          <a:xfrm>
            <a:off x="412920" y="6157800"/>
            <a:ext cx="72072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Organ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10"/>
          <p:cNvSpPr/>
          <p:nvPr/>
        </p:nvSpPr>
        <p:spPr>
          <a:xfrm>
            <a:off x="179280" y="6583320"/>
            <a:ext cx="4384800" cy="230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图片 11" descr=""/>
          <p:cNvPicPr/>
          <p:nvPr/>
        </p:nvPicPr>
        <p:blipFill>
          <a:blip r:embed="rId2"/>
          <a:stretch/>
        </p:blipFill>
        <p:spPr>
          <a:xfrm>
            <a:off x="5435640" y="2133720"/>
            <a:ext cx="3073320" cy="1726920"/>
          </a:xfrm>
          <a:prstGeom prst="rect">
            <a:avLst/>
          </a:prstGeom>
          <a:ln w="19080">
            <a:solidFill>
              <a:srgbClr val="636b70"/>
            </a:solidFill>
            <a:miter/>
          </a:ln>
        </p:spPr>
      </p:pic>
      <p:sp>
        <p:nvSpPr>
          <p:cNvPr id="168" name="Freeform 5"/>
          <p:cNvSpPr/>
          <p:nvPr/>
        </p:nvSpPr>
        <p:spPr>
          <a:xfrm>
            <a:off x="844560" y="1123920"/>
            <a:ext cx="3006720" cy="720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圆角矩形 4"/>
          <p:cNvSpPr/>
          <p:nvPr/>
        </p:nvSpPr>
        <p:spPr>
          <a:xfrm>
            <a:off x="398520" y="1123920"/>
            <a:ext cx="360360" cy="720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-146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张一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6"/>
          <p:cNvSpPr/>
          <p:nvPr/>
        </p:nvSpPr>
        <p:spPr>
          <a:xfrm>
            <a:off x="743040" y="2189160"/>
            <a:ext cx="6350040" cy="3796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Mr. 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Join Time: Marc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Responsibil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. Training needs analy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. Training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. Purchase the Courses and Organize th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4. Training evalu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5. Internal trainer of Karl M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7"/>
          <p:cNvSpPr/>
          <p:nvPr/>
        </p:nvSpPr>
        <p:spPr>
          <a:xfrm>
            <a:off x="5812560" y="4292640"/>
            <a:ext cx="2341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raining Superv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79191E-006 L -0.51441 0.32509 E">
                                      <p:cBhvr>
                                        <p:cTn id="275" dur="5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3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1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图片 6" descr="图片2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7"/>
          <p:cNvSpPr/>
          <p:nvPr/>
        </p:nvSpPr>
        <p:spPr>
          <a:xfrm>
            <a:off x="6724800" y="6357960"/>
            <a:ext cx="21333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微软雅黑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5"/>
          <p:cNvSpPr/>
          <p:nvPr/>
        </p:nvSpPr>
        <p:spPr>
          <a:xfrm>
            <a:off x="412920" y="6157800"/>
            <a:ext cx="72072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Organ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7"/>
          <p:cNvSpPr/>
          <p:nvPr/>
        </p:nvSpPr>
        <p:spPr>
          <a:xfrm>
            <a:off x="1374840" y="6149880"/>
            <a:ext cx="71892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7"/>
          <p:cNvSpPr/>
          <p:nvPr/>
        </p:nvSpPr>
        <p:spPr>
          <a:xfrm>
            <a:off x="1374840" y="6149880"/>
            <a:ext cx="71892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7"/>
          <p:cNvSpPr/>
          <p:nvPr/>
        </p:nvSpPr>
        <p:spPr>
          <a:xfrm>
            <a:off x="3316320" y="6157800"/>
            <a:ext cx="71928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Ques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Abo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Roadma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7"/>
          <p:cNvSpPr/>
          <p:nvPr/>
        </p:nvSpPr>
        <p:spPr>
          <a:xfrm>
            <a:off x="2347920" y="6157800"/>
            <a:ext cx="71928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Staff Num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5"/>
          <p:cNvSpPr/>
          <p:nvPr/>
        </p:nvSpPr>
        <p:spPr>
          <a:xfrm>
            <a:off x="412920" y="6157800"/>
            <a:ext cx="72072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Organ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10"/>
          <p:cNvSpPr/>
          <p:nvPr/>
        </p:nvSpPr>
        <p:spPr>
          <a:xfrm>
            <a:off x="179280" y="6583320"/>
            <a:ext cx="4384800" cy="230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5"/>
          <p:cNvSpPr/>
          <p:nvPr/>
        </p:nvSpPr>
        <p:spPr>
          <a:xfrm>
            <a:off x="844560" y="1123920"/>
            <a:ext cx="3006720" cy="720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圆角矩形 4"/>
          <p:cNvSpPr/>
          <p:nvPr/>
        </p:nvSpPr>
        <p:spPr>
          <a:xfrm>
            <a:off x="398520" y="1123920"/>
            <a:ext cx="360360" cy="720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-146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郑苗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6"/>
          <p:cNvSpPr/>
          <p:nvPr/>
        </p:nvSpPr>
        <p:spPr>
          <a:xfrm>
            <a:off x="743040" y="2162160"/>
            <a:ext cx="6350040" cy="3796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Ms. 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Join Time: August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Responsibil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. New employees’ enroll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. Social in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. Labor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4. SAP-HR maste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5. Employees’ reshuff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2"/>
          <a:stretch/>
        </p:blipFill>
        <p:spPr>
          <a:xfrm>
            <a:off x="5435640" y="2133720"/>
            <a:ext cx="3073320" cy="1726920"/>
          </a:xfrm>
          <a:prstGeom prst="rect">
            <a:avLst/>
          </a:prstGeom>
          <a:ln w="19080">
            <a:solidFill>
              <a:srgbClr val="636b70"/>
            </a:solidFill>
            <a:miter/>
          </a:ln>
        </p:spPr>
      </p:pic>
      <p:sp>
        <p:nvSpPr>
          <p:cNvPr id="187" name="矩形 17"/>
          <p:cNvSpPr/>
          <p:nvPr/>
        </p:nvSpPr>
        <p:spPr>
          <a:xfrm>
            <a:off x="5645880" y="4292640"/>
            <a:ext cx="2847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Personnel Administ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8"/>
          <p:cNvSpPr/>
          <p:nvPr/>
        </p:nvSpPr>
        <p:spPr>
          <a:xfrm>
            <a:off x="3000600" y="8267760"/>
            <a:ext cx="32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</a:rPr>
              <a:t>www.51pptmoban.co 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3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96296E-006 L -0.19167 0.29398 E">
                                      <p:cBhvr>
                                        <p:cTn id="310" dur="5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图片 6" descr="图片2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7"/>
          <p:cNvSpPr/>
          <p:nvPr/>
        </p:nvSpPr>
        <p:spPr>
          <a:xfrm>
            <a:off x="6724800" y="6357960"/>
            <a:ext cx="21333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微软雅黑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5"/>
          <p:cNvSpPr/>
          <p:nvPr/>
        </p:nvSpPr>
        <p:spPr>
          <a:xfrm>
            <a:off x="412920" y="6157800"/>
            <a:ext cx="72072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Organ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7"/>
          <p:cNvSpPr/>
          <p:nvPr/>
        </p:nvSpPr>
        <p:spPr>
          <a:xfrm>
            <a:off x="1374840" y="6149880"/>
            <a:ext cx="71892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7"/>
          <p:cNvSpPr/>
          <p:nvPr/>
        </p:nvSpPr>
        <p:spPr>
          <a:xfrm>
            <a:off x="1374840" y="6149880"/>
            <a:ext cx="71892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7"/>
          <p:cNvSpPr/>
          <p:nvPr/>
        </p:nvSpPr>
        <p:spPr>
          <a:xfrm>
            <a:off x="3316320" y="6157800"/>
            <a:ext cx="71928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Ques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Abo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Roadma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7"/>
          <p:cNvSpPr/>
          <p:nvPr/>
        </p:nvSpPr>
        <p:spPr>
          <a:xfrm>
            <a:off x="2347920" y="6157800"/>
            <a:ext cx="71928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Staff Num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5"/>
          <p:cNvSpPr/>
          <p:nvPr/>
        </p:nvSpPr>
        <p:spPr>
          <a:xfrm>
            <a:off x="412920" y="6157800"/>
            <a:ext cx="72072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Organ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0"/>
          <p:cNvSpPr/>
          <p:nvPr/>
        </p:nvSpPr>
        <p:spPr>
          <a:xfrm>
            <a:off x="179280" y="6583320"/>
            <a:ext cx="4384800" cy="230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5"/>
          <p:cNvSpPr/>
          <p:nvPr/>
        </p:nvSpPr>
        <p:spPr>
          <a:xfrm>
            <a:off x="844560" y="1123920"/>
            <a:ext cx="3006720" cy="720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圆角矩形 4"/>
          <p:cNvSpPr/>
          <p:nvPr/>
        </p:nvSpPr>
        <p:spPr>
          <a:xfrm>
            <a:off x="398520" y="1123920"/>
            <a:ext cx="360360" cy="720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12920" y="-146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张倩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6"/>
          <p:cNvSpPr/>
          <p:nvPr/>
        </p:nvSpPr>
        <p:spPr>
          <a:xfrm>
            <a:off x="743040" y="2162160"/>
            <a:ext cx="6350040" cy="2562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Ms. 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Join Time: January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Responsibil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. Attendance man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. SAP-H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5425920" y="2144880"/>
            <a:ext cx="3071880" cy="1728720"/>
          </a:xfrm>
          <a:prstGeom prst="rect">
            <a:avLst/>
          </a:prstGeom>
          <a:ln w="19080">
            <a:solidFill>
              <a:srgbClr val="636b70"/>
            </a:solidFill>
            <a:miter/>
          </a:ln>
        </p:spPr>
      </p:pic>
      <p:sp>
        <p:nvSpPr>
          <p:cNvPr id="203" name="矩形 17"/>
          <p:cNvSpPr/>
          <p:nvPr/>
        </p:nvSpPr>
        <p:spPr>
          <a:xfrm>
            <a:off x="6160680" y="4292640"/>
            <a:ext cx="160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HR Assi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3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1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59259E-006 L -0.00138 0.29236 E">
                                      <p:cBhvr>
                                        <p:cTn id="333" dur="5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图片 6" descr="图片2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7"/>
          <p:cNvSpPr/>
          <p:nvPr/>
        </p:nvSpPr>
        <p:spPr>
          <a:xfrm>
            <a:off x="6724800" y="6357960"/>
            <a:ext cx="21333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微软雅黑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任意多边形 34"/>
          <p:cNvSpPr/>
          <p:nvPr/>
        </p:nvSpPr>
        <p:spPr>
          <a:xfrm>
            <a:off x="5230800" y="3216240"/>
            <a:ext cx="960480" cy="574560"/>
          </a:xfrm>
          <a:prstGeom prst="pie">
            <a:avLst/>
          </a:prstGeom>
          <a:noFill/>
          <a:ln w="316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5"/>
          <p:cNvSpPr/>
          <p:nvPr/>
        </p:nvSpPr>
        <p:spPr>
          <a:xfrm>
            <a:off x="412920" y="6157800"/>
            <a:ext cx="72072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Organ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7"/>
          <p:cNvSpPr/>
          <p:nvPr/>
        </p:nvSpPr>
        <p:spPr>
          <a:xfrm>
            <a:off x="1374840" y="6149880"/>
            <a:ext cx="71892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7"/>
          <p:cNvSpPr/>
          <p:nvPr/>
        </p:nvSpPr>
        <p:spPr>
          <a:xfrm>
            <a:off x="3316320" y="6157800"/>
            <a:ext cx="71928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Ques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Abo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Roadma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7"/>
          <p:cNvSpPr/>
          <p:nvPr/>
        </p:nvSpPr>
        <p:spPr>
          <a:xfrm>
            <a:off x="2347920" y="6157800"/>
            <a:ext cx="71928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Staff Num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7"/>
          <p:cNvSpPr/>
          <p:nvPr/>
        </p:nvSpPr>
        <p:spPr>
          <a:xfrm>
            <a:off x="2347920" y="6149880"/>
            <a:ext cx="71928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Staff Num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5"/>
          <p:cNvSpPr/>
          <p:nvPr/>
        </p:nvSpPr>
        <p:spPr>
          <a:xfrm>
            <a:off x="1374840" y="6149880"/>
            <a:ext cx="718920" cy="54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微软雅黑"/>
              </a:rPr>
              <a:t>Fun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0"/>
          <p:cNvSpPr/>
          <p:nvPr/>
        </p:nvSpPr>
        <p:spPr>
          <a:xfrm>
            <a:off x="179280" y="6583320"/>
            <a:ext cx="4384800" cy="230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5"/>
          <p:cNvSpPr/>
          <p:nvPr/>
        </p:nvSpPr>
        <p:spPr>
          <a:xfrm>
            <a:off x="844560" y="1123920"/>
            <a:ext cx="3006720" cy="720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Staff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圆角矩形 4"/>
          <p:cNvSpPr/>
          <p:nvPr/>
        </p:nvSpPr>
        <p:spPr>
          <a:xfrm>
            <a:off x="398520" y="1123920"/>
            <a:ext cx="360360" cy="720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21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Staf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组合 52"/>
          <p:cNvGrpSpPr/>
          <p:nvPr/>
        </p:nvGrpSpPr>
        <p:grpSpPr>
          <a:xfrm>
            <a:off x="1577880" y="2089080"/>
            <a:ext cx="4189680" cy="3753000"/>
            <a:chOff x="1577880" y="2089080"/>
            <a:chExt cx="4189680" cy="3753000"/>
          </a:xfrm>
        </p:grpSpPr>
        <p:sp>
          <p:nvSpPr>
            <p:cNvPr id="218" name="椭圆 11"/>
            <p:cNvSpPr/>
            <p:nvPr/>
          </p:nvSpPr>
          <p:spPr>
            <a:xfrm>
              <a:off x="1577880" y="2089080"/>
              <a:ext cx="3708720" cy="3753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Arial"/>
                  <a:ea typeface="Arial"/>
                </a:rPr>
                <a:t>XXX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椭圆 36"/>
            <p:cNvSpPr/>
            <p:nvPr/>
          </p:nvSpPr>
          <p:spPr>
            <a:xfrm>
              <a:off x="5306040" y="3553920"/>
              <a:ext cx="461520" cy="822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椭圆 11"/>
            <p:cNvSpPr/>
            <p:nvPr/>
          </p:nvSpPr>
          <p:spPr>
            <a:xfrm rot="2475600">
              <a:off x="4964400" y="3656520"/>
              <a:ext cx="577080" cy="615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Box 42"/>
          <p:cNvSpPr/>
          <p:nvPr/>
        </p:nvSpPr>
        <p:spPr>
          <a:xfrm>
            <a:off x="5441040" y="27558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任意多边形 43"/>
          <p:cNvSpPr/>
          <p:nvPr/>
        </p:nvSpPr>
        <p:spPr>
          <a:xfrm flipV="1">
            <a:off x="5635800" y="4091760"/>
            <a:ext cx="958680" cy="306360"/>
          </a:xfrm>
          <a:prstGeom prst="pie">
            <a:avLst/>
          </a:prstGeom>
          <a:noFill/>
          <a:ln w="316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44"/>
          <p:cNvSpPr/>
          <p:nvPr/>
        </p:nvSpPr>
        <p:spPr>
          <a:xfrm>
            <a:off x="5847480" y="3914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组合 51"/>
          <p:cNvGrpSpPr/>
          <p:nvPr/>
        </p:nvGrpSpPr>
        <p:grpSpPr>
          <a:xfrm>
            <a:off x="6810480" y="2801880"/>
            <a:ext cx="1526040" cy="2291400"/>
            <a:chOff x="6810480" y="2801880"/>
            <a:chExt cx="1526040" cy="2291400"/>
          </a:xfrm>
        </p:grpSpPr>
        <p:sp>
          <p:nvSpPr>
            <p:cNvPr id="225" name="椭圆 45"/>
            <p:cNvSpPr/>
            <p:nvPr/>
          </p:nvSpPr>
          <p:spPr>
            <a:xfrm>
              <a:off x="6810480" y="2811960"/>
              <a:ext cx="360000" cy="36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46"/>
            <p:cNvSpPr/>
            <p:nvPr/>
          </p:nvSpPr>
          <p:spPr>
            <a:xfrm>
              <a:off x="7386480" y="280188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KMC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椭圆 47"/>
            <p:cNvSpPr/>
            <p:nvPr/>
          </p:nvSpPr>
          <p:spPr>
            <a:xfrm>
              <a:off x="6810480" y="3768480"/>
              <a:ext cx="360000" cy="36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椭圆 48"/>
            <p:cNvSpPr/>
            <p:nvPr/>
          </p:nvSpPr>
          <p:spPr>
            <a:xfrm>
              <a:off x="6810480" y="4725000"/>
              <a:ext cx="360000" cy="360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49"/>
            <p:cNvSpPr/>
            <p:nvPr/>
          </p:nvSpPr>
          <p:spPr>
            <a:xfrm>
              <a:off x="7385400" y="3763440"/>
              <a:ext cx="81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KM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Box 50"/>
            <p:cNvSpPr/>
            <p:nvPr/>
          </p:nvSpPr>
          <p:spPr>
            <a:xfrm>
              <a:off x="7383240" y="4725000"/>
              <a:ext cx="9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Train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Box 26"/>
          <p:cNvSpPr/>
          <p:nvPr/>
        </p:nvSpPr>
        <p:spPr>
          <a:xfrm>
            <a:off x="3000600" y="8267760"/>
            <a:ext cx="32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</a:rPr>
              <a:t>www.51pptmo ban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4762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1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700"/>
                            </p:stCondLst>
                            <p:childTnLst>
                              <p:par>
                                <p:cTn id="351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200"/>
                            </p:stCondLst>
                            <p:childTnLst>
                              <p:par>
                                <p:cTn id="35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25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50"/>
                            </p:stCondLst>
                            <p:childTnLst>
                              <p:par>
                                <p:cTn id="36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25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50"/>
                            </p:stCondLst>
                            <p:childTnLst>
                              <p:par>
                                <p:cTn id="37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06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1:13Z</dcterms:modified>
  <cp:revision>14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