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64C-FAC8-4B68-B518-B7751F2D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29422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4AE-13F6-46B0-BB91-A0A3FF1C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8488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685-8D15-4D26-A2F7-668BFAAA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8880" y="27432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33200" y="27432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29422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8880" y="29422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633200" y="29422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1B6-7274-4FEC-85AD-EC4320AB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636B-A6AC-40A2-8F49-A6C92639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2743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FF06-96D5-4237-9430-8EC8428E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D72A-1F9B-44BD-8FBD-198BC2EA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47DC-B9D4-49AA-954D-F2F4558F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803-4003-484C-A871-919C1EE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63244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8ED3-4C26-4A55-ABA0-C5F20B9F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0CE-1C99-47E6-96DD-CC3023C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743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6C9-7E60-4022-9F0E-0E97C2E1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8488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762B-A979-4D01-B989-53671A48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29422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0C55-F42C-4503-AF6E-41BB4A53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29422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0109-7114-4DC9-80BA-0BA5EDC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58488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37F9-F04E-4C10-947F-379020D3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468880" y="27432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33200" y="27432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29422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468880" y="29422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633200" y="29422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3735-7F0B-4FE1-A630-8C670219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E76-409D-4F6C-A00B-066FEDB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010-FBAB-4D3F-B551-BDE25221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ED3-E87A-41F3-8A78-33C1E5AD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63244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B54-DF1A-4309-B401-1AA017B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470-4F3A-40A6-B245-7B7A3B1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84880" y="29422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DD8-75EE-42A1-9221-5AC6D66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84880" y="27432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29422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074-A626-4062-925C-AD57162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B2A7-501A-4D56-B9D1-163259C6A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3760" y="1062000"/>
            <a:ext cx="7311960" cy="73080"/>
          </a:xfrm>
          <a:prstGeom prst="rect">
            <a:avLst/>
          </a:prstGeom>
          <a:gradFill rotWithShape="0">
            <a:gsLst>
              <a:gs pos="0">
                <a:srgbClr val="faa712"/>
              </a:gs>
              <a:gs pos="100000">
                <a:srgbClr val="734c0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835600"/>
            <a:ext cx="5867280" cy="7826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951280"/>
            <a:ext cx="9167760" cy="3684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8960" y="615636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361960" y="6476760"/>
            <a:ext cx="1447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391160" y="647676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5638680" y="6476760"/>
            <a:ext cx="1524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303A-D7A1-47F1-B2B0-582187BDE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1827360" y="3581280"/>
            <a:ext cx="1295640" cy="110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2666880"/>
            <a:ext cx="7315200" cy="76320"/>
          </a:xfrm>
          <a:prstGeom prst="rect">
            <a:avLst/>
          </a:prstGeom>
          <a:gradFill rotWithShape="0">
            <a:gsLst>
              <a:gs pos="0">
                <a:srgbClr val="faa712"/>
              </a:gs>
              <a:gs pos="100000">
                <a:srgbClr val="734c0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300800" y="1093680"/>
            <a:ext cx="1009800" cy="2006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ce2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9ce2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8.png"/><Relationship Id="rId14" Type="http://schemas.openxmlformats.org/officeDocument/2006/relationships/image" Target="../media/image10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hyperlink" Target="http://www.eeppt.com/moban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8.png"/><Relationship Id="rId5" Type="http://schemas.openxmlformats.org/officeDocument/2006/relationships/image" Target="../media/image5.wmf"/><Relationship Id="rId6" Type="http://schemas.openxmlformats.org/officeDocument/2006/relationships/image" Target="../media/image8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8.png"/><Relationship Id="rId11" Type="http://schemas.openxmlformats.org/officeDocument/2006/relationships/image" Target="../media/image5.wmf"/><Relationship Id="rId12" Type="http://schemas.openxmlformats.org/officeDocument/2006/relationships/image" Target="../media/image8.png"/><Relationship Id="rId13" Type="http://schemas.openxmlformats.org/officeDocument/2006/relationships/image" Target="../media/image5.wmf"/><Relationship Id="rId14" Type="http://schemas.openxmlformats.org/officeDocument/2006/relationships/image" Target="../media/image8.png"/><Relationship Id="rId15" Type="http://schemas.openxmlformats.org/officeDocument/2006/relationships/image" Target="../media/image5.wmf"/><Relationship Id="rId16" Type="http://schemas.openxmlformats.org/officeDocument/2006/relationships/hyperlink" Target="http://www.eeppt.com/moban/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79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PowerTemplate</a:t>
            </a:r>
            <a:endParaRPr b="1" i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ce24"/>
                </a:solidFill>
                <a:latin typeface="Arial"/>
              </a:rPr>
              <a:t>Your company slogan in here</a:t>
            </a:r>
            <a:endParaRPr b="0" lang="en-US" sz="24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7960" y="380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欧美企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-30240" y="2622600"/>
            <a:ext cx="8466120" cy="4262400"/>
          </a:xfrm>
          <a:custGeom>
            <a:avLst/>
            <a:gdLst/>
            <a:ahLst/>
            <a:rect l="l" t="t" r="r" b="b"/>
            <a:pathLst>
              <a:path w="5334" h="2685">
                <a:moveTo>
                  <a:pt x="20" y="2393"/>
                </a:moveTo>
                <a:cubicBezTo>
                  <a:pt x="20" y="2533"/>
                  <a:pt x="0" y="2658"/>
                  <a:pt x="0" y="2658"/>
                </a:cubicBezTo>
                <a:cubicBezTo>
                  <a:pt x="2443" y="2685"/>
                  <a:pt x="4643" y="1996"/>
                  <a:pt x="5334" y="220"/>
                </a:cubicBezTo>
                <a:lnTo>
                  <a:pt x="4105" y="0"/>
                </a:lnTo>
                <a:cubicBezTo>
                  <a:pt x="3414" y="2003"/>
                  <a:pt x="736" y="2272"/>
                  <a:pt x="20" y="2393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354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3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746360" y="5823000"/>
                <a:ext cx="759600" cy="739800"/>
              </a:xfrm>
              <a:prstGeom prst="ellipse">
                <a:avLst/>
              </a:prstGeom>
              <a:gradFill rotWithShape="0">
                <a:gsLst>
                  <a:gs pos="0">
                    <a:srgbClr val="faa712">
                      <a:alpha val="55294"/>
                    </a:srgbClr>
                  </a:gs>
                  <a:gs pos="50000">
                    <a:srgbClr val="734c08">
                      <a:alpha val="90196"/>
                    </a:srgbClr>
                  </a:gs>
                  <a:gs pos="100000">
                    <a:srgbClr val="faa71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516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263760" y="5213520"/>
            <a:ext cx="1079640" cy="1078920"/>
            <a:chOff x="3263760" y="5213520"/>
            <a:chExt cx="1079640" cy="107892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3367080" y="6059160"/>
              <a:ext cx="88884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64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263760" y="5213520"/>
              <a:ext cx="1077840" cy="998280"/>
            </a:xfrm>
            <a:prstGeom prst="ellipse">
              <a:avLst/>
            </a:prstGeom>
            <a:gradFill rotWithShape="0">
              <a:gsLst>
                <a:gs pos="0">
                  <a:srgbClr val="e45267">
                    <a:alpha val="55294"/>
                  </a:srgbClr>
                </a:gs>
                <a:gs pos="50000">
                  <a:srgbClr val="69252f">
                    <a:alpha val="90196"/>
                  </a:srgbClr>
                </a:gs>
                <a:gs pos="100000">
                  <a:srgbClr val="e4526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3369960" y="5224320"/>
              <a:ext cx="85428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18"/>
            <p:cNvSpPr/>
            <p:nvPr/>
          </p:nvSpPr>
          <p:spPr>
            <a:xfrm>
              <a:off x="3352680" y="5486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870440" y="3994200"/>
            <a:ext cx="1568520" cy="1600200"/>
            <a:chOff x="4870440" y="3994200"/>
            <a:chExt cx="1568520" cy="1600200"/>
          </a:xfrm>
        </p:grpSpPr>
        <p:pic>
          <p:nvPicPr>
            <p:cNvPr id="370" name="" descr="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20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870440" y="3994200"/>
              <a:ext cx="1565280" cy="1479600"/>
            </a:xfrm>
            <a:prstGeom prst="ellipse">
              <a:avLst/>
            </a:prstGeom>
            <a:gradFill rotWithShape="0">
              <a:gsLst>
                <a:gs pos="0">
                  <a:srgbClr val="79ce24">
                    <a:alpha val="55294"/>
                  </a:srgbClr>
                </a:gs>
                <a:gs pos="50000">
                  <a:srgbClr val="375e10">
                    <a:alpha val="90196"/>
                  </a:srgbClr>
                </a:gs>
                <a:gs pos="100000">
                  <a:srgbClr val="79ce24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5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324480" y="1631880"/>
            <a:ext cx="2279520" cy="2362320"/>
            <a:chOff x="6324480" y="1631880"/>
            <a:chExt cx="2279520" cy="2362320"/>
          </a:xfrm>
        </p:grpSpPr>
        <p:pic>
          <p:nvPicPr>
            <p:cNvPr id="376" name="" descr="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5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324480" y="1631880"/>
              <a:ext cx="2276640" cy="2184480"/>
            </a:xfrm>
            <a:prstGeom prst="ellipse">
              <a:avLst/>
            </a:prstGeom>
            <a:gradFill rotWithShape="0">
              <a:gsLst>
                <a:gs pos="0">
                  <a:srgbClr val="5fc3d7">
                    <a:alpha val="55294"/>
                  </a:srgbClr>
                </a:gs>
                <a:gs pos="50000">
                  <a:srgbClr val="2b5963">
                    <a:alpha val="90196"/>
                  </a:srgbClr>
                </a:gs>
                <a:gs pos="100000">
                  <a:srgbClr val="5fc3d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12"/>
            <a:stretch/>
          </p:blipFill>
          <p:spPr>
            <a:xfrm>
              <a:off x="6549840" y="1654200"/>
              <a:ext cx="1803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18"/>
            <p:cNvSpPr/>
            <p:nvPr/>
          </p:nvSpPr>
          <p:spPr>
            <a:xfrm>
              <a:off x="6791040" y="2438280"/>
              <a:ext cx="13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 Box 4"/>
          <p:cNvSpPr/>
          <p:nvPr/>
        </p:nvSpPr>
        <p:spPr>
          <a:xfrm>
            <a:off x="838080" y="23176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2778120" cy="17146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91240" y="4572000"/>
            <a:ext cx="2778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5181480" y="2681280"/>
            <a:ext cx="1973160" cy="2190600"/>
            <a:chOff x="5181480" y="2681280"/>
            <a:chExt cx="1973160" cy="2190600"/>
          </a:xfrm>
        </p:grpSpPr>
        <p:sp>
          <p:nvSpPr>
            <p:cNvPr id="387" name=""/>
            <p:cNvSpPr/>
            <p:nvPr/>
          </p:nvSpPr>
          <p:spPr>
            <a:xfrm>
              <a:off x="5817960" y="2681280"/>
              <a:ext cx="777960" cy="21859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3627360"/>
              <a:ext cx="4446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3160" y="36273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18080" y="36273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11840" y="36273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662120" y="2536920"/>
            <a:ext cx="1355760" cy="2330280"/>
            <a:chOff x="1662120" y="2536920"/>
            <a:chExt cx="1355760" cy="2330280"/>
          </a:xfrm>
        </p:grpSpPr>
        <p:sp>
          <p:nvSpPr>
            <p:cNvPr id="393" name=""/>
            <p:cNvSpPr/>
            <p:nvPr/>
          </p:nvSpPr>
          <p:spPr>
            <a:xfrm>
              <a:off x="1662120" y="2536920"/>
              <a:ext cx="1066680" cy="233028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60720" y="3422880"/>
              <a:ext cx="660240" cy="144432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55840" y="3422880"/>
              <a:ext cx="662040" cy="144432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4"/>
          <p:cNvSpPr/>
          <p:nvPr/>
        </p:nvSpPr>
        <p:spPr>
          <a:xfrm>
            <a:off x="1206360" y="512460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986360" y="512280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512720" y="2055960"/>
            <a:ext cx="109728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4871"/>
                </a:lnTo>
                <a:lnTo>
                  <a:pt x="15535" y="763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19051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618160" y="2031840"/>
            <a:ext cx="1030320" cy="26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47338"/>
                </a:lnTo>
                <a:lnTo>
                  <a:pt x="15143" y="81097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6553080" y="19051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3313080" y="3095640"/>
            <a:ext cx="18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Arial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20840" y="1663560"/>
            <a:ext cx="2104920" cy="30988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55480" y="4505400"/>
            <a:ext cx="8153640" cy="1745640"/>
            <a:chOff x="555480" y="4505400"/>
            <a:chExt cx="8153640" cy="1745640"/>
          </a:xfrm>
        </p:grpSpPr>
        <p:sp>
          <p:nvSpPr>
            <p:cNvPr id="406" name=""/>
            <p:cNvSpPr/>
            <p:nvPr/>
          </p:nvSpPr>
          <p:spPr>
            <a:xfrm>
              <a:off x="555480" y="4505400"/>
              <a:ext cx="8153640" cy="174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5000" y="4540320"/>
              <a:ext cx="8097120" cy="166860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9080">
              <a:solidFill>
                <a:srgbClr val="dddddd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35200" y="4113360"/>
            <a:ext cx="1854000" cy="815760"/>
            <a:chOff x="835200" y="4113360"/>
            <a:chExt cx="1854000" cy="815760"/>
          </a:xfrm>
        </p:grpSpPr>
        <p:sp>
          <p:nvSpPr>
            <p:cNvPr id="409" name=""/>
            <p:cNvSpPr/>
            <p:nvPr/>
          </p:nvSpPr>
          <p:spPr>
            <a:xfrm>
              <a:off x="835200" y="4113360"/>
              <a:ext cx="1854000" cy="8157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0f9e7"/>
                </a:gs>
                <a:gs pos="50000">
                  <a:srgbClr val="79ce24"/>
                </a:gs>
                <a:gs pos="100000">
                  <a:srgbClr val="f0f9e7"/>
                </a:gs>
              </a:gsLst>
              <a:lin ang="10800000"/>
            </a:gradFill>
            <a:ln w="12600">
              <a:solidFill>
                <a:srgbClr val="79ce24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67240" y="4134960"/>
              <a:ext cx="1802520" cy="77436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9e58e"/>
                </a:gs>
                <a:gs pos="50000">
                  <a:srgbClr val="79ce24"/>
                </a:gs>
                <a:gs pos="100000">
                  <a:srgbClr val="b9e58e"/>
                </a:gs>
              </a:gsLst>
              <a:lin ang="5400000"/>
            </a:gradFill>
            <a:ln w="12600">
              <a:solidFill>
                <a:srgbClr val="79ce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955800" y="425448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711520" y="4113360"/>
            <a:ext cx="1854000" cy="815760"/>
            <a:chOff x="2711520" y="4113360"/>
            <a:chExt cx="1854000" cy="815760"/>
          </a:xfrm>
        </p:grpSpPr>
        <p:sp>
          <p:nvSpPr>
            <p:cNvPr id="413" name=""/>
            <p:cNvSpPr/>
            <p:nvPr/>
          </p:nvSpPr>
          <p:spPr>
            <a:xfrm>
              <a:off x="2711520" y="4113360"/>
              <a:ext cx="1854000" cy="8157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becee"/>
                </a:gs>
                <a:gs pos="50000">
                  <a:srgbClr val="e45267"/>
                </a:gs>
                <a:gs pos="100000">
                  <a:srgbClr val="fbecee"/>
                </a:gs>
              </a:gsLst>
              <a:lin ang="10800000"/>
            </a:gradFill>
            <a:ln w="12600">
              <a:solidFill>
                <a:srgbClr val="e4526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43560" y="4134960"/>
              <a:ext cx="1802520" cy="77436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0a6b0"/>
                </a:gs>
                <a:gs pos="50000">
                  <a:srgbClr val="e45267"/>
                </a:gs>
                <a:gs pos="100000">
                  <a:srgbClr val="f0a6b0"/>
                </a:gs>
              </a:gsLst>
              <a:lin ang="5400000"/>
            </a:gradFill>
            <a:ln w="12600">
              <a:solidFill>
                <a:srgbClr val="e45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97560" y="4113360"/>
            <a:ext cx="1854000" cy="815760"/>
            <a:chOff x="4597560" y="4113360"/>
            <a:chExt cx="1854000" cy="815760"/>
          </a:xfrm>
        </p:grpSpPr>
        <p:sp>
          <p:nvSpPr>
            <p:cNvPr id="416" name=""/>
            <p:cNvSpPr/>
            <p:nvPr/>
          </p:nvSpPr>
          <p:spPr>
            <a:xfrm>
              <a:off x="4597560" y="4113360"/>
              <a:ext cx="1854000" cy="8157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df7f9"/>
                </a:gs>
                <a:gs pos="50000">
                  <a:srgbClr val="5fc3d7"/>
                </a:gs>
                <a:gs pos="100000">
                  <a:srgbClr val="edf7f9"/>
                </a:gs>
              </a:gsLst>
              <a:lin ang="10800000"/>
            </a:gradFill>
            <a:ln w="12600">
              <a:solidFill>
                <a:srgbClr val="5fc3d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9600" y="4134960"/>
              <a:ext cx="1802520" cy="77436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cdfe9"/>
                </a:gs>
                <a:gs pos="50000">
                  <a:srgbClr val="5fc3d7"/>
                </a:gs>
                <a:gs pos="100000">
                  <a:srgbClr val="acdfe9"/>
                </a:gs>
              </a:gsLst>
              <a:lin ang="5400000"/>
            </a:gradFill>
            <a:ln w="12600">
              <a:solidFill>
                <a:srgbClr val="5fc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473880" y="4113360"/>
            <a:ext cx="1854000" cy="815760"/>
            <a:chOff x="6473880" y="4113360"/>
            <a:chExt cx="1854000" cy="815760"/>
          </a:xfrm>
        </p:grpSpPr>
        <p:sp>
          <p:nvSpPr>
            <p:cNvPr id="419" name=""/>
            <p:cNvSpPr/>
            <p:nvPr/>
          </p:nvSpPr>
          <p:spPr>
            <a:xfrm>
              <a:off x="6473880" y="4113360"/>
              <a:ext cx="1854000" cy="8157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df5e5"/>
                </a:gs>
                <a:gs pos="50000">
                  <a:srgbClr val="faa712"/>
                </a:gs>
                <a:gs pos="100000">
                  <a:srgbClr val="fdf5e5"/>
                </a:gs>
              </a:gsLst>
              <a:lin ang="10800000"/>
            </a:gradFill>
            <a:ln w="12600">
              <a:solidFill>
                <a:srgbClr val="faa712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5920" y="4134960"/>
              <a:ext cx="1802520" cy="77436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bd185"/>
                </a:gs>
                <a:gs pos="50000">
                  <a:srgbClr val="faa712"/>
                </a:gs>
                <a:gs pos="100000">
                  <a:srgbClr val="fbd185"/>
                </a:gs>
              </a:gsLst>
              <a:lin ang="5400000"/>
            </a:gradFill>
            <a:ln w="12600">
              <a:solidFill>
                <a:srgbClr val="faa7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84080" y="50878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70120" y="5087880"/>
            <a:ext cx="17524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3440" y="50878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97640" y="5087880"/>
            <a:ext cx="17524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037040" y="19177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meGaller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70280" y="425448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53080" y="425448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45240" y="425448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6620040"/>
            <a:ext cx="9144000" cy="215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[Image Info]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wizdata,co,kr </a:t>
            </a:r>
            <a:r>
              <a:rPr b="0" lang="en-US" sz="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Note to customers : This image has been licensed to be used within this PowerPoint template only.  You may not extract the image for any other use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>
            <a:off x="1295280" y="1370520"/>
            <a:ext cx="6604200" cy="738360"/>
          </a:xfrm>
          <a:custGeom>
            <a:avLst/>
            <a:gdLst>
              <a:gd name="textAreaLeft" fmla="*/ 1182600 w 6604200"/>
              <a:gd name="textAreaRight" fmla="*/ 5421600 w 6604200"/>
              <a:gd name="textAreaTop" fmla="*/ 132120 h 738360"/>
              <a:gd name="textAreaBottom" fmla="*/ 6062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e45267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295280" y="2998440"/>
            <a:ext cx="6604200" cy="738000"/>
          </a:xfrm>
          <a:custGeom>
            <a:avLst/>
            <a:gdLst>
              <a:gd name="textAreaLeft" fmla="*/ 1182600 w 6604200"/>
              <a:gd name="textAreaRight" fmla="*/ 5421600 w 6604200"/>
              <a:gd name="textAreaTop" fmla="*/ 132120 h 738000"/>
              <a:gd name="textAreaBottom" fmla="*/ 60588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5fc3d7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27320" y="4516920"/>
            <a:ext cx="6543360" cy="741240"/>
          </a:xfrm>
          <a:custGeom>
            <a:avLst/>
            <a:gdLst>
              <a:gd name="textAreaLeft" fmla="*/ 1171800 w 6543360"/>
              <a:gd name="textAreaRight" fmla="*/ 5371560 w 6543360"/>
              <a:gd name="textAreaTop" fmla="*/ 132480 h 741240"/>
              <a:gd name="textAreaBottom" fmla="*/ 60876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aa712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65400" y="208764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45267"/>
              </a:gs>
              <a:gs pos="100000">
                <a:srgbClr val="9e3947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68280" y="374508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fc3d7"/>
              </a:gs>
              <a:gs pos="100000">
                <a:srgbClr val="428795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76200" y="5261040"/>
            <a:ext cx="665352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aa712"/>
              </a:gs>
              <a:gs pos="100000">
                <a:srgbClr val="ad740c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322280" y="2130480"/>
            <a:ext cx="674640" cy="5745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319040" y="3790800"/>
            <a:ext cx="676440" cy="5731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324080" y="53020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752480" y="18604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45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52480" y="35370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5fc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50385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aa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676520" y="24703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0734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555156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86048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5267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354636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c3d7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504972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712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71640" y="2122560"/>
            <a:ext cx="499140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9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81360" y="34956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45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09880" y="1523880"/>
            <a:ext cx="2438280" cy="186228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79ce24"/>
              </a:gs>
              <a:gs pos="100000">
                <a:srgbClr val="4f871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29811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e45267"/>
              </a:gs>
              <a:gs pos="100000">
                <a:srgbClr val="7f2d3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00240" y="4890960"/>
            <a:ext cx="567072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aa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28720" y="4351320"/>
            <a:ext cx="243828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faa712"/>
              </a:gs>
              <a:gs pos="100000">
                <a:srgbClr val="8e5f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 rot="5400000">
            <a:off x="1754280" y="372276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 rot="5400000">
            <a:off x="1278720" y="531252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8" name=""/>
          <p:cNvSpPr txBox="1"/>
          <p:nvPr/>
        </p:nvSpPr>
        <p:spPr>
          <a:xfrm rot="5400000">
            <a:off x="2387520" y="233820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3076560" y="21621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76440" y="34527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86040" y="492912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33800" y="4960800"/>
            <a:ext cx="35859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11640" y="2168640"/>
            <a:ext cx="3238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594240" y="3551400"/>
            <a:ext cx="35812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30760" y="4756320"/>
            <a:ext cx="2522520" cy="1477800"/>
          </a:xfrm>
          <a:prstGeom prst="rect">
            <a:avLst/>
          </a:prstGeom>
          <a:gradFill rotWithShape="0">
            <a:gsLst>
              <a:gs pos="0">
                <a:srgbClr val="e45267"/>
              </a:gs>
              <a:gs pos="100000">
                <a:srgbClr val="a43b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19400" y="2482920"/>
            <a:ext cx="226872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7560" y="2482920"/>
            <a:ext cx="226836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16080" y="4900680"/>
            <a:ext cx="2503800" cy="1477800"/>
          </a:xfrm>
          <a:prstGeom prst="rect">
            <a:avLst/>
          </a:prstGeom>
          <a:gradFill rotWithShape="0">
            <a:gsLst>
              <a:gs pos="0">
                <a:srgbClr val="e45267"/>
              </a:gs>
              <a:gs pos="100000">
                <a:srgbClr val="c346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28920" y="53560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838080" y="3454560"/>
            <a:ext cx="2111040" cy="1446120"/>
            <a:chOff x="838080" y="3454560"/>
            <a:chExt cx="2111040" cy="1446120"/>
          </a:xfrm>
        </p:grpSpPr>
        <p:sp>
          <p:nvSpPr>
            <p:cNvPr id="472" name=""/>
            <p:cNvSpPr/>
            <p:nvPr/>
          </p:nvSpPr>
          <p:spPr>
            <a:xfrm>
              <a:off x="838080" y="345456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8960" y="346932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838080" y="4952880"/>
            <a:ext cx="2111040" cy="1447920"/>
            <a:chOff x="838080" y="4952880"/>
            <a:chExt cx="2111040" cy="1447920"/>
          </a:xfrm>
        </p:grpSpPr>
        <p:sp>
          <p:nvSpPr>
            <p:cNvPr id="475" name=""/>
            <p:cNvSpPr/>
            <p:nvPr/>
          </p:nvSpPr>
          <p:spPr>
            <a:xfrm>
              <a:off x="838080" y="495288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8960" y="496764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62120" y="397368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54673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67560" y="48942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86160" y="251460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37200" y="251460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30760" y="3214800"/>
            <a:ext cx="2522520" cy="1476360"/>
          </a:xfrm>
          <a:prstGeom prst="rect">
            <a:avLst/>
          </a:prstGeom>
          <a:gradFill rotWithShape="0">
            <a:gsLst>
              <a:gs pos="0">
                <a:srgbClr val="5fc3d7"/>
              </a:gs>
              <a:gs pos="100000">
                <a:srgbClr val="448c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16080" y="3351240"/>
            <a:ext cx="2503800" cy="1477800"/>
          </a:xfrm>
          <a:prstGeom prst="rect">
            <a:avLst/>
          </a:prstGeom>
          <a:gradFill rotWithShape="0">
            <a:gsLst>
              <a:gs pos="0">
                <a:srgbClr val="5fc3d7"/>
              </a:gs>
              <a:gs pos="100000">
                <a:srgbClr val="51a7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28920" y="38098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67560" y="335268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82880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1495440"/>
            <a:ext cx="9144000" cy="53625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14400" y="52862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143000" y="5086440"/>
            <a:ext cx="2885760" cy="443880"/>
            <a:chOff x="1143000" y="5086440"/>
            <a:chExt cx="2885760" cy="443880"/>
          </a:xfrm>
        </p:grpSpPr>
        <p:sp>
          <p:nvSpPr>
            <p:cNvPr id="491" name=""/>
            <p:cNvSpPr/>
            <p:nvPr/>
          </p:nvSpPr>
          <p:spPr>
            <a:xfrm>
              <a:off x="1143000" y="50864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2440" y="50900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4572000" y="52862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800600" y="5086440"/>
            <a:ext cx="2885760" cy="443880"/>
            <a:chOff x="4800600" y="5086440"/>
            <a:chExt cx="2885760" cy="443880"/>
          </a:xfrm>
        </p:grpSpPr>
        <p:sp>
          <p:nvSpPr>
            <p:cNvPr id="495" name=""/>
            <p:cNvSpPr/>
            <p:nvPr/>
          </p:nvSpPr>
          <p:spPr>
            <a:xfrm>
              <a:off x="4800600" y="50864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20040" y="50900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33240" y="4476600"/>
            <a:ext cx="7824960" cy="552600"/>
            <a:chOff x="633240" y="4476600"/>
            <a:chExt cx="7824960" cy="552600"/>
          </a:xfrm>
        </p:grpSpPr>
        <p:sp>
          <p:nvSpPr>
            <p:cNvPr id="498" name=""/>
            <p:cNvSpPr/>
            <p:nvPr/>
          </p:nvSpPr>
          <p:spPr>
            <a:xfrm>
              <a:off x="633240" y="4611600"/>
              <a:ext cx="345960" cy="27792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1760" y="4476600"/>
              <a:ext cx="7696440" cy="552600"/>
            </a:xfrm>
            <a:prstGeom prst="rightArrow">
              <a:avLst>
                <a:gd name="adj1" fmla="val 50000"/>
                <a:gd name="adj2" fmla="val 63190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600200" y="45720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45040" y="45720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10240" y="45720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914400" y="2666880"/>
            <a:ext cx="0" cy="190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270240" y="2329920"/>
            <a:ext cx="0" cy="2241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610240" y="1872720"/>
            <a:ext cx="0" cy="269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974000" y="149184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14400" y="41148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b1e281"/>
              </a:gs>
              <a:gs pos="100000">
                <a:srgbClr val="79ce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71680" y="35812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efa0ac"/>
              </a:gs>
              <a:gs pos="100000">
                <a:srgbClr val="e452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19600" y="297180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fac668"/>
              </a:gs>
              <a:gs pos="100000">
                <a:srgbClr val="faa71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294336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98680" y="24382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46600" y="1828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4118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173240" y="51325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30840" y="51325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20600" y="560880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68840" y="56088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3886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34160" y="3618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1495440"/>
            <a:ext cx="9144000" cy="53625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1400" y="290196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79c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36600" y="4105440"/>
            <a:ext cx="1133280" cy="1044000"/>
            <a:chOff x="1236600" y="4105440"/>
            <a:chExt cx="1133280" cy="1044000"/>
          </a:xfrm>
        </p:grpSpPr>
        <p:sp>
          <p:nvSpPr>
            <p:cNvPr id="524" name=""/>
            <p:cNvSpPr/>
            <p:nvPr/>
          </p:nvSpPr>
          <p:spPr>
            <a:xfrm>
              <a:off x="1348560" y="490968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51680" y="482688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65600" y="496224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36600" y="438732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1360" y="410544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61200" y="440316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7183440" y="19810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130720" y="26193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3224160" y="32558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600120" y="5470560"/>
            <a:ext cx="1808280" cy="314280"/>
            <a:chOff x="600120" y="5470560"/>
            <a:chExt cx="1808280" cy="314280"/>
          </a:xfrm>
        </p:grpSpPr>
        <p:sp>
          <p:nvSpPr>
            <p:cNvPr id="534" name=""/>
            <p:cNvSpPr/>
            <p:nvPr/>
          </p:nvSpPr>
          <p:spPr>
            <a:xfrm>
              <a:off x="600120" y="547056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2318400" y="549720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0920" y="549828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Text Box 18"/>
          <p:cNvSpPr/>
          <p:nvPr/>
        </p:nvSpPr>
        <p:spPr>
          <a:xfrm>
            <a:off x="660240" y="544824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538200" y="19810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1400" y="581976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92520" y="511812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95920" y="4290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900840" y="346392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730600" y="4672080"/>
            <a:ext cx="1807920" cy="312840"/>
            <a:chOff x="2730600" y="4672080"/>
            <a:chExt cx="1807920" cy="312840"/>
          </a:xfrm>
        </p:grpSpPr>
        <p:sp>
          <p:nvSpPr>
            <p:cNvPr id="544" name=""/>
            <p:cNvSpPr/>
            <p:nvPr/>
          </p:nvSpPr>
          <p:spPr>
            <a:xfrm>
              <a:off x="2730600" y="467208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4448520" y="469836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1400" y="4699800"/>
              <a:ext cx="802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18"/>
          <p:cNvSpPr/>
          <p:nvPr/>
        </p:nvSpPr>
        <p:spPr>
          <a:xfrm>
            <a:off x="2787480" y="464976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761000" y="3859200"/>
            <a:ext cx="1807920" cy="314280"/>
            <a:chOff x="4761000" y="3859200"/>
            <a:chExt cx="1807920" cy="314280"/>
          </a:xfrm>
        </p:grpSpPr>
        <p:sp>
          <p:nvSpPr>
            <p:cNvPr id="549" name=""/>
            <p:cNvSpPr/>
            <p:nvPr/>
          </p:nvSpPr>
          <p:spPr>
            <a:xfrm>
              <a:off x="4761000" y="38592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478920" y="388584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71800" y="388692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18"/>
          <p:cNvSpPr/>
          <p:nvPr/>
        </p:nvSpPr>
        <p:spPr>
          <a:xfrm>
            <a:off x="4867200" y="383688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78520" y="3068640"/>
            <a:ext cx="1808280" cy="314280"/>
            <a:chOff x="6878520" y="3068640"/>
            <a:chExt cx="1808280" cy="314280"/>
          </a:xfrm>
        </p:grpSpPr>
        <p:sp>
          <p:nvSpPr>
            <p:cNvPr id="554" name=""/>
            <p:cNvSpPr/>
            <p:nvPr/>
          </p:nvSpPr>
          <p:spPr>
            <a:xfrm>
              <a:off x="6878520" y="30686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596800" y="309528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89320" y="309636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18"/>
          <p:cNvSpPr/>
          <p:nvPr/>
        </p:nvSpPr>
        <p:spPr>
          <a:xfrm>
            <a:off x="6969240" y="304632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fc3d7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621240" y="2587680"/>
            <a:ext cx="4760640" cy="2414880"/>
            <a:chOff x="3621240" y="2587680"/>
            <a:chExt cx="4760640" cy="2414880"/>
          </a:xfrm>
        </p:grpSpPr>
        <p:sp>
          <p:nvSpPr>
            <p:cNvPr id="561" name=""/>
            <p:cNvSpPr/>
            <p:nvPr/>
          </p:nvSpPr>
          <p:spPr>
            <a:xfrm>
              <a:off x="3621240" y="25876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21240" y="29930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21240" y="33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21240" y="37922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21240" y="41860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21240" y="45914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21240" y="50022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196440" y="2328840"/>
            <a:ext cx="636480" cy="2670480"/>
            <a:chOff x="3196440" y="2328840"/>
            <a:chExt cx="636480" cy="2670480"/>
          </a:xfrm>
        </p:grpSpPr>
        <p:sp>
          <p:nvSpPr>
            <p:cNvPr id="569" name=""/>
            <p:cNvSpPr/>
            <p:nvPr/>
          </p:nvSpPr>
          <p:spPr>
            <a:xfrm>
              <a:off x="3226320" y="46922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20560" y="43182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20560" y="38916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96440" y="3485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96440" y="3110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96440" y="26838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96440" y="2328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22520" y="56516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731960" y="5197320"/>
            <a:ext cx="6478560" cy="792000"/>
            <a:chOff x="1731960" y="5197320"/>
            <a:chExt cx="6478560" cy="792000"/>
          </a:xfrm>
        </p:grpSpPr>
        <p:sp>
          <p:nvSpPr>
            <p:cNvPr id="578" name=""/>
            <p:cNvSpPr/>
            <p:nvPr/>
          </p:nvSpPr>
          <p:spPr>
            <a:xfrm flipV="1">
              <a:off x="1731960" y="57391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901960" y="5197320"/>
              <a:ext cx="5308560" cy="792000"/>
              <a:chOff x="2901960" y="5197320"/>
              <a:chExt cx="5308560" cy="792000"/>
            </a:xfrm>
          </p:grpSpPr>
          <p:sp>
            <p:nvSpPr>
              <p:cNvPr id="580" name=""/>
              <p:cNvSpPr/>
              <p:nvPr/>
            </p:nvSpPr>
            <p:spPr>
              <a:xfrm flipV="1">
                <a:off x="2901960" y="52164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799160" y="52401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657760" y="53827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6581880" y="54255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497720" y="54529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867120" y="51973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386160" y="26352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bedef">
                  <a:alpha val="80000"/>
                </a:srgbClr>
              </a:gs>
              <a:gs pos="100000">
                <a:srgbClr val="e4526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01840" y="3882960"/>
            <a:ext cx="464040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fce2b3">
                  <a:alpha val="90196"/>
                </a:srgbClr>
              </a:gs>
              <a:gs pos="100000">
                <a:srgbClr val="faa71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71840" y="57276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89480" y="5835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280120" y="5911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92720" y="59878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18280" y="60642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0400" y="33465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25880" y="45529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195800" y="32749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faa71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75360" y="214632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e4526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54160" y="4241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54160" y="46576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2640" y="241308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2640" y="401328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97040" y="4699080"/>
            <a:ext cx="314280" cy="330120"/>
          </a:xfrm>
          <a:prstGeom prst="ellipse">
            <a:avLst/>
          </a:prstGeom>
          <a:gradFill rotWithShape="0">
            <a:gsLst>
              <a:gs pos="0">
                <a:srgbClr val="e45267"/>
              </a:gs>
              <a:gs pos="100000">
                <a:srgbClr val="97364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90560" y="4272120"/>
            <a:ext cx="314280" cy="330120"/>
          </a:xfrm>
          <a:prstGeom prst="ellipse">
            <a:avLst/>
          </a:prstGeom>
          <a:gradFill rotWithShape="0">
            <a:gsLst>
              <a:gs pos="0">
                <a:srgbClr val="faa712"/>
              </a:gs>
              <a:gs pos="100000">
                <a:srgbClr val="a66e0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105520" y="4533840"/>
            <a:ext cx="3809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 is a </a:t>
            </a:r>
            <a:r>
              <a:rPr b="1" lang="en-US" sz="2000" spc="-1" strike="noStrike">
                <a:solidFill>
                  <a:srgbClr val="fee002"/>
                </a:solidFill>
                <a:latin typeface="Arial"/>
              </a:rPr>
              <a:t>Design Digital Content &amp; Contents m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367240" y="2048040"/>
            <a:ext cx="2831760" cy="2376360"/>
            <a:chOff x="5367240" y="2048040"/>
            <a:chExt cx="2831760" cy="2376360"/>
          </a:xfrm>
        </p:grpSpPr>
        <p:sp>
          <p:nvSpPr>
            <p:cNvPr id="606" name=""/>
            <p:cNvSpPr/>
            <p:nvPr/>
          </p:nvSpPr>
          <p:spPr>
            <a:xfrm flipH="1">
              <a:off x="6634800" y="3710160"/>
              <a:ext cx="1335240" cy="685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52880" y="3540240"/>
              <a:ext cx="1400400" cy="66348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67240" y="3862440"/>
              <a:ext cx="1187280" cy="56196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113160" y="2048040"/>
              <a:ext cx="2085840" cy="2364840"/>
              <a:chOff x="6113160" y="2048040"/>
              <a:chExt cx="2085840" cy="236484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7529400" y="2686320"/>
                <a:ext cx="669600" cy="16909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711840" y="2048040"/>
                <a:ext cx="842400" cy="21272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cfc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112800" y="2721600"/>
                <a:ext cx="669240" cy="1691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8c8c8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2449440" y="238608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aa712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462040" y="36925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e4526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49440" y="497664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5fc3d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31800" y="5432400"/>
            <a:ext cx="4051440" cy="914400"/>
            <a:chOff x="631800" y="5432400"/>
            <a:chExt cx="4051440" cy="914400"/>
          </a:xfrm>
        </p:grpSpPr>
        <p:sp>
          <p:nvSpPr>
            <p:cNvPr id="617" name=""/>
            <p:cNvSpPr/>
            <p:nvPr/>
          </p:nvSpPr>
          <p:spPr>
            <a:xfrm>
              <a:off x="631800" y="543240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2960" y="5441760"/>
              <a:ext cx="4025880" cy="416160"/>
            </a:xfrm>
            <a:prstGeom prst="rect">
              <a:avLst/>
            </a:prstGeom>
            <a:solidFill>
              <a:srgbClr val="79c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4400" y="583884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79ce24"/>
                </a:gs>
                <a:gs pos="100000">
                  <a:srgbClr val="ace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012680" y="596592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42960" y="2820960"/>
            <a:ext cx="4051440" cy="914400"/>
            <a:chOff x="642960" y="2820960"/>
            <a:chExt cx="4051440" cy="914400"/>
          </a:xfrm>
        </p:grpSpPr>
        <p:sp>
          <p:nvSpPr>
            <p:cNvPr id="622" name=""/>
            <p:cNvSpPr/>
            <p:nvPr/>
          </p:nvSpPr>
          <p:spPr>
            <a:xfrm>
              <a:off x="642960" y="282096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4120" y="2830320"/>
              <a:ext cx="4025880" cy="425520"/>
            </a:xfrm>
            <a:prstGeom prst="rect">
              <a:avLst/>
            </a:prstGeom>
            <a:solidFill>
              <a:srgbClr val="e452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5560" y="322740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e45267"/>
                </a:gs>
                <a:gs pos="100000">
                  <a:srgbClr val="ed94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1011240" y="33400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30360" y="4105440"/>
            <a:ext cx="4051080" cy="914400"/>
            <a:chOff x="630360" y="4105440"/>
            <a:chExt cx="4051080" cy="914400"/>
          </a:xfrm>
        </p:grpSpPr>
        <p:sp>
          <p:nvSpPr>
            <p:cNvPr id="627" name=""/>
            <p:cNvSpPr/>
            <p:nvPr/>
          </p:nvSpPr>
          <p:spPr>
            <a:xfrm>
              <a:off x="630360" y="410544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2320" y="4114800"/>
              <a:ext cx="4014360" cy="416160"/>
            </a:xfrm>
            <a:prstGeom prst="rect">
              <a:avLst/>
            </a:prstGeom>
            <a:solidFill>
              <a:srgbClr val="5fc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2600" y="451188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5fc3d7"/>
                </a:gs>
                <a:gs pos="100000">
                  <a:srgbClr val="9cd9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1011240" y="4630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55840" y="544032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87520" y="28144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87520" y="40831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30360" y="1474920"/>
            <a:ext cx="4051080" cy="914400"/>
            <a:chOff x="630360" y="1474920"/>
            <a:chExt cx="4051080" cy="914400"/>
          </a:xfrm>
        </p:grpSpPr>
        <p:sp>
          <p:nvSpPr>
            <p:cNvPr id="635" name=""/>
            <p:cNvSpPr/>
            <p:nvPr/>
          </p:nvSpPr>
          <p:spPr>
            <a:xfrm>
              <a:off x="630360" y="14749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0520" y="1484280"/>
              <a:ext cx="4016160" cy="416160"/>
            </a:xfrm>
            <a:prstGeom prst="rect">
              <a:avLst/>
            </a:prstGeom>
            <a:solidFill>
              <a:srgbClr val="faa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2600" y="188136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aa712"/>
                </a:gs>
                <a:gs pos="100000">
                  <a:srgbClr val="fac8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011240" y="199692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87520" y="14479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84520"/>
            <a:ext cx="701064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119560"/>
            <a:ext cx="63244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mage :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opena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940040" y="4105440"/>
            <a:ext cx="5056200" cy="923760"/>
            <a:chOff x="1940040" y="4105440"/>
            <a:chExt cx="5056200" cy="923760"/>
          </a:xfrm>
        </p:grpSpPr>
        <p:sp>
          <p:nvSpPr>
            <p:cNvPr id="642" name=""/>
            <p:cNvSpPr/>
            <p:nvPr/>
          </p:nvSpPr>
          <p:spPr>
            <a:xfrm>
              <a:off x="1940040" y="410544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808d"/>
                </a:gs>
                <a:gs pos="100000">
                  <a:srgbClr val="5fc3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70080" y="50245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79800" y="4105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014560" y="5295960"/>
            <a:ext cx="5084640" cy="923760"/>
            <a:chOff x="2014560" y="5295960"/>
            <a:chExt cx="5084640" cy="923760"/>
          </a:xfrm>
        </p:grpSpPr>
        <p:sp>
          <p:nvSpPr>
            <p:cNvPr id="646" name=""/>
            <p:cNvSpPr/>
            <p:nvPr/>
          </p:nvSpPr>
          <p:spPr>
            <a:xfrm>
              <a:off x="2014560" y="529596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9636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8400" y="62150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62160" y="52959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014560" y="2914560"/>
            <a:ext cx="5084640" cy="923760"/>
            <a:chOff x="2014560" y="2914560"/>
            <a:chExt cx="5084640" cy="923760"/>
          </a:xfrm>
        </p:grpSpPr>
        <p:sp>
          <p:nvSpPr>
            <p:cNvPr id="650" name=""/>
            <p:cNvSpPr/>
            <p:nvPr/>
          </p:nvSpPr>
          <p:spPr>
            <a:xfrm>
              <a:off x="2014560" y="291456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4f87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79800" y="38336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8400" y="29178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920960" y="1752480"/>
            <a:ext cx="5027400" cy="923760"/>
            <a:chOff x="1920960" y="1752480"/>
            <a:chExt cx="5027400" cy="923760"/>
          </a:xfrm>
        </p:grpSpPr>
        <p:sp>
          <p:nvSpPr>
            <p:cNvPr id="654" name=""/>
            <p:cNvSpPr/>
            <p:nvPr/>
          </p:nvSpPr>
          <p:spPr>
            <a:xfrm>
              <a:off x="1920960" y="1752480"/>
              <a:ext cx="50274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e0b"/>
                </a:gs>
                <a:gs pos="100000">
                  <a:srgbClr val="faa7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38040" y="26762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38040" y="175572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 Box 4"/>
          <p:cNvSpPr/>
          <p:nvPr/>
        </p:nvSpPr>
        <p:spPr>
          <a:xfrm>
            <a:off x="2228760" y="191448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2187720" y="30607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2228760" y="428472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25"/>
          <p:cNvSpPr/>
          <p:nvPr/>
        </p:nvSpPr>
        <p:spPr>
          <a:xfrm>
            <a:off x="2187720" y="54529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Group 5"/>
          <p:cNvGrpSpPr/>
          <p:nvPr/>
        </p:nvGrpSpPr>
        <p:grpSpPr>
          <a:xfrm>
            <a:off x="1104840" y="1690560"/>
            <a:ext cx="1238400" cy="1236960"/>
            <a:chOff x="1104840" y="1690560"/>
            <a:chExt cx="1238400" cy="1236960"/>
          </a:xfrm>
        </p:grpSpPr>
        <p:sp>
          <p:nvSpPr>
            <p:cNvPr id="662" name="Oval 6"/>
            <p:cNvSpPr/>
            <p:nvPr/>
          </p:nvSpPr>
          <p:spPr>
            <a:xfrm>
              <a:off x="1104840" y="1690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aa7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>
              <a:off x="1155600" y="1741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faa712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>
              <a:off x="1206360" y="1795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faa712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5" name="Text Box 9"/>
          <p:cNvSpPr/>
          <p:nvPr/>
        </p:nvSpPr>
        <p:spPr>
          <a:xfrm>
            <a:off x="1176480" y="20080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Group 12"/>
          <p:cNvGrpSpPr/>
          <p:nvPr/>
        </p:nvGrpSpPr>
        <p:grpSpPr>
          <a:xfrm>
            <a:off x="6686640" y="2733840"/>
            <a:ext cx="1238040" cy="1236600"/>
            <a:chOff x="6686640" y="2733840"/>
            <a:chExt cx="1238040" cy="1236600"/>
          </a:xfrm>
        </p:grpSpPr>
        <p:sp>
          <p:nvSpPr>
            <p:cNvPr id="667" name="Oval 13"/>
            <p:cNvSpPr/>
            <p:nvPr/>
          </p:nvSpPr>
          <p:spPr>
            <a:xfrm>
              <a:off x="6686640" y="2733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79ce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4"/>
            <p:cNvSpPr/>
            <p:nvPr/>
          </p:nvSpPr>
          <p:spPr>
            <a:xfrm>
              <a:off x="6737400" y="278460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79ce24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5"/>
            <p:cNvSpPr/>
            <p:nvPr/>
          </p:nvSpPr>
          <p:spPr>
            <a:xfrm>
              <a:off x="6788160" y="283860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79ce24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Text Box 16"/>
          <p:cNvSpPr/>
          <p:nvPr/>
        </p:nvSpPr>
        <p:spPr>
          <a:xfrm>
            <a:off x="6757920" y="30430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19"/>
          <p:cNvGrpSpPr/>
          <p:nvPr/>
        </p:nvGrpSpPr>
        <p:grpSpPr>
          <a:xfrm>
            <a:off x="1095480" y="3954600"/>
            <a:ext cx="1238040" cy="1236600"/>
            <a:chOff x="1095480" y="3954600"/>
            <a:chExt cx="1238040" cy="1236600"/>
          </a:xfrm>
        </p:grpSpPr>
        <p:sp>
          <p:nvSpPr>
            <p:cNvPr id="672" name="Oval 20"/>
            <p:cNvSpPr/>
            <p:nvPr/>
          </p:nvSpPr>
          <p:spPr>
            <a:xfrm>
              <a:off x="1095480" y="395460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5fc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21"/>
            <p:cNvSpPr/>
            <p:nvPr/>
          </p:nvSpPr>
          <p:spPr>
            <a:xfrm>
              <a:off x="1146240" y="400536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5fc3d7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22"/>
            <p:cNvSpPr/>
            <p:nvPr/>
          </p:nvSpPr>
          <p:spPr>
            <a:xfrm>
              <a:off x="1197000" y="405936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5fc3d7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Text Box 23"/>
          <p:cNvSpPr/>
          <p:nvPr/>
        </p:nvSpPr>
        <p:spPr>
          <a:xfrm>
            <a:off x="1166760" y="42544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26"/>
          <p:cNvGrpSpPr/>
          <p:nvPr/>
        </p:nvGrpSpPr>
        <p:grpSpPr>
          <a:xfrm>
            <a:off x="6686640" y="5114880"/>
            <a:ext cx="1238040" cy="1236600"/>
            <a:chOff x="6686640" y="5114880"/>
            <a:chExt cx="1238040" cy="1236600"/>
          </a:xfrm>
        </p:grpSpPr>
        <p:sp>
          <p:nvSpPr>
            <p:cNvPr id="677" name="Oval 27"/>
            <p:cNvSpPr/>
            <p:nvPr/>
          </p:nvSpPr>
          <p:spPr>
            <a:xfrm>
              <a:off x="6686640" y="511488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45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28"/>
            <p:cNvSpPr/>
            <p:nvPr/>
          </p:nvSpPr>
          <p:spPr>
            <a:xfrm>
              <a:off x="6737400" y="516564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e45267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29"/>
            <p:cNvSpPr/>
            <p:nvPr/>
          </p:nvSpPr>
          <p:spPr>
            <a:xfrm>
              <a:off x="6788160" y="521964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e45267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Text Box 30"/>
          <p:cNvSpPr/>
          <p:nvPr/>
        </p:nvSpPr>
        <p:spPr>
          <a:xfrm>
            <a:off x="6757920" y="54230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608760" y="20480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79ce24"/>
              </a:gs>
              <a:gs pos="100000">
                <a:srgbClr val="548f19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911320" y="20480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45267"/>
              </a:gs>
              <a:gs pos="100000">
                <a:srgbClr val="b5415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406224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bd7e0d"/>
              </a:gs>
              <a:gs pos="100000">
                <a:srgbClr val="faa71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894760" y="40384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3e808d"/>
              </a:gs>
              <a:gs pos="100000">
                <a:srgbClr val="5fc3d7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52480" y="2865600"/>
            <a:ext cx="2081160" cy="208260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1080" y="245124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62240" y="245124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9000" y="50022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162240" y="50022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21040" y="3324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24440" y="3324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21040" y="4267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24440" y="4267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5121360" y="3038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meGallery is 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413080" y="368460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a712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332240" y="36194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aa712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731480" y="368460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a712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905120" y="2611440"/>
            <a:ext cx="1361160" cy="1321560"/>
            <a:chOff x="1905120" y="2611440"/>
            <a:chExt cx="1361160" cy="1321560"/>
          </a:xfrm>
        </p:grpSpPr>
        <p:sp>
          <p:nvSpPr>
            <p:cNvPr id="700" name=""/>
            <p:cNvSpPr/>
            <p:nvPr/>
          </p:nvSpPr>
          <p:spPr>
            <a:xfrm>
              <a:off x="1905120" y="2611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548f1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90800" y="2697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e693"/>
                </a:gs>
                <a:gs pos="50000">
                  <a:srgbClr val="79ce24">
                    <a:alpha val="0"/>
                  </a:srgbClr>
                </a:gs>
                <a:gs pos="100000">
                  <a:srgbClr val="bde6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998720" y="28972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830760" y="2611440"/>
            <a:ext cx="1361160" cy="1321560"/>
            <a:chOff x="3830760" y="2611440"/>
            <a:chExt cx="1361160" cy="1321560"/>
          </a:xfrm>
        </p:grpSpPr>
        <p:sp>
          <p:nvSpPr>
            <p:cNvPr id="704" name=""/>
            <p:cNvSpPr/>
            <p:nvPr/>
          </p:nvSpPr>
          <p:spPr>
            <a:xfrm>
              <a:off x="3830760" y="2611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9e39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16440" y="2697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0aab4"/>
                </a:gs>
                <a:gs pos="50000">
                  <a:srgbClr val="e45267">
                    <a:alpha val="0"/>
                  </a:srgbClr>
                </a:gs>
                <a:gs pos="100000">
                  <a:srgbClr val="f0aab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800680" y="2620800"/>
            <a:ext cx="1361520" cy="1321920"/>
            <a:chOff x="5800680" y="2620800"/>
            <a:chExt cx="1361520" cy="1321920"/>
          </a:xfrm>
        </p:grpSpPr>
        <p:sp>
          <p:nvSpPr>
            <p:cNvPr id="707" name=""/>
            <p:cNvSpPr/>
            <p:nvPr/>
          </p:nvSpPr>
          <p:spPr>
            <a:xfrm>
              <a:off x="5800680" y="26208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fc3d7"/>
                </a:gs>
                <a:gs pos="100000">
                  <a:srgbClr val="42879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86360" y="27064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0e0ea"/>
                </a:gs>
                <a:gs pos="50000">
                  <a:srgbClr val="5fc3d7">
                    <a:alpha val="0"/>
                  </a:srgbClr>
                </a:gs>
                <a:gs pos="100000">
                  <a:srgbClr val="b0e0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879720" y="28972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80240" y="290664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168768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79680" y="527220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79ce24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70040" y="542772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441972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5fa21c"/>
              </a:gs>
              <a:gs pos="100000">
                <a:srgbClr val="79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584520" y="3790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63480" y="484812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18"/>
          <p:cNvSpPr/>
          <p:nvPr/>
        </p:nvSpPr>
        <p:spPr>
          <a:xfrm>
            <a:off x="106524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704880" y="492588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20574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ad740c"/>
              </a:gs>
              <a:gs pos="100000">
                <a:srgbClr val="faa7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3480" y="24861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8"/>
          <p:cNvSpPr/>
          <p:nvPr/>
        </p:nvSpPr>
        <p:spPr>
          <a:xfrm>
            <a:off x="106524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704880" y="2563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441972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4a99a9"/>
              </a:gs>
              <a:gs pos="100000">
                <a:srgbClr val="5fc3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99760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8"/>
          <p:cNvSpPr/>
          <p:nvPr/>
        </p:nvSpPr>
        <p:spPr>
          <a:xfrm>
            <a:off x="639936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6039000" y="49258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20574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34051"/>
              </a:gs>
              <a:gs pos="100000">
                <a:srgbClr val="e452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997600" y="2486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639936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6039000" y="25639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87400" y="2258640"/>
            <a:ext cx="3636000" cy="3620160"/>
            <a:chOff x="2687400" y="2258640"/>
            <a:chExt cx="3636000" cy="3620160"/>
          </a:xfrm>
        </p:grpSpPr>
        <p:sp>
          <p:nvSpPr>
            <p:cNvPr id="734" name=""/>
            <p:cNvSpPr/>
            <p:nvPr/>
          </p:nvSpPr>
          <p:spPr>
            <a:xfrm rot="6774000">
              <a:off x="3152160" y="280980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5fc3d7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2174000">
              <a:off x="3095640" y="279180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79ce24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7574600">
              <a:off x="3192480" y="268596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faa712"/>
                </a:gs>
                <a:gs pos="100000">
                  <a:srgbClr val="0f0a01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74000">
              <a:off x="3235320" y="274320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45267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15920" y="2590920"/>
            <a:ext cx="706140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159600" y="29512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fc3d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45000" y="29512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aa71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33640" y="29512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4526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19040" y="29512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79ce2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244520" y="167652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324080" y="5299200"/>
            <a:ext cx="1553760" cy="704880"/>
            <a:chOff x="1324080" y="5299200"/>
            <a:chExt cx="1553760" cy="704880"/>
          </a:xfrm>
        </p:grpSpPr>
        <p:sp>
          <p:nvSpPr>
            <p:cNvPr id="746" name=""/>
            <p:cNvSpPr/>
            <p:nvPr/>
          </p:nvSpPr>
          <p:spPr>
            <a:xfrm>
              <a:off x="1324080" y="52992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5160" y="5300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2943360" y="5299200"/>
            <a:ext cx="1553760" cy="704880"/>
            <a:chOff x="2943360" y="5299200"/>
            <a:chExt cx="1553760" cy="704880"/>
          </a:xfrm>
        </p:grpSpPr>
        <p:sp>
          <p:nvSpPr>
            <p:cNvPr id="749" name=""/>
            <p:cNvSpPr/>
            <p:nvPr/>
          </p:nvSpPr>
          <p:spPr>
            <a:xfrm>
              <a:off x="2943360" y="52992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34658"/>
                </a:gs>
                <a:gs pos="100000">
                  <a:srgbClr val="e4526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44440" y="5300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ee97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560840" y="5299200"/>
            <a:ext cx="1553760" cy="704880"/>
            <a:chOff x="4560840" y="5299200"/>
            <a:chExt cx="1553760" cy="704880"/>
          </a:xfrm>
        </p:grpSpPr>
        <p:sp>
          <p:nvSpPr>
            <p:cNvPr id="752" name=""/>
            <p:cNvSpPr/>
            <p:nvPr/>
          </p:nvSpPr>
          <p:spPr>
            <a:xfrm>
              <a:off x="4560840" y="52992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58e0f"/>
                </a:gs>
                <a:gs pos="100000">
                  <a:srgbClr val="faa71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61920" y="5300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aa712"/>
                </a:gs>
                <a:gs pos="100000">
                  <a:srgbClr val="fbca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176880" y="5299200"/>
            <a:ext cx="1553760" cy="704880"/>
            <a:chOff x="6176880" y="5299200"/>
            <a:chExt cx="1553760" cy="704880"/>
          </a:xfrm>
        </p:grpSpPr>
        <p:sp>
          <p:nvSpPr>
            <p:cNvPr id="755" name=""/>
            <p:cNvSpPr/>
            <p:nvPr/>
          </p:nvSpPr>
          <p:spPr>
            <a:xfrm>
              <a:off x="6176880" y="52992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1a6b7"/>
                </a:gs>
                <a:gs pos="100000">
                  <a:srgbClr val="5fc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7960" y="5300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fc3d7"/>
                </a:gs>
                <a:gs pos="100000">
                  <a:srgbClr val="9ad8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411200" y="3112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25800" y="31129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6520" y="31129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31129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41360" y="52912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59200" y="52912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581360" y="52912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80120" y="52912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327320" y="5105520"/>
            <a:ext cx="1550520" cy="153720"/>
            <a:chOff x="1327320" y="5105520"/>
            <a:chExt cx="1550520" cy="153720"/>
          </a:xfrm>
        </p:grpSpPr>
        <p:sp>
          <p:nvSpPr>
            <p:cNvPr id="766" name=""/>
            <p:cNvSpPr/>
            <p:nvPr/>
          </p:nvSpPr>
          <p:spPr>
            <a:xfrm>
              <a:off x="1327320" y="5105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8400" y="5105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327320" y="4951440"/>
            <a:ext cx="1550520" cy="152280"/>
            <a:chOff x="1327320" y="4951440"/>
            <a:chExt cx="1550520" cy="152280"/>
          </a:xfrm>
        </p:grpSpPr>
        <p:sp>
          <p:nvSpPr>
            <p:cNvPr id="769" name=""/>
            <p:cNvSpPr/>
            <p:nvPr/>
          </p:nvSpPr>
          <p:spPr>
            <a:xfrm>
              <a:off x="1327320" y="49514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28400" y="49514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327320" y="4764240"/>
            <a:ext cx="1550520" cy="153720"/>
            <a:chOff x="1327320" y="4764240"/>
            <a:chExt cx="1550520" cy="153720"/>
          </a:xfrm>
        </p:grpSpPr>
        <p:sp>
          <p:nvSpPr>
            <p:cNvPr id="772" name=""/>
            <p:cNvSpPr/>
            <p:nvPr/>
          </p:nvSpPr>
          <p:spPr>
            <a:xfrm>
              <a:off x="1327320" y="47642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28400" y="47642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327320" y="4576680"/>
            <a:ext cx="1550520" cy="154080"/>
            <a:chOff x="1327320" y="4576680"/>
            <a:chExt cx="1550520" cy="154080"/>
          </a:xfrm>
        </p:grpSpPr>
        <p:sp>
          <p:nvSpPr>
            <p:cNvPr id="775" name=""/>
            <p:cNvSpPr/>
            <p:nvPr/>
          </p:nvSpPr>
          <p:spPr>
            <a:xfrm>
              <a:off x="1327320" y="45766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28400" y="45766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327320" y="4394160"/>
            <a:ext cx="1550520" cy="154080"/>
            <a:chOff x="1327320" y="4394160"/>
            <a:chExt cx="1550520" cy="154080"/>
          </a:xfrm>
        </p:grpSpPr>
        <p:sp>
          <p:nvSpPr>
            <p:cNvPr id="778" name=""/>
            <p:cNvSpPr/>
            <p:nvPr/>
          </p:nvSpPr>
          <p:spPr>
            <a:xfrm>
              <a:off x="1327320" y="4394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28400" y="4394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327320" y="4206960"/>
            <a:ext cx="1550520" cy="154080"/>
            <a:chOff x="1327320" y="4206960"/>
            <a:chExt cx="1550520" cy="154080"/>
          </a:xfrm>
        </p:grpSpPr>
        <p:sp>
          <p:nvSpPr>
            <p:cNvPr id="781" name=""/>
            <p:cNvSpPr/>
            <p:nvPr/>
          </p:nvSpPr>
          <p:spPr>
            <a:xfrm>
              <a:off x="1327320" y="420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28400" y="420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327320" y="4019400"/>
            <a:ext cx="1550520" cy="154080"/>
            <a:chOff x="1327320" y="4019400"/>
            <a:chExt cx="1550520" cy="154080"/>
          </a:xfrm>
        </p:grpSpPr>
        <p:sp>
          <p:nvSpPr>
            <p:cNvPr id="784" name=""/>
            <p:cNvSpPr/>
            <p:nvPr/>
          </p:nvSpPr>
          <p:spPr>
            <a:xfrm>
              <a:off x="1327320" y="4019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28400" y="4019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1327320" y="3833640"/>
            <a:ext cx="1550520" cy="154080"/>
            <a:chOff x="1327320" y="3833640"/>
            <a:chExt cx="1550520" cy="154080"/>
          </a:xfrm>
        </p:grpSpPr>
        <p:sp>
          <p:nvSpPr>
            <p:cNvPr id="787" name=""/>
            <p:cNvSpPr/>
            <p:nvPr/>
          </p:nvSpPr>
          <p:spPr>
            <a:xfrm>
              <a:off x="1327320" y="3833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7b01e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28400" y="3833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ce24"/>
                </a:gs>
                <a:gs pos="100000">
                  <a:srgbClr val="a1d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951280" y="5105520"/>
            <a:ext cx="1550520" cy="153720"/>
            <a:chOff x="2951280" y="5105520"/>
            <a:chExt cx="1550520" cy="153720"/>
          </a:xfrm>
        </p:grpSpPr>
        <p:sp>
          <p:nvSpPr>
            <p:cNvPr id="790" name=""/>
            <p:cNvSpPr/>
            <p:nvPr/>
          </p:nvSpPr>
          <p:spPr>
            <a:xfrm>
              <a:off x="2951280" y="5105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e4526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52360" y="5105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eb86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951280" y="4951440"/>
            <a:ext cx="1550520" cy="152280"/>
            <a:chOff x="2951280" y="4951440"/>
            <a:chExt cx="1550520" cy="152280"/>
          </a:xfrm>
        </p:grpSpPr>
        <p:sp>
          <p:nvSpPr>
            <p:cNvPr id="793" name=""/>
            <p:cNvSpPr/>
            <p:nvPr/>
          </p:nvSpPr>
          <p:spPr>
            <a:xfrm>
              <a:off x="2951280" y="49514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34658"/>
                </a:gs>
                <a:gs pos="100000">
                  <a:srgbClr val="e4526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52360" y="49514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eb86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552920" y="5105520"/>
            <a:ext cx="1549080" cy="153720"/>
            <a:chOff x="4552920" y="5105520"/>
            <a:chExt cx="1549080" cy="153720"/>
          </a:xfrm>
        </p:grpSpPr>
        <p:sp>
          <p:nvSpPr>
            <p:cNvPr id="796" name=""/>
            <p:cNvSpPr/>
            <p:nvPr/>
          </p:nvSpPr>
          <p:spPr>
            <a:xfrm>
              <a:off x="4552920" y="5105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faa71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54000" y="5105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a712"/>
                </a:gs>
                <a:gs pos="100000">
                  <a:srgbClr val="fac1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173640" y="5105520"/>
            <a:ext cx="1549080" cy="153720"/>
            <a:chOff x="6173640" y="5105520"/>
            <a:chExt cx="1549080" cy="153720"/>
          </a:xfrm>
        </p:grpSpPr>
        <p:sp>
          <p:nvSpPr>
            <p:cNvPr id="799" name=""/>
            <p:cNvSpPr/>
            <p:nvPr/>
          </p:nvSpPr>
          <p:spPr>
            <a:xfrm>
              <a:off x="6173640" y="5105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a6b7"/>
                </a:gs>
                <a:gs pos="100000">
                  <a:srgbClr val="5fc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74720" y="5105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c3d7"/>
                </a:gs>
                <a:gs pos="100000">
                  <a:srgbClr val="8fd4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951280" y="4765680"/>
            <a:ext cx="1550520" cy="152280"/>
            <a:chOff x="2951280" y="4765680"/>
            <a:chExt cx="1550520" cy="152280"/>
          </a:xfrm>
        </p:grpSpPr>
        <p:sp>
          <p:nvSpPr>
            <p:cNvPr id="802" name=""/>
            <p:cNvSpPr/>
            <p:nvPr/>
          </p:nvSpPr>
          <p:spPr>
            <a:xfrm>
              <a:off x="2951280" y="47656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34658"/>
                </a:gs>
                <a:gs pos="100000">
                  <a:srgbClr val="e4526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952360" y="47656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eb86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2951280" y="4587840"/>
            <a:ext cx="1550520" cy="152280"/>
            <a:chOff x="2951280" y="4587840"/>
            <a:chExt cx="1550520" cy="152280"/>
          </a:xfrm>
        </p:grpSpPr>
        <p:sp>
          <p:nvSpPr>
            <p:cNvPr id="805" name=""/>
            <p:cNvSpPr/>
            <p:nvPr/>
          </p:nvSpPr>
          <p:spPr>
            <a:xfrm>
              <a:off x="2951280" y="4587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34658"/>
                </a:gs>
                <a:gs pos="100000">
                  <a:srgbClr val="e4526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52360" y="4587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eb86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1280" y="4402080"/>
            <a:ext cx="1550520" cy="152280"/>
            <a:chOff x="2951280" y="4402080"/>
            <a:chExt cx="1550520" cy="152280"/>
          </a:xfrm>
        </p:grpSpPr>
        <p:sp>
          <p:nvSpPr>
            <p:cNvPr id="808" name=""/>
            <p:cNvSpPr/>
            <p:nvPr/>
          </p:nvSpPr>
          <p:spPr>
            <a:xfrm>
              <a:off x="2951280" y="44020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34658"/>
                </a:gs>
                <a:gs pos="100000">
                  <a:srgbClr val="e4526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2360" y="4402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45267"/>
                </a:gs>
                <a:gs pos="100000">
                  <a:srgbClr val="eb86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552920" y="4950000"/>
            <a:ext cx="1549080" cy="153720"/>
            <a:chOff x="4552920" y="4950000"/>
            <a:chExt cx="1549080" cy="153720"/>
          </a:xfrm>
        </p:grpSpPr>
        <p:sp>
          <p:nvSpPr>
            <p:cNvPr id="811" name=""/>
            <p:cNvSpPr/>
            <p:nvPr/>
          </p:nvSpPr>
          <p:spPr>
            <a:xfrm>
              <a:off x="4552920" y="49500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faa71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54000" y="49500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a712"/>
                </a:gs>
                <a:gs pos="100000">
                  <a:srgbClr val="fac1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4552920" y="4764240"/>
            <a:ext cx="1549080" cy="153720"/>
            <a:chOff x="4552920" y="4764240"/>
            <a:chExt cx="1549080" cy="153720"/>
          </a:xfrm>
        </p:grpSpPr>
        <p:sp>
          <p:nvSpPr>
            <p:cNvPr id="814" name=""/>
            <p:cNvSpPr/>
            <p:nvPr/>
          </p:nvSpPr>
          <p:spPr>
            <a:xfrm>
              <a:off x="4552920" y="476424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faa71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54000" y="47642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a712"/>
                </a:gs>
                <a:gs pos="100000">
                  <a:srgbClr val="fac1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6173640" y="4941720"/>
            <a:ext cx="1549080" cy="154080"/>
            <a:chOff x="6173640" y="4941720"/>
            <a:chExt cx="1549080" cy="154080"/>
          </a:xfrm>
        </p:grpSpPr>
        <p:sp>
          <p:nvSpPr>
            <p:cNvPr id="817" name=""/>
            <p:cNvSpPr/>
            <p:nvPr/>
          </p:nvSpPr>
          <p:spPr>
            <a:xfrm>
              <a:off x="6173640" y="49417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a6b7"/>
                </a:gs>
                <a:gs pos="100000">
                  <a:srgbClr val="5fc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74720" y="49417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c3d7"/>
                </a:gs>
                <a:gs pos="100000">
                  <a:srgbClr val="8fd4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533520" y="2514600"/>
            <a:ext cx="8001000" cy="3276720"/>
          </a:xfrm>
          <a:prstGeom prst="roundRect">
            <a:avLst>
              <a:gd name="adj" fmla="val 4657"/>
            </a:avLst>
          </a:prstGeom>
          <a:solidFill>
            <a:srgbClr val="000000">
              <a:alpha val="39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4735440"/>
            <a:ext cx="3886200" cy="750960"/>
          </a:xfrm>
          <a:prstGeom prst="rect">
            <a:avLst/>
          </a:prstGeom>
          <a:gradFill rotWithShape="0">
            <a:gsLst>
              <a:gs pos="0">
                <a:srgbClr val="5fc3d7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3520" y="3668760"/>
            <a:ext cx="3886200" cy="750960"/>
          </a:xfrm>
          <a:prstGeom prst="rect">
            <a:avLst/>
          </a:prstGeom>
          <a:gradFill rotWithShape="0">
            <a:gsLst>
              <a:gs pos="0">
                <a:srgbClr val="e45267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2700360"/>
            <a:ext cx="3886200" cy="750960"/>
          </a:xfrm>
          <a:prstGeom prst="rect">
            <a:avLst/>
          </a:prstGeom>
          <a:gradFill rotWithShape="0">
            <a:gsLst>
              <a:gs pos="0">
                <a:srgbClr val="79ce24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62120" y="274320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37018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62120" y="474336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102360" y="37576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26240" y="40514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29120" y="3857760"/>
            <a:ext cx="1260720" cy="1602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929120" y="4141800"/>
            <a:ext cx="1836720" cy="169920"/>
          </a:xfrm>
          <a:prstGeom prst="rect">
            <a:avLst/>
          </a:prstGeom>
          <a:solidFill>
            <a:srgbClr val="e45267"/>
          </a:solidFill>
          <a:ln w="0">
            <a:noFill/>
          </a:ln>
          <a:effectLst>
            <a:outerShdw dist="17819" dir="2700000" blurRad="0" rotWithShape="0">
              <a:srgbClr val="8831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620120" y="47689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15200" y="50418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46760" y="4848120"/>
            <a:ext cx="270324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46760" y="5132520"/>
            <a:ext cx="2431800" cy="180720"/>
          </a:xfrm>
          <a:prstGeom prst="rect">
            <a:avLst/>
          </a:prstGeom>
          <a:solidFill>
            <a:srgbClr val="5fc3d7"/>
          </a:solidFill>
          <a:ln w="0">
            <a:noFill/>
          </a:ln>
          <a:effectLst>
            <a:outerShdw dist="17819" dir="2700000" blurRad="0" rotWithShape="0">
              <a:srgbClr val="3874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66000" y="28018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499520" y="30751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908600" y="2890800"/>
            <a:ext cx="2090520" cy="169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908600" y="3165480"/>
            <a:ext cx="2631960" cy="160200"/>
          </a:xfrm>
          <a:prstGeom prst="rect">
            <a:avLst/>
          </a:prstGeom>
          <a:solidFill>
            <a:srgbClr val="79ce24"/>
          </a:solidFill>
          <a:ln w="0">
            <a:noFill/>
          </a:ln>
          <a:effectLst>
            <a:outerShdw dist="17819" dir="2700000" blurRad="0" rotWithShape="0">
              <a:srgbClr val="487b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962520" y="2666880"/>
            <a:ext cx="822240" cy="819000"/>
            <a:chOff x="3962520" y="2666880"/>
            <a:chExt cx="822240" cy="819000"/>
          </a:xfrm>
        </p:grpSpPr>
        <p:sp>
          <p:nvSpPr>
            <p:cNvPr id="839" name=""/>
            <p:cNvSpPr/>
            <p:nvPr/>
          </p:nvSpPr>
          <p:spPr>
            <a:xfrm>
              <a:off x="3962520" y="2670120"/>
              <a:ext cx="822240" cy="815760"/>
            </a:xfrm>
            <a:prstGeom prst="ellipse">
              <a:avLst/>
            </a:prstGeom>
            <a:solidFill>
              <a:srgbClr val="79ce24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  <a:effectLst>
              <a:outerShdw dist="73964" dir="8936435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0" name="" descr=""/>
            <p:cNvPicPr/>
            <p:nvPr/>
          </p:nvPicPr>
          <p:blipFill>
            <a:blip r:embed="rId1"/>
            <a:stretch/>
          </p:blipFill>
          <p:spPr>
            <a:xfrm>
              <a:off x="3983040" y="26668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1" name=""/>
          <p:cNvSpPr/>
          <p:nvPr/>
        </p:nvSpPr>
        <p:spPr>
          <a:xfrm>
            <a:off x="3962520" y="3629160"/>
            <a:ext cx="822240" cy="815760"/>
          </a:xfrm>
          <a:prstGeom prst="ellipse">
            <a:avLst/>
          </a:prstGeom>
          <a:solidFill>
            <a:srgbClr val="e45267"/>
          </a:solidFill>
          <a:ln w="28440">
            <a:solidFill>
              <a:srgbClr val="f8f8f8">
                <a:alpha val="67000"/>
              </a:srgbClr>
            </a:solidFill>
            <a:miter/>
          </a:ln>
          <a:effectLst>
            <a:outerShdw dist="91658" dir="878234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3983040" y="3625920"/>
            <a:ext cx="768240" cy="6112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3962520" y="4670280"/>
            <a:ext cx="822240" cy="816120"/>
          </a:xfrm>
          <a:prstGeom prst="ellipse">
            <a:avLst/>
          </a:prstGeom>
          <a:solidFill>
            <a:srgbClr val="5fc3d7"/>
          </a:solidFill>
          <a:ln w="28440">
            <a:solidFill>
              <a:srgbClr val="f8f8f8">
                <a:alpha val="67000"/>
              </a:srgbClr>
            </a:solidFill>
            <a:miter/>
          </a:ln>
          <a:effectLst>
            <a:outerShdw dist="81185" dir="84780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3983040" y="4667400"/>
            <a:ext cx="768240" cy="610920"/>
          </a:xfrm>
          <a:prstGeom prst="rect">
            <a:avLst/>
          </a:prstGeom>
          <a:ln w="0">
            <a:noFill/>
          </a:ln>
        </p:spPr>
      </p:pic>
      <p:grpSp>
        <p:nvGrpSpPr>
          <p:cNvPr id="845" name=""/>
          <p:cNvGrpSpPr/>
          <p:nvPr/>
        </p:nvGrpSpPr>
        <p:grpSpPr>
          <a:xfrm>
            <a:off x="4148280" y="2895480"/>
            <a:ext cx="450360" cy="339840"/>
            <a:chOff x="4148280" y="2895480"/>
            <a:chExt cx="450360" cy="339840"/>
          </a:xfrm>
        </p:grpSpPr>
        <p:sp>
          <p:nvSpPr>
            <p:cNvPr id="846" name=""/>
            <p:cNvSpPr/>
            <p:nvPr/>
          </p:nvSpPr>
          <p:spPr>
            <a:xfrm>
              <a:off x="4148280" y="2895480"/>
              <a:ext cx="225720" cy="33984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74000" y="2895480"/>
              <a:ext cx="224640" cy="33984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4151160" y="3836880"/>
            <a:ext cx="155880" cy="428760"/>
          </a:xfrm>
          <a:custGeom>
            <a:avLst/>
            <a:gdLst/>
            <a:ahLst/>
            <a:rect l="l" t="t" r="r" b="b"/>
            <a:pathLst>
              <a:path w="127" h="350">
                <a:moveTo>
                  <a:pt x="34" y="0"/>
                </a:moveTo>
                <a:lnTo>
                  <a:pt x="21" y="2"/>
                </a:lnTo>
                <a:lnTo>
                  <a:pt x="10" y="9"/>
                </a:lnTo>
                <a:lnTo>
                  <a:pt x="3" y="21"/>
                </a:lnTo>
                <a:lnTo>
                  <a:pt x="0" y="35"/>
                </a:lnTo>
                <a:lnTo>
                  <a:pt x="0" y="315"/>
                </a:lnTo>
                <a:lnTo>
                  <a:pt x="3" y="329"/>
                </a:lnTo>
                <a:lnTo>
                  <a:pt x="10" y="341"/>
                </a:lnTo>
                <a:lnTo>
                  <a:pt x="21" y="348"/>
                </a:lnTo>
                <a:lnTo>
                  <a:pt x="34" y="350"/>
                </a:lnTo>
                <a:lnTo>
                  <a:pt x="127" y="350"/>
                </a:lnTo>
                <a:lnTo>
                  <a:pt x="127" y="314"/>
                </a:lnTo>
                <a:lnTo>
                  <a:pt x="36" y="314"/>
                </a:lnTo>
                <a:lnTo>
                  <a:pt x="36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251240" y="3795840"/>
            <a:ext cx="319320" cy="469800"/>
          </a:xfrm>
          <a:custGeom>
            <a:avLst/>
            <a:gdLst/>
            <a:ahLst/>
            <a:rect l="l" t="t" r="r" b="b"/>
            <a:pathLst>
              <a:path w="260" h="384">
                <a:moveTo>
                  <a:pt x="225" y="384"/>
                </a:moveTo>
                <a:lnTo>
                  <a:pt x="239" y="382"/>
                </a:lnTo>
                <a:lnTo>
                  <a:pt x="249" y="375"/>
                </a:lnTo>
                <a:lnTo>
                  <a:pt x="257" y="363"/>
                </a:lnTo>
                <a:lnTo>
                  <a:pt x="260" y="349"/>
                </a:lnTo>
                <a:lnTo>
                  <a:pt x="260" y="34"/>
                </a:lnTo>
                <a:lnTo>
                  <a:pt x="257" y="21"/>
                </a:lnTo>
                <a:lnTo>
                  <a:pt x="249" y="10"/>
                </a:lnTo>
                <a:lnTo>
                  <a:pt x="239" y="3"/>
                </a:lnTo>
                <a:lnTo>
                  <a:pt x="225" y="0"/>
                </a:lnTo>
                <a:lnTo>
                  <a:pt x="63" y="0"/>
                </a:lnTo>
                <a:lnTo>
                  <a:pt x="57" y="1"/>
                </a:lnTo>
                <a:lnTo>
                  <a:pt x="53" y="3"/>
                </a:lnTo>
                <a:lnTo>
                  <a:pt x="48" y="7"/>
                </a:lnTo>
                <a:lnTo>
                  <a:pt x="47" y="12"/>
                </a:lnTo>
                <a:lnTo>
                  <a:pt x="45" y="18"/>
                </a:lnTo>
                <a:lnTo>
                  <a:pt x="45" y="118"/>
                </a:lnTo>
                <a:lnTo>
                  <a:pt x="44" y="123"/>
                </a:lnTo>
                <a:lnTo>
                  <a:pt x="39" y="133"/>
                </a:lnTo>
                <a:lnTo>
                  <a:pt x="33" y="145"/>
                </a:lnTo>
                <a:lnTo>
                  <a:pt x="26" y="160"/>
                </a:lnTo>
                <a:lnTo>
                  <a:pt x="18" y="175"/>
                </a:lnTo>
                <a:lnTo>
                  <a:pt x="12" y="190"/>
                </a:lnTo>
                <a:lnTo>
                  <a:pt x="6" y="202"/>
                </a:lnTo>
                <a:lnTo>
                  <a:pt x="3" y="210"/>
                </a:lnTo>
                <a:lnTo>
                  <a:pt x="2" y="213"/>
                </a:lnTo>
                <a:lnTo>
                  <a:pt x="0" y="217"/>
                </a:lnTo>
                <a:lnTo>
                  <a:pt x="0" y="220"/>
                </a:lnTo>
                <a:lnTo>
                  <a:pt x="0" y="226"/>
                </a:lnTo>
                <a:lnTo>
                  <a:pt x="2" y="231"/>
                </a:lnTo>
                <a:lnTo>
                  <a:pt x="6" y="235"/>
                </a:lnTo>
                <a:lnTo>
                  <a:pt x="12" y="238"/>
                </a:lnTo>
                <a:lnTo>
                  <a:pt x="18" y="238"/>
                </a:lnTo>
                <a:lnTo>
                  <a:pt x="21" y="238"/>
                </a:lnTo>
                <a:lnTo>
                  <a:pt x="32" y="238"/>
                </a:lnTo>
                <a:lnTo>
                  <a:pt x="45" y="238"/>
                </a:lnTo>
                <a:lnTo>
                  <a:pt x="45" y="384"/>
                </a:lnTo>
                <a:lnTo>
                  <a:pt x="225" y="384"/>
                </a:lnTo>
                <a:close/>
                <a:moveTo>
                  <a:pt x="224" y="348"/>
                </a:moveTo>
                <a:lnTo>
                  <a:pt x="81" y="348"/>
                </a:lnTo>
                <a:lnTo>
                  <a:pt x="81" y="334"/>
                </a:lnTo>
                <a:lnTo>
                  <a:pt x="81" y="316"/>
                </a:lnTo>
                <a:lnTo>
                  <a:pt x="81" y="295"/>
                </a:lnTo>
                <a:lnTo>
                  <a:pt x="81" y="274"/>
                </a:lnTo>
                <a:lnTo>
                  <a:pt x="81" y="253"/>
                </a:lnTo>
                <a:lnTo>
                  <a:pt x="81" y="237"/>
                </a:lnTo>
                <a:lnTo>
                  <a:pt x="81" y="225"/>
                </a:lnTo>
                <a:lnTo>
                  <a:pt x="81" y="220"/>
                </a:lnTo>
                <a:lnTo>
                  <a:pt x="81" y="216"/>
                </a:lnTo>
                <a:lnTo>
                  <a:pt x="78" y="211"/>
                </a:lnTo>
                <a:lnTo>
                  <a:pt x="77" y="208"/>
                </a:lnTo>
                <a:lnTo>
                  <a:pt x="72" y="205"/>
                </a:lnTo>
                <a:lnTo>
                  <a:pt x="68" y="204"/>
                </a:lnTo>
                <a:lnTo>
                  <a:pt x="63" y="202"/>
                </a:lnTo>
                <a:lnTo>
                  <a:pt x="62" y="202"/>
                </a:lnTo>
                <a:lnTo>
                  <a:pt x="60" y="202"/>
                </a:lnTo>
                <a:lnTo>
                  <a:pt x="56" y="202"/>
                </a:lnTo>
                <a:lnTo>
                  <a:pt x="51" y="202"/>
                </a:lnTo>
                <a:lnTo>
                  <a:pt x="45" y="202"/>
                </a:lnTo>
                <a:lnTo>
                  <a:pt x="53" y="187"/>
                </a:lnTo>
                <a:lnTo>
                  <a:pt x="60" y="171"/>
                </a:lnTo>
                <a:lnTo>
                  <a:pt x="68" y="156"/>
                </a:lnTo>
                <a:lnTo>
                  <a:pt x="74" y="142"/>
                </a:lnTo>
                <a:lnTo>
                  <a:pt x="78" y="133"/>
                </a:lnTo>
                <a:lnTo>
                  <a:pt x="80" y="130"/>
                </a:lnTo>
                <a:lnTo>
                  <a:pt x="81" y="126"/>
                </a:lnTo>
                <a:lnTo>
                  <a:pt x="81" y="123"/>
                </a:lnTo>
                <a:lnTo>
                  <a:pt x="81" y="118"/>
                </a:lnTo>
                <a:lnTo>
                  <a:pt x="81" y="106"/>
                </a:lnTo>
                <a:lnTo>
                  <a:pt x="81" y="88"/>
                </a:lnTo>
                <a:lnTo>
                  <a:pt x="81" y="70"/>
                </a:lnTo>
                <a:lnTo>
                  <a:pt x="81" y="52"/>
                </a:lnTo>
                <a:lnTo>
                  <a:pt x="81" y="36"/>
                </a:lnTo>
                <a:lnTo>
                  <a:pt x="224" y="36"/>
                </a:lnTo>
                <a:lnTo>
                  <a:pt x="224" y="3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371840" y="3921120"/>
            <a:ext cx="33480" cy="47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195800" y="3836880"/>
            <a:ext cx="11124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113360" y="4809960"/>
            <a:ext cx="533160" cy="533520"/>
          </a:xfrm>
          <a:custGeom>
            <a:avLst/>
            <a:gdLst/>
            <a:ahLst/>
            <a:rect l="l" t="t" r="r" b="b"/>
            <a:pathLst>
              <a:path w="339" h="339">
                <a:moveTo>
                  <a:pt x="170" y="0"/>
                </a:moveTo>
                <a:lnTo>
                  <a:pt x="131" y="5"/>
                </a:lnTo>
                <a:lnTo>
                  <a:pt x="95" y="17"/>
                </a:lnTo>
                <a:lnTo>
                  <a:pt x="63" y="38"/>
                </a:lnTo>
                <a:lnTo>
                  <a:pt x="38" y="63"/>
                </a:lnTo>
                <a:lnTo>
                  <a:pt x="18" y="95"/>
                </a:lnTo>
                <a:lnTo>
                  <a:pt x="5" y="131"/>
                </a:lnTo>
                <a:lnTo>
                  <a:pt x="0" y="170"/>
                </a:lnTo>
                <a:lnTo>
                  <a:pt x="5" y="209"/>
                </a:lnTo>
                <a:lnTo>
                  <a:pt x="18" y="245"/>
                </a:lnTo>
                <a:lnTo>
                  <a:pt x="38" y="276"/>
                </a:lnTo>
                <a:lnTo>
                  <a:pt x="63" y="302"/>
                </a:lnTo>
                <a:lnTo>
                  <a:pt x="95" y="323"/>
                </a:lnTo>
                <a:lnTo>
                  <a:pt x="131" y="335"/>
                </a:lnTo>
                <a:lnTo>
                  <a:pt x="170" y="339"/>
                </a:lnTo>
                <a:lnTo>
                  <a:pt x="209" y="335"/>
                </a:lnTo>
                <a:lnTo>
                  <a:pt x="245" y="323"/>
                </a:lnTo>
                <a:lnTo>
                  <a:pt x="276" y="302"/>
                </a:lnTo>
                <a:lnTo>
                  <a:pt x="303" y="276"/>
                </a:lnTo>
                <a:lnTo>
                  <a:pt x="323" y="245"/>
                </a:lnTo>
                <a:lnTo>
                  <a:pt x="335" y="209"/>
                </a:lnTo>
                <a:lnTo>
                  <a:pt x="339" y="170"/>
                </a:lnTo>
                <a:lnTo>
                  <a:pt x="335" y="131"/>
                </a:lnTo>
                <a:lnTo>
                  <a:pt x="323" y="95"/>
                </a:lnTo>
                <a:lnTo>
                  <a:pt x="303" y="63"/>
                </a:lnTo>
                <a:lnTo>
                  <a:pt x="276" y="38"/>
                </a:lnTo>
                <a:lnTo>
                  <a:pt x="245" y="17"/>
                </a:lnTo>
                <a:lnTo>
                  <a:pt x="209" y="5"/>
                </a:lnTo>
                <a:lnTo>
                  <a:pt x="170" y="0"/>
                </a:lnTo>
                <a:close/>
                <a:moveTo>
                  <a:pt x="170" y="294"/>
                </a:moveTo>
                <a:lnTo>
                  <a:pt x="137" y="291"/>
                </a:lnTo>
                <a:lnTo>
                  <a:pt x="107" y="278"/>
                </a:lnTo>
                <a:lnTo>
                  <a:pt x="81" y="258"/>
                </a:lnTo>
                <a:lnTo>
                  <a:pt x="62" y="233"/>
                </a:lnTo>
                <a:lnTo>
                  <a:pt x="50" y="203"/>
                </a:lnTo>
                <a:lnTo>
                  <a:pt x="45" y="170"/>
                </a:lnTo>
                <a:lnTo>
                  <a:pt x="50" y="137"/>
                </a:lnTo>
                <a:lnTo>
                  <a:pt x="62" y="107"/>
                </a:lnTo>
                <a:lnTo>
                  <a:pt x="81" y="81"/>
                </a:lnTo>
                <a:lnTo>
                  <a:pt x="107" y="62"/>
                </a:lnTo>
                <a:lnTo>
                  <a:pt x="137" y="48"/>
                </a:lnTo>
                <a:lnTo>
                  <a:pt x="170" y="44"/>
                </a:lnTo>
                <a:lnTo>
                  <a:pt x="203" y="48"/>
                </a:lnTo>
                <a:lnTo>
                  <a:pt x="233" y="62"/>
                </a:lnTo>
                <a:lnTo>
                  <a:pt x="258" y="81"/>
                </a:lnTo>
                <a:lnTo>
                  <a:pt x="278" y="107"/>
                </a:lnTo>
                <a:lnTo>
                  <a:pt x="291" y="137"/>
                </a:lnTo>
                <a:lnTo>
                  <a:pt x="296" y="170"/>
                </a:lnTo>
                <a:lnTo>
                  <a:pt x="291" y="203"/>
                </a:lnTo>
                <a:lnTo>
                  <a:pt x="278" y="233"/>
                </a:lnTo>
                <a:lnTo>
                  <a:pt x="258" y="258"/>
                </a:lnTo>
                <a:lnTo>
                  <a:pt x="233" y="278"/>
                </a:lnTo>
                <a:lnTo>
                  <a:pt x="203" y="291"/>
                </a:lnTo>
                <a:lnTo>
                  <a:pt x="17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48000" y="4978440"/>
            <a:ext cx="265320" cy="247680"/>
          </a:xfrm>
          <a:custGeom>
            <a:avLst/>
            <a:gdLst/>
            <a:ahLst/>
            <a:rect l="l" t="t" r="r" b="b"/>
            <a:pathLst>
              <a:path w="168" h="157">
                <a:moveTo>
                  <a:pt x="0" y="76"/>
                </a:moveTo>
                <a:lnTo>
                  <a:pt x="12" y="76"/>
                </a:lnTo>
                <a:lnTo>
                  <a:pt x="18" y="97"/>
                </a:lnTo>
                <a:lnTo>
                  <a:pt x="30" y="114"/>
                </a:lnTo>
                <a:lnTo>
                  <a:pt x="43" y="126"/>
                </a:lnTo>
                <a:lnTo>
                  <a:pt x="63" y="132"/>
                </a:lnTo>
                <a:lnTo>
                  <a:pt x="84" y="135"/>
                </a:lnTo>
                <a:lnTo>
                  <a:pt x="106" y="132"/>
                </a:lnTo>
                <a:lnTo>
                  <a:pt x="124" y="126"/>
                </a:lnTo>
                <a:lnTo>
                  <a:pt x="139" y="114"/>
                </a:lnTo>
                <a:lnTo>
                  <a:pt x="150" y="97"/>
                </a:lnTo>
                <a:lnTo>
                  <a:pt x="157" y="76"/>
                </a:lnTo>
                <a:lnTo>
                  <a:pt x="168" y="76"/>
                </a:lnTo>
                <a:lnTo>
                  <a:pt x="163" y="100"/>
                </a:lnTo>
                <a:lnTo>
                  <a:pt x="154" y="120"/>
                </a:lnTo>
                <a:lnTo>
                  <a:pt x="142" y="136"/>
                </a:lnTo>
                <a:lnTo>
                  <a:pt x="126" y="148"/>
                </a:lnTo>
                <a:lnTo>
                  <a:pt x="106" y="156"/>
                </a:lnTo>
                <a:lnTo>
                  <a:pt x="84" y="157"/>
                </a:lnTo>
                <a:lnTo>
                  <a:pt x="61" y="156"/>
                </a:lnTo>
                <a:lnTo>
                  <a:pt x="43" y="148"/>
                </a:lnTo>
                <a:lnTo>
                  <a:pt x="27" y="136"/>
                </a:lnTo>
                <a:lnTo>
                  <a:pt x="13" y="120"/>
                </a:lnTo>
                <a:lnTo>
                  <a:pt x="4" y="100"/>
                </a:lnTo>
                <a:lnTo>
                  <a:pt x="0" y="76"/>
                </a:lnTo>
                <a:close/>
                <a:moveTo>
                  <a:pt x="39" y="45"/>
                </a:moveTo>
                <a:lnTo>
                  <a:pt x="33" y="45"/>
                </a:lnTo>
                <a:lnTo>
                  <a:pt x="27" y="42"/>
                </a:lnTo>
                <a:lnTo>
                  <a:pt x="22" y="39"/>
                </a:lnTo>
                <a:lnTo>
                  <a:pt x="19" y="34"/>
                </a:lnTo>
                <a:lnTo>
                  <a:pt x="16" y="28"/>
                </a:lnTo>
                <a:lnTo>
                  <a:pt x="16" y="22"/>
                </a:lnTo>
                <a:lnTo>
                  <a:pt x="16" y="16"/>
                </a:lnTo>
                <a:lnTo>
                  <a:pt x="19" y="12"/>
                </a:lnTo>
                <a:lnTo>
                  <a:pt x="22" y="6"/>
                </a:lnTo>
                <a:lnTo>
                  <a:pt x="27" y="3"/>
                </a:lnTo>
                <a:lnTo>
                  <a:pt x="33" y="1"/>
                </a:lnTo>
                <a:lnTo>
                  <a:pt x="39" y="0"/>
                </a:lnTo>
                <a:lnTo>
                  <a:pt x="45" y="1"/>
                </a:lnTo>
                <a:lnTo>
                  <a:pt x="49" y="3"/>
                </a:lnTo>
                <a:lnTo>
                  <a:pt x="55" y="6"/>
                </a:lnTo>
                <a:lnTo>
                  <a:pt x="58" y="12"/>
                </a:lnTo>
                <a:lnTo>
                  <a:pt x="61" y="16"/>
                </a:lnTo>
                <a:lnTo>
                  <a:pt x="61" y="22"/>
                </a:lnTo>
                <a:lnTo>
                  <a:pt x="61" y="28"/>
                </a:lnTo>
                <a:lnTo>
                  <a:pt x="58" y="34"/>
                </a:lnTo>
                <a:lnTo>
                  <a:pt x="55" y="39"/>
                </a:lnTo>
                <a:lnTo>
                  <a:pt x="49" y="42"/>
                </a:lnTo>
                <a:lnTo>
                  <a:pt x="45" y="45"/>
                </a:lnTo>
                <a:lnTo>
                  <a:pt x="39" y="45"/>
                </a:lnTo>
                <a:close/>
                <a:moveTo>
                  <a:pt x="130" y="45"/>
                </a:moveTo>
                <a:lnTo>
                  <a:pt x="124" y="45"/>
                </a:lnTo>
                <a:lnTo>
                  <a:pt x="118" y="42"/>
                </a:lnTo>
                <a:lnTo>
                  <a:pt x="114" y="39"/>
                </a:lnTo>
                <a:lnTo>
                  <a:pt x="109" y="34"/>
                </a:lnTo>
                <a:lnTo>
                  <a:pt x="108" y="28"/>
                </a:lnTo>
                <a:lnTo>
                  <a:pt x="106" y="22"/>
                </a:lnTo>
                <a:lnTo>
                  <a:pt x="108" y="16"/>
                </a:lnTo>
                <a:lnTo>
                  <a:pt x="109" y="12"/>
                </a:lnTo>
                <a:lnTo>
                  <a:pt x="114" y="6"/>
                </a:lnTo>
                <a:lnTo>
                  <a:pt x="118" y="3"/>
                </a:lnTo>
                <a:lnTo>
                  <a:pt x="124" y="1"/>
                </a:lnTo>
                <a:lnTo>
                  <a:pt x="130" y="0"/>
                </a:lnTo>
                <a:lnTo>
                  <a:pt x="136" y="1"/>
                </a:lnTo>
                <a:lnTo>
                  <a:pt x="141" y="3"/>
                </a:lnTo>
                <a:lnTo>
                  <a:pt x="145" y="6"/>
                </a:lnTo>
                <a:lnTo>
                  <a:pt x="150" y="12"/>
                </a:lnTo>
                <a:lnTo>
                  <a:pt x="151" y="16"/>
                </a:lnTo>
                <a:lnTo>
                  <a:pt x="153" y="22"/>
                </a:lnTo>
                <a:lnTo>
                  <a:pt x="151" y="28"/>
                </a:lnTo>
                <a:lnTo>
                  <a:pt x="150" y="34"/>
                </a:lnTo>
                <a:lnTo>
                  <a:pt x="145" y="39"/>
                </a:lnTo>
                <a:lnTo>
                  <a:pt x="141" y="42"/>
                </a:lnTo>
                <a:lnTo>
                  <a:pt x="136" y="45"/>
                </a:lnTo>
                <a:lnTo>
                  <a:pt x="130" y="4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14400" y="1720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0" y="344484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572000" y="250200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533520" y="1905120"/>
            <a:ext cx="3809520" cy="466560"/>
            <a:chOff x="533520" y="1905120"/>
            <a:chExt cx="3809520" cy="466560"/>
          </a:xfrm>
        </p:grpSpPr>
        <p:sp>
          <p:nvSpPr>
            <p:cNvPr id="860" name=""/>
            <p:cNvSpPr/>
            <p:nvPr/>
          </p:nvSpPr>
          <p:spPr>
            <a:xfrm>
              <a:off x="533520" y="1905120"/>
              <a:ext cx="38095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153320" y="194472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6200" y="1946520"/>
              <a:ext cx="16956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Text Box 18"/>
          <p:cNvSpPr/>
          <p:nvPr/>
        </p:nvSpPr>
        <p:spPr>
          <a:xfrm>
            <a:off x="800280" y="1905120"/>
            <a:ext cx="30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5400000">
            <a:off x="4404600" y="2771640"/>
            <a:ext cx="346320" cy="345960"/>
          </a:xfrm>
          <a:prstGeom prst="ellipse">
            <a:avLst/>
          </a:prstGeom>
          <a:solidFill>
            <a:srgbClr val="5fc3d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rot="5400000">
            <a:off x="4404960" y="3714840"/>
            <a:ext cx="345960" cy="345960"/>
          </a:xfrm>
          <a:prstGeom prst="ellipse">
            <a:avLst/>
          </a:prstGeom>
          <a:solidFill>
            <a:srgbClr val="faa712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572000" y="532116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572000" y="437832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5400000">
            <a:off x="4404960" y="4648320"/>
            <a:ext cx="345960" cy="345960"/>
          </a:xfrm>
          <a:prstGeom prst="ellipse">
            <a:avLst/>
          </a:prstGeom>
          <a:solidFill>
            <a:srgbClr val="79ce24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5400000">
            <a:off x="4404960" y="5591160"/>
            <a:ext cx="345960" cy="345960"/>
          </a:xfrm>
          <a:prstGeom prst="ellipse">
            <a:avLst/>
          </a:prstGeom>
          <a:solidFill>
            <a:srgbClr val="e4526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876920" y="27147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4876920" y="351648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876920" y="45813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9"/>
          <p:cNvSpPr/>
          <p:nvPr/>
        </p:nvSpPr>
        <p:spPr>
          <a:xfrm>
            <a:off x="4876920" y="539280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2592360"/>
            <a:ext cx="3625560" cy="3625920"/>
          </a:xfrm>
          <a:prstGeom prst="ellipse">
            <a:avLst/>
          </a:prstGeom>
          <a:solidFill>
            <a:srgbClr val="5fc3d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82720" y="3359160"/>
            <a:ext cx="2927160" cy="2867040"/>
          </a:xfrm>
          <a:prstGeom prst="ellipse">
            <a:avLst/>
          </a:prstGeom>
          <a:solidFill>
            <a:srgbClr val="faa712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78000" y="4087800"/>
            <a:ext cx="2160360" cy="2139840"/>
          </a:xfrm>
          <a:prstGeom prst="ellipse">
            <a:avLst/>
          </a:prstGeom>
          <a:solidFill>
            <a:srgbClr val="79ce24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28640" y="4781520"/>
            <a:ext cx="1484280" cy="1452600"/>
          </a:xfrm>
          <a:prstGeom prst="ellipse">
            <a:avLst/>
          </a:prstGeom>
          <a:solidFill>
            <a:srgbClr val="e4526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8"/>
          <p:cNvSpPr/>
          <p:nvPr/>
        </p:nvSpPr>
        <p:spPr>
          <a:xfrm>
            <a:off x="1501920" y="536724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 Box 18"/>
          <p:cNvSpPr/>
          <p:nvPr/>
        </p:nvSpPr>
        <p:spPr>
          <a:xfrm>
            <a:off x="1406520" y="434664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18"/>
          <p:cNvSpPr/>
          <p:nvPr/>
        </p:nvSpPr>
        <p:spPr>
          <a:xfrm>
            <a:off x="1406520" y="35542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18"/>
          <p:cNvSpPr/>
          <p:nvPr/>
        </p:nvSpPr>
        <p:spPr>
          <a:xfrm>
            <a:off x="1406520" y="27874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 flipV="1">
            <a:off x="2125800" y="394812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0636d"/>
              </a:gs>
              <a:gs pos="100000">
                <a:srgbClr val="5fc3d7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08640" y="2333520"/>
            <a:ext cx="228420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aa712"/>
              </a:gs>
              <a:gs pos="100000">
                <a:srgbClr val="cd880e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125800" y="2333520"/>
            <a:ext cx="228420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d7e0d"/>
              </a:gs>
              <a:gs pos="100000">
                <a:srgbClr val="faa712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319560" y="2322360"/>
            <a:ext cx="228420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6640a"/>
              </a:gs>
              <a:gs pos="100000">
                <a:srgbClr val="faa71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14880" y="3963960"/>
            <a:ext cx="228420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793a2"/>
              </a:gs>
              <a:gs pos="100000">
                <a:srgbClr val="5fc3d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505400" y="395676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fc3d7"/>
              </a:gs>
              <a:gs pos="100000">
                <a:srgbClr val="458d9c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838680" y="2413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52840" y="41767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991040" y="418608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838680" y="478476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85960" y="271620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324480" y="27338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66880" y="45514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2360" y="45687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971800" y="161136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1800" y="560700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652840" y="30067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91040" y="300672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610080" y="3363840"/>
            <a:ext cx="1652400" cy="1108080"/>
            <a:chOff x="3610080" y="3363840"/>
            <a:chExt cx="1652400" cy="1108080"/>
          </a:xfrm>
        </p:grpSpPr>
        <p:sp>
          <p:nvSpPr>
            <p:cNvPr id="901" name=""/>
            <p:cNvSpPr/>
            <p:nvPr/>
          </p:nvSpPr>
          <p:spPr>
            <a:xfrm>
              <a:off x="3610080" y="3363840"/>
              <a:ext cx="1652400" cy="1108080"/>
            </a:xfrm>
            <a:prstGeom prst="hexagon">
              <a:avLst>
                <a:gd name="adj" fmla="val 37281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53640" y="3390840"/>
              <a:ext cx="1553760" cy="1042200"/>
            </a:xfrm>
            <a:prstGeom prst="hexagon">
              <a:avLst>
                <a:gd name="adj" fmla="val 37271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809880" y="3532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ff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ff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14600" y="35434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9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506680" y="403236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9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84320" y="5334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9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ff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ff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2285640" y="4567320"/>
            <a:ext cx="4571280" cy="458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8080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ff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-2193480" y="4667400"/>
            <a:ext cx="4386960" cy="438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bbc63"/>
              </a:gs>
              <a:gs pos="100000">
                <a:srgbClr val="9388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-2115720" y="4700520"/>
            <a:ext cx="4276080" cy="42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3080" y="5583240"/>
            <a:ext cx="164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</a:rPr>
              <a:t>2008.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08440" y="3117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002"/>
                </a:solidFill>
                <a:latin typeface="Arial"/>
              </a:rPr>
              <a:t>2006 ~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24320" y="4392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002"/>
                </a:solidFill>
                <a:latin typeface="Arial"/>
              </a:rPr>
              <a:t>2005 ~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479840" y="54831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002"/>
                </a:solidFill>
                <a:latin typeface="Arial"/>
              </a:rPr>
              <a:t>2004 ~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926" name="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774880" y="203364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273480" y="3508200"/>
            <a:ext cx="128520" cy="128880"/>
            <a:chOff x="3273480" y="3508200"/>
            <a:chExt cx="128520" cy="128880"/>
          </a:xfrm>
        </p:grpSpPr>
        <p:sp>
          <p:nvSpPr>
            <p:cNvPr id="930" name=""/>
            <p:cNvSpPr/>
            <p:nvPr/>
          </p:nvSpPr>
          <p:spPr>
            <a:xfrm>
              <a:off x="3273480" y="3508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12360" y="3525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3411360" y="34210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3857760" y="4786200"/>
            <a:ext cx="128520" cy="128880"/>
            <a:chOff x="3857760" y="4786200"/>
            <a:chExt cx="128520" cy="128880"/>
          </a:xfrm>
        </p:grpSpPr>
        <p:sp>
          <p:nvSpPr>
            <p:cNvPr id="934" name=""/>
            <p:cNvSpPr/>
            <p:nvPr/>
          </p:nvSpPr>
          <p:spPr>
            <a:xfrm>
              <a:off x="3857760" y="4786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96640" y="4803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995640" y="46990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726080" y="5878440"/>
            <a:ext cx="128520" cy="128520"/>
            <a:chOff x="4726080" y="5878440"/>
            <a:chExt cx="128520" cy="128520"/>
          </a:xfrm>
        </p:grpSpPr>
        <p:sp>
          <p:nvSpPr>
            <p:cNvPr id="938" name=""/>
            <p:cNvSpPr/>
            <p:nvPr/>
          </p:nvSpPr>
          <p:spPr>
            <a:xfrm>
              <a:off x="4726080" y="58784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64960" y="58953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863960" y="579132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34960" y="3732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9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19520" y="63025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9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rot="20226600">
            <a:off x="3521160" y="539856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45267"/>
              </a:gs>
              <a:gs pos="100000">
                <a:srgbClr val="732934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523880" y="175248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ef2f6"/>
              </a:gs>
              <a:gs pos="100000">
                <a:srgbClr val="5fc3d7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7f0bf"/>
              </a:gs>
              <a:gs pos="100000">
                <a:srgbClr val="79ce24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4800"/>
              <a:gd name="textAreaBottom" fmla="*/ 379440 h 604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aa712"/>
              </a:gs>
              <a:gs pos="100000">
                <a:srgbClr val="c5830e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0" y="1495440"/>
            <a:ext cx="9144000" cy="53625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18243000">
            <a:off x="5594760" y="2556360"/>
            <a:ext cx="152100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 rot="12822000">
            <a:off x="2363400" y="3470760"/>
            <a:ext cx="1589040" cy="155592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741320" y="3201840"/>
            <a:ext cx="939960" cy="993960"/>
            <a:chOff x="1741320" y="3201840"/>
            <a:chExt cx="939960" cy="993960"/>
          </a:xfrm>
        </p:grpSpPr>
        <p:pic>
          <p:nvPicPr>
            <p:cNvPr id="952" name="" descr=""/>
            <p:cNvPicPr/>
            <p:nvPr/>
          </p:nvPicPr>
          <p:blipFill>
            <a:blip r:embed="rId1"/>
            <a:stretch/>
          </p:blipFill>
          <p:spPr>
            <a:xfrm>
              <a:off x="1830600" y="39812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2"/>
            <a:stretch/>
          </p:blipFill>
          <p:spPr>
            <a:xfrm>
              <a:off x="1741320" y="32018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"/>
            <p:cNvSpPr/>
            <p:nvPr/>
          </p:nvSpPr>
          <p:spPr>
            <a:xfrm>
              <a:off x="1741320" y="320184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37440" y="32202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d13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 rot="19693200">
            <a:off x="3641760" y="2292480"/>
            <a:ext cx="152064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862360" y="3075120"/>
            <a:ext cx="1216080" cy="1285560"/>
            <a:chOff x="2862360" y="3075120"/>
            <a:chExt cx="1216080" cy="1285560"/>
          </a:xfrm>
        </p:grpSpPr>
        <p:pic>
          <p:nvPicPr>
            <p:cNvPr id="958" name="" descr=""/>
            <p:cNvPicPr/>
            <p:nvPr/>
          </p:nvPicPr>
          <p:blipFill>
            <a:blip r:embed="rId3"/>
            <a:stretch/>
          </p:blipFill>
          <p:spPr>
            <a:xfrm>
              <a:off x="2977560" y="408312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4"/>
            <a:stretch/>
          </p:blipFill>
          <p:spPr>
            <a:xfrm>
              <a:off x="2862360" y="307512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2862360" y="3075120"/>
              <a:ext cx="1207800" cy="1189080"/>
            </a:xfrm>
            <a:prstGeom prst="ellipse">
              <a:avLst/>
            </a:prstGeom>
            <a:solidFill>
              <a:srgbClr val="faa712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86920" y="309924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a71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334120" y="5043600"/>
            <a:ext cx="3352680" cy="1295280"/>
          </a:xfrm>
          <a:prstGeom prst="roundRect">
            <a:avLst>
              <a:gd name="adj" fmla="val 50000"/>
            </a:avLst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564160" y="5283360"/>
            <a:ext cx="2914560" cy="834840"/>
            <a:chOff x="5564160" y="5283360"/>
            <a:chExt cx="2914560" cy="834840"/>
          </a:xfrm>
        </p:grpSpPr>
        <p:sp>
          <p:nvSpPr>
            <p:cNvPr id="964" name=""/>
            <p:cNvSpPr/>
            <p:nvPr/>
          </p:nvSpPr>
          <p:spPr>
            <a:xfrm>
              <a:off x="5564160" y="5283360"/>
              <a:ext cx="83520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19680" y="5283360"/>
              <a:ext cx="83520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643880" y="5283360"/>
              <a:ext cx="83484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402240" y="570852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570852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337800" y="4827600"/>
            <a:ext cx="1434240" cy="353520"/>
            <a:chOff x="6337800" y="4827600"/>
            <a:chExt cx="1434240" cy="353520"/>
          </a:xfrm>
        </p:grpSpPr>
        <p:sp>
          <p:nvSpPr>
            <p:cNvPr id="970" name=""/>
            <p:cNvSpPr/>
            <p:nvPr/>
          </p:nvSpPr>
          <p:spPr>
            <a:xfrm>
              <a:off x="6342120" y="482760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1" name=""/>
            <p:cNvGrpSpPr/>
            <p:nvPr/>
          </p:nvGrpSpPr>
          <p:grpSpPr>
            <a:xfrm>
              <a:off x="6337800" y="4878000"/>
              <a:ext cx="78120" cy="277920"/>
              <a:chOff x="6337800" y="4878000"/>
              <a:chExt cx="78120" cy="277920"/>
            </a:xfrm>
          </p:grpSpPr>
          <p:sp>
            <p:nvSpPr>
              <p:cNvPr id="972" name=""/>
              <p:cNvSpPr/>
              <p:nvPr/>
            </p:nvSpPr>
            <p:spPr>
              <a:xfrm flipV="1" rot="21333000">
                <a:off x="6347520" y="487944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 rot="21333000">
                <a:off x="6349680" y="489924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 rot="21333000">
                <a:off x="6348240" y="493056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7686000" y="4874040"/>
              <a:ext cx="86040" cy="293040"/>
              <a:chOff x="7686000" y="4874040"/>
              <a:chExt cx="86040" cy="293040"/>
            </a:xfrm>
          </p:grpSpPr>
          <p:sp>
            <p:nvSpPr>
              <p:cNvPr id="976" name=""/>
              <p:cNvSpPr/>
              <p:nvPr/>
            </p:nvSpPr>
            <p:spPr>
              <a:xfrm flipH="1" flipV="1" rot="267000">
                <a:off x="7696800" y="487584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 rot="267000">
                <a:off x="7716600" y="489780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 rot="267000">
                <a:off x="7732440" y="492912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9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933960" y="429624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0" name="" descr=""/>
          <p:cNvPicPr/>
          <p:nvPr/>
        </p:nvPicPr>
        <p:blipFill>
          <a:blip r:embed="rId6"/>
          <a:stretch/>
        </p:blipFill>
        <p:spPr>
          <a:xfrm>
            <a:off x="3543480" y="2619360"/>
            <a:ext cx="934920" cy="26028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7"/>
          <a:stretch/>
        </p:blipFill>
        <p:spPr>
          <a:xfrm>
            <a:off x="3435480" y="1676520"/>
            <a:ext cx="1136520" cy="11095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429000" y="1676520"/>
            <a:ext cx="1128600" cy="1112760"/>
          </a:xfrm>
          <a:prstGeom prst="ellipse">
            <a:avLst/>
          </a:prstGeom>
          <a:solidFill>
            <a:srgbClr val="79ce2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51400" y="1698480"/>
            <a:ext cx="888840" cy="3859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9ce2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826160" y="2071800"/>
            <a:ext cx="1215720" cy="1285560"/>
            <a:chOff x="4826160" y="2071800"/>
            <a:chExt cx="1215720" cy="1285560"/>
          </a:xfrm>
        </p:grpSpPr>
        <p:pic>
          <p:nvPicPr>
            <p:cNvPr id="985" name="" descr=""/>
            <p:cNvPicPr/>
            <p:nvPr/>
          </p:nvPicPr>
          <p:blipFill>
            <a:blip r:embed="rId8"/>
            <a:stretch/>
          </p:blipFill>
          <p:spPr>
            <a:xfrm>
              <a:off x="4941360" y="30798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9"/>
            <a:stretch/>
          </p:blipFill>
          <p:spPr>
            <a:xfrm>
              <a:off x="4826160" y="20718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4826160" y="2071800"/>
              <a:ext cx="1207440" cy="1189080"/>
            </a:xfrm>
            <a:prstGeom prst="ellipse">
              <a:avLst/>
            </a:prstGeom>
            <a:solidFill>
              <a:srgbClr val="e45267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50720" y="2095920"/>
              <a:ext cx="94932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526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394000" y="4229280"/>
            <a:ext cx="939600" cy="993600"/>
            <a:chOff x="2394000" y="4229280"/>
            <a:chExt cx="939600" cy="993600"/>
          </a:xfrm>
        </p:grpSpPr>
        <p:pic>
          <p:nvPicPr>
            <p:cNvPr id="990" name="" descr=""/>
            <p:cNvPicPr/>
            <p:nvPr/>
          </p:nvPicPr>
          <p:blipFill>
            <a:blip r:embed="rId10"/>
            <a:stretch/>
          </p:blipFill>
          <p:spPr>
            <a:xfrm>
              <a:off x="2483280" y="50083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11"/>
            <a:stretch/>
          </p:blipFill>
          <p:spPr>
            <a:xfrm>
              <a:off x="2394000" y="42292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2394000" y="4229280"/>
              <a:ext cx="93312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90120" y="424764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d13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703680" y="4208400"/>
            <a:ext cx="939600" cy="993960"/>
            <a:chOff x="3703680" y="4208400"/>
            <a:chExt cx="939600" cy="993960"/>
          </a:xfrm>
        </p:grpSpPr>
        <p:pic>
          <p:nvPicPr>
            <p:cNvPr id="995" name="" descr=""/>
            <p:cNvPicPr/>
            <p:nvPr/>
          </p:nvPicPr>
          <p:blipFill>
            <a:blip r:embed="rId12"/>
            <a:stretch/>
          </p:blipFill>
          <p:spPr>
            <a:xfrm>
              <a:off x="3792960" y="49878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3"/>
            <a:stretch/>
          </p:blipFill>
          <p:spPr>
            <a:xfrm>
              <a:off x="3703680" y="42084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3703680" y="420840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799800" y="422676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d13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373720" y="3386160"/>
            <a:ext cx="939600" cy="993600"/>
            <a:chOff x="5373720" y="3386160"/>
            <a:chExt cx="939600" cy="993600"/>
          </a:xfrm>
        </p:grpSpPr>
        <p:pic>
          <p:nvPicPr>
            <p:cNvPr id="1000" name="" descr=""/>
            <p:cNvPicPr/>
            <p:nvPr/>
          </p:nvPicPr>
          <p:blipFill>
            <a:blip r:embed="rId14"/>
            <a:stretch/>
          </p:blipFill>
          <p:spPr>
            <a:xfrm>
              <a:off x="5463000" y="41652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15"/>
            <a:stretch/>
          </p:blipFill>
          <p:spPr>
            <a:xfrm>
              <a:off x="5373720" y="33861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2" name=""/>
            <p:cNvSpPr/>
            <p:nvPr/>
          </p:nvSpPr>
          <p:spPr>
            <a:xfrm>
              <a:off x="5373720" y="3386160"/>
              <a:ext cx="93312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69840" y="340452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d13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6184800" y="2114640"/>
            <a:ext cx="939960" cy="993600"/>
            <a:chOff x="6184800" y="2114640"/>
            <a:chExt cx="939960" cy="993600"/>
          </a:xfrm>
        </p:grpSpPr>
        <p:pic>
          <p:nvPicPr>
            <p:cNvPr id="1005" name="" descr=""/>
            <p:cNvPicPr/>
            <p:nvPr/>
          </p:nvPicPr>
          <p:blipFill>
            <a:blip r:embed="rId16"/>
            <a:stretch/>
          </p:blipFill>
          <p:spPr>
            <a:xfrm>
              <a:off x="6274080" y="2893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17"/>
            <a:stretch/>
          </p:blipFill>
          <p:spPr>
            <a:xfrm>
              <a:off x="6184800" y="2114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6184800" y="21146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0920" y="21330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d13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2968560" y="3367080"/>
            <a:ext cx="99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946760" y="2378160"/>
            <a:ext cx="99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164280" y="23241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354640" y="35798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38440" y="34210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389320" y="446076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703680" y="44337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568840" y="546876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657840" y="546876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667640" y="547848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405480" y="487188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630240" y="2057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8600" y="380988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219320" y="525780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9000" y="52578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02520" y="40417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086600" y="27432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fc3d7"/>
                </a:solidFill>
                <a:uFillTx/>
                <a:latin typeface="Arial"/>
                <a:hlinkClick r:id="rId18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1143000" y="5379480"/>
            <a:ext cx="3306600" cy="4870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76720" y="5352480"/>
            <a:ext cx="3305160" cy="48564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47760" y="2432160"/>
            <a:ext cx="3106800" cy="3076560"/>
            <a:chOff x="1247760" y="2432160"/>
            <a:chExt cx="3106800" cy="3076560"/>
          </a:xfrm>
        </p:grpSpPr>
        <p:sp>
          <p:nvSpPr>
            <p:cNvPr id="101" name=""/>
            <p:cNvSpPr/>
            <p:nvPr/>
          </p:nvSpPr>
          <p:spPr>
            <a:xfrm>
              <a:off x="3857760" y="243540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2280" y="24321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7760" y="263052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9ce24"/>
                </a:gs>
                <a:gs pos="50000">
                  <a:srgbClr val="e0f3cd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47760" y="31640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9ce24"/>
                </a:gs>
                <a:gs pos="50000">
                  <a:srgbClr val="e0f3cd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7760" y="36975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9ce24"/>
                </a:gs>
                <a:gs pos="50000">
                  <a:srgbClr val="e0f3cd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7760" y="423072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9ce24"/>
                </a:gs>
                <a:gs pos="50000">
                  <a:srgbClr val="e0f3cd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7760" y="47642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9ce24"/>
                </a:gs>
                <a:gs pos="50000">
                  <a:srgbClr val="e0f3cd"/>
                </a:gs>
                <a:gs pos="100000">
                  <a:srgbClr val="79ce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3520" y="1295280"/>
            <a:ext cx="6553080" cy="866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33960" y="2427120"/>
            <a:ext cx="3191040" cy="3081240"/>
            <a:chOff x="5133960" y="2427120"/>
            <a:chExt cx="3191040" cy="3081240"/>
          </a:xfrm>
        </p:grpSpPr>
        <p:sp>
          <p:nvSpPr>
            <p:cNvPr id="110" name=""/>
            <p:cNvSpPr/>
            <p:nvPr/>
          </p:nvSpPr>
          <p:spPr>
            <a:xfrm>
              <a:off x="7864560" y="24271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72000" y="24350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33960" y="263520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faa712"/>
                </a:gs>
                <a:gs pos="50000">
                  <a:srgbClr val="fdedd0"/>
                </a:gs>
                <a:gs pos="100000">
                  <a:srgbClr val="faa7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33960" y="316836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faa712"/>
                </a:gs>
                <a:gs pos="50000">
                  <a:srgbClr val="fdedd0"/>
                </a:gs>
                <a:gs pos="100000">
                  <a:srgbClr val="faa7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3960" y="370188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faa712"/>
                </a:gs>
                <a:gs pos="50000">
                  <a:srgbClr val="fdedd0"/>
                </a:gs>
                <a:gs pos="100000">
                  <a:srgbClr val="faa7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3960" y="423540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faa712"/>
                </a:gs>
                <a:gs pos="50000">
                  <a:srgbClr val="fdedd0"/>
                </a:gs>
                <a:gs pos="100000">
                  <a:srgbClr val="faa7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33960" y="476856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faa712"/>
                </a:gs>
                <a:gs pos="50000">
                  <a:srgbClr val="fdedd0"/>
                </a:gs>
                <a:gs pos="100000">
                  <a:srgbClr val="faa7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 in 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09600" y="5438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0440" y="5398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fc3d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D1A-EA8E-41B8-963B-F35956BAA0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304920" y="2743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9ce24"/>
                </a:solidFill>
                <a:latin typeface="Arial"/>
              </a:rPr>
              <a:t>Your company slogan in here</a:t>
            </a:r>
            <a:endParaRPr b="0" lang="en-US" sz="2200" spc="-1" strike="noStrike">
              <a:solidFill>
                <a:srgbClr val="79ce2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9ce24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304920" y="130644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19920" y="2743200"/>
            <a:ext cx="1800000" cy="1711440"/>
            <a:chOff x="6019920" y="2743200"/>
            <a:chExt cx="1800000" cy="1711440"/>
          </a:xfrm>
        </p:grpSpPr>
        <p:sp>
          <p:nvSpPr>
            <p:cNvPr id="122" name=""/>
            <p:cNvSpPr/>
            <p:nvPr/>
          </p:nvSpPr>
          <p:spPr>
            <a:xfrm>
              <a:off x="6019920" y="2743200"/>
              <a:ext cx="1800000" cy="1711440"/>
            </a:xfrm>
            <a:prstGeom prst="ellipse">
              <a:avLst/>
            </a:prstGeom>
            <a:gradFill rotWithShape="0">
              <a:gsLst>
                <a:gs pos="0">
                  <a:srgbClr val="372504">
                    <a:alpha val="71372"/>
                  </a:srgbClr>
                </a:gs>
                <a:gs pos="50000">
                  <a:srgbClr val="faa712">
                    <a:alpha val="80000"/>
                  </a:srgbClr>
                </a:gs>
                <a:gs pos="100000">
                  <a:srgbClr val="372504">
                    <a:alpha val="71372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91560" y="2749680"/>
              <a:ext cx="165996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092280" y="3609000"/>
              <a:ext cx="165996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3400560" y="4038480"/>
            <a:ext cx="2185920" cy="2186280"/>
          </a:xfrm>
          <a:prstGeom prst="ellipse">
            <a:avLst/>
          </a:prstGeom>
          <a:gradFill rotWithShape="0">
            <a:gsLst>
              <a:gs pos="0">
                <a:srgbClr val="1e3d44">
                  <a:alpha val="71372"/>
                </a:srgbClr>
              </a:gs>
              <a:gs pos="50000">
                <a:srgbClr val="5fc3d7">
                  <a:alpha val="80000"/>
                </a:srgbClr>
              </a:gs>
              <a:gs pos="100000">
                <a:srgbClr val="1e3d44">
                  <a:alpha val="7137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87680" y="4046400"/>
            <a:ext cx="2016360" cy="106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 flipH="1" rot="10800000">
            <a:off x="3489480" y="5145120"/>
            <a:ext cx="2014560" cy="106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9440" y="2243160"/>
            <a:ext cx="2901960" cy="2900520"/>
          </a:xfrm>
          <a:prstGeom prst="ellipse">
            <a:avLst/>
          </a:prstGeom>
          <a:gradFill rotWithShape="0">
            <a:gsLst>
              <a:gs pos="0">
                <a:srgbClr val="26410b"/>
              </a:gs>
              <a:gs pos="50000">
                <a:srgbClr val="79ce24">
                  <a:alpha val="80000"/>
                </a:srgbClr>
              </a:gs>
              <a:gs pos="100000">
                <a:srgbClr val="2641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65000" y="2254320"/>
            <a:ext cx="2676600" cy="1409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 flipH="1" rot="10800000">
            <a:off x="766800" y="3709800"/>
            <a:ext cx="2674800" cy="1409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089000" y="2870280"/>
            <a:ext cx="2079720" cy="13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974960"/>
            <a:ext cx="3416400" cy="32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14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Description of the contents</a:t>
            </a:r>
            <a:endParaRPr b="1" lang="en-US" sz="2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 rot="724200">
            <a:off x="3276720" y="4254480"/>
            <a:ext cx="2425680" cy="218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462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Description of the contents</a:t>
            </a:r>
            <a:endParaRPr b="1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3000" y="4740120"/>
            <a:ext cx="15411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47920"/>
            <a:ext cx="15415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 rot="18528600">
            <a:off x="5852880" y="2602080"/>
            <a:ext cx="2193840" cy="216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462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Description of the contents</a:t>
            </a:r>
            <a:endParaRPr b="1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572000" y="1676520"/>
            <a:ext cx="39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0" b="17663"/>
          <a:stretch/>
        </p:blipFill>
        <p:spPr>
          <a:xfrm>
            <a:off x="4025880" y="3481560"/>
            <a:ext cx="963720" cy="1776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92640" y="3328920"/>
            <a:ext cx="963720" cy="2157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380280" y="3124080"/>
            <a:ext cx="963360" cy="2514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589880" y="2766960"/>
            <a:ext cx="963720" cy="30574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403848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ce24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495760"/>
            <a:ext cx="93024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99240" y="5649840"/>
            <a:ext cx="930240" cy="2923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05720" y="464328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5fc3d7"/>
              </a:gs>
              <a:gs pos="50000">
                <a:srgbClr val="acdfe9"/>
              </a:gs>
              <a:gs pos="100000">
                <a:srgbClr val="5fc3d7"/>
              </a:gs>
            </a:gsLst>
            <a:lin ang="10800000"/>
          </a:gradFill>
          <a:ln w="9360">
            <a:solidFill>
              <a:srgbClr val="f8f8f8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46400" y="470376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e45267"/>
              </a:gs>
              <a:gs pos="50000">
                <a:srgbClr val="f0a6b0"/>
              </a:gs>
              <a:gs pos="100000">
                <a:srgbClr val="e452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0280" y="427356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79ce24"/>
              </a:gs>
              <a:gs pos="50000">
                <a:srgbClr val="b9e58e"/>
              </a:gs>
              <a:gs pos="100000">
                <a:srgbClr val="79ce2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96120" y="3830760"/>
            <a:ext cx="930240" cy="192240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faa712"/>
              </a:gs>
              <a:gs pos="50000">
                <a:srgbClr val="fbd185"/>
              </a:gs>
              <a:gs pos="100000">
                <a:srgbClr val="faa7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3240" y="487692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24400" y="452448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86480" y="410544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487692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74848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94680" y="5935680"/>
            <a:ext cx="154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027240"/>
            <a:ext cx="2006640" cy="31140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51460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676520"/>
            <a:ext cx="2057400" cy="33012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56092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537372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057400"/>
            <a:ext cx="206856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692400">
            <a:off x="2029320" y="2380680"/>
            <a:ext cx="4654800" cy="21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66880" y="5715000"/>
            <a:ext cx="3581280" cy="914400"/>
            <a:chOff x="2666880" y="5715000"/>
            <a:chExt cx="3581280" cy="914400"/>
          </a:xfrm>
        </p:grpSpPr>
        <p:pic>
          <p:nvPicPr>
            <p:cNvPr id="164" name="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666880" y="630108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"/>
            <p:cNvGrpSpPr/>
            <p:nvPr/>
          </p:nvGrpSpPr>
          <p:grpSpPr>
            <a:xfrm>
              <a:off x="2668320" y="5715000"/>
              <a:ext cx="3554640" cy="787320"/>
              <a:chOff x="2668320" y="5715000"/>
              <a:chExt cx="3554640" cy="787320"/>
            </a:xfrm>
          </p:grpSpPr>
          <p:sp>
            <p:nvSpPr>
              <p:cNvPr id="166" name=""/>
              <p:cNvSpPr/>
              <p:nvPr/>
            </p:nvSpPr>
            <p:spPr>
              <a:xfrm>
                <a:off x="2679120" y="571500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68320" y="571500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3505320" y="130500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5fc3d7"/>
              </a:gs>
              <a:gs pos="100000">
                <a:srgbClr val="366f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24240" y="2066760"/>
            <a:ext cx="409680" cy="393840"/>
            <a:chOff x="3324240" y="2066760"/>
            <a:chExt cx="409680" cy="39384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3324240" y="2066760"/>
              <a:ext cx="40968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324240" y="2066760"/>
              <a:ext cx="407160" cy="3938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3364200" y="207108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5305320" y="2496960"/>
            <a:ext cx="333360" cy="320760"/>
            <a:chOff x="5305320" y="2496960"/>
            <a:chExt cx="333360" cy="320760"/>
          </a:xfrm>
        </p:grpSpPr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05320" y="249696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305320" y="249696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5338800" y="250020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6083640" y="3137040"/>
            <a:ext cx="1072800" cy="1049400"/>
            <a:chOff x="6083640" y="3137040"/>
            <a:chExt cx="1072800" cy="104940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 rot="692400">
              <a:off x="6163200" y="3219480"/>
              <a:ext cx="91404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rot="692400">
              <a:off x="6162840" y="3218760"/>
              <a:ext cx="907560" cy="885600"/>
            </a:xfrm>
            <a:prstGeom prst="ellipse">
              <a:avLst/>
            </a:prstGeom>
            <a:gradFill rotWithShape="0">
              <a:gsLst>
                <a:gs pos="0">
                  <a:srgbClr val="e45267">
                    <a:alpha val="79215"/>
                  </a:srgbClr>
                </a:gs>
                <a:gs pos="50000">
                  <a:srgbClr val="69252f"/>
                </a:gs>
                <a:gs pos="100000">
                  <a:srgbClr val="e45267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 rot="692400">
              <a:off x="6308280" y="323208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1762200" y="2154240"/>
            <a:ext cx="983880" cy="952200"/>
            <a:chOff x="1762200" y="2154240"/>
            <a:chExt cx="983880" cy="952200"/>
          </a:xfrm>
        </p:grpSpPr>
        <p:pic>
          <p:nvPicPr>
            <p:cNvPr id="182" name="" descr=""/>
            <p:cNvPicPr/>
            <p:nvPr/>
          </p:nvPicPr>
          <p:blipFill>
            <a:blip r:embed="rId8"/>
            <a:stretch/>
          </p:blipFill>
          <p:spPr>
            <a:xfrm>
              <a:off x="1762200" y="215424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762200" y="215424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faa712">
                    <a:alpha val="80000"/>
                  </a:srgbClr>
                </a:gs>
                <a:gs pos="50000">
                  <a:srgbClr val="734c08"/>
                </a:gs>
                <a:gs pos="100000">
                  <a:srgbClr val="faa71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9"/>
            <a:stretch/>
          </p:blipFill>
          <p:spPr>
            <a:xfrm>
              <a:off x="1860120" y="216324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2147760" y="3427560"/>
            <a:ext cx="660600" cy="631800"/>
            <a:chOff x="2147760" y="3427560"/>
            <a:chExt cx="660600" cy="631800"/>
          </a:xfrm>
        </p:grpSpPr>
        <p:pic>
          <p:nvPicPr>
            <p:cNvPr id="186" name="" descr=""/>
            <p:cNvPicPr/>
            <p:nvPr/>
          </p:nvPicPr>
          <p:blipFill>
            <a:blip r:embed="rId10"/>
            <a:stretch/>
          </p:blipFill>
          <p:spPr>
            <a:xfrm>
              <a:off x="2147760" y="3427560"/>
              <a:ext cx="6606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147760" y="3427560"/>
              <a:ext cx="655560" cy="6318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1"/>
            <a:stretch/>
          </p:blipFill>
          <p:spPr>
            <a:xfrm>
              <a:off x="2213640" y="3433680"/>
              <a:ext cx="52200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3427560" y="3787920"/>
            <a:ext cx="1263240" cy="1221840"/>
            <a:chOff x="3427560" y="3787920"/>
            <a:chExt cx="1263240" cy="1221840"/>
          </a:xfrm>
        </p:grpSpPr>
        <p:pic>
          <p:nvPicPr>
            <p:cNvPr id="190" name="" descr=""/>
            <p:cNvPicPr/>
            <p:nvPr/>
          </p:nvPicPr>
          <p:blipFill>
            <a:blip r:embed="rId12"/>
            <a:stretch/>
          </p:blipFill>
          <p:spPr>
            <a:xfrm>
              <a:off x="3427560" y="378792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427560" y="3787920"/>
              <a:ext cx="1255320" cy="1221840"/>
            </a:xfrm>
            <a:prstGeom prst="ellipse">
              <a:avLst/>
            </a:prstGeom>
            <a:gradFill rotWithShape="0">
              <a:gsLst>
                <a:gs pos="0">
                  <a:srgbClr val="79ce24">
                    <a:alpha val="80000"/>
                  </a:srgbClr>
                </a:gs>
                <a:gs pos="50000">
                  <a:srgbClr val="487b15"/>
                </a:gs>
                <a:gs pos="100000">
                  <a:srgbClr val="79ce24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3"/>
            <a:stretch/>
          </p:blipFill>
          <p:spPr>
            <a:xfrm>
              <a:off x="3552480" y="379944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454720" y="4189320"/>
            <a:ext cx="660240" cy="635040"/>
            <a:chOff x="5454720" y="4189320"/>
            <a:chExt cx="660240" cy="635040"/>
          </a:xfrm>
        </p:grpSpPr>
        <p:pic>
          <p:nvPicPr>
            <p:cNvPr id="194" name="" descr=""/>
            <p:cNvPicPr/>
            <p:nvPr/>
          </p:nvPicPr>
          <p:blipFill>
            <a:blip r:embed="rId14"/>
            <a:stretch/>
          </p:blipFill>
          <p:spPr>
            <a:xfrm>
              <a:off x="5454720" y="4189320"/>
              <a:ext cx="6602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454720" y="4189320"/>
              <a:ext cx="655200" cy="6350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5"/>
            <a:stretch/>
          </p:blipFill>
          <p:spPr>
            <a:xfrm>
              <a:off x="5520600" y="4195440"/>
              <a:ext cx="52164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 rot="692400">
            <a:off x="2028960" y="2379960"/>
            <a:ext cx="4658760" cy="21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692400">
            <a:off x="2027880" y="2381040"/>
            <a:ext cx="465732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692400">
            <a:off x="2025000" y="2365560"/>
            <a:ext cx="4665240" cy="21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692400">
            <a:off x="2034720" y="2352240"/>
            <a:ext cx="466272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692400">
            <a:off x="1990800" y="2347200"/>
            <a:ext cx="466308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692400">
            <a:off x="2000880" y="2344680"/>
            <a:ext cx="4661280" cy="21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99720" y="2444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40320" y="4203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82720" y="3471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589120"/>
            <a:ext cx="1898640" cy="5446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027760"/>
            <a:ext cx="2371680" cy="54432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685880"/>
            <a:ext cx="1791000" cy="5446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fc3d7"/>
                </a:solidFill>
                <a:uFillTx/>
                <a:latin typeface="Arial"/>
                <a:hlinkClick r:id="rId16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07040" y="2989440"/>
            <a:ext cx="284940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faa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70400" y="305424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73080" y="2425680"/>
            <a:ext cx="2857320" cy="466560"/>
            <a:chOff x="973080" y="2425680"/>
            <a:chExt cx="2857320" cy="466560"/>
          </a:xfrm>
        </p:grpSpPr>
        <p:sp>
          <p:nvSpPr>
            <p:cNvPr id="215" name=""/>
            <p:cNvSpPr/>
            <p:nvPr/>
          </p:nvSpPr>
          <p:spPr>
            <a:xfrm>
              <a:off x="973080" y="242568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99a9"/>
                </a:gs>
                <a:gs pos="50000">
                  <a:srgbClr val="5fc3d7"/>
                </a:gs>
                <a:gs pos="100000">
                  <a:srgbClr val="4a99a9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687840" y="2495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3320" y="2495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2425680"/>
            <a:ext cx="2857320" cy="466560"/>
            <a:chOff x="5181480" y="2425680"/>
            <a:chExt cx="2857320" cy="466560"/>
          </a:xfrm>
        </p:grpSpPr>
        <p:sp>
          <p:nvSpPr>
            <p:cNvPr id="219" name=""/>
            <p:cNvSpPr/>
            <p:nvPr/>
          </p:nvSpPr>
          <p:spPr>
            <a:xfrm>
              <a:off x="5181480" y="242568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8e0f"/>
                </a:gs>
                <a:gs pos="50000">
                  <a:srgbClr val="faa712"/>
                </a:gs>
                <a:gs pos="100000">
                  <a:srgbClr val="d58e0f"/>
                </a:gs>
              </a:gsLst>
              <a:lin ang="10800000"/>
            </a:gradFill>
            <a:ln w="12600">
              <a:solidFill>
                <a:srgbClr val="faa712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896240" y="2495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1720" y="2495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73080" y="298944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fc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251000" y="245124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5513400" y="245124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 rot="10806000">
            <a:off x="3904920" y="353232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5fc3d7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50040" y="313056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a712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aa712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8880" y="44100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a712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aa712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34354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6562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38800" y="3200400"/>
            <a:ext cx="168120" cy="168120"/>
            <a:chOff x="5338800" y="3200400"/>
            <a:chExt cx="168120" cy="168120"/>
          </a:xfrm>
        </p:grpSpPr>
        <p:sp>
          <p:nvSpPr>
            <p:cNvPr id="231" name=""/>
            <p:cNvSpPr/>
            <p:nvPr/>
          </p:nvSpPr>
          <p:spPr>
            <a:xfrm>
              <a:off x="5338800" y="320040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52120" y="321444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ac668"/>
                </a:gs>
                <a:gs pos="100000">
                  <a:srgbClr val="faa7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338800" y="4491000"/>
            <a:ext cx="168120" cy="168480"/>
            <a:chOff x="5338800" y="4491000"/>
            <a:chExt cx="168120" cy="168480"/>
          </a:xfrm>
        </p:grpSpPr>
        <p:sp>
          <p:nvSpPr>
            <p:cNvPr id="234" name=""/>
            <p:cNvSpPr/>
            <p:nvPr/>
          </p:nvSpPr>
          <p:spPr>
            <a:xfrm>
              <a:off x="5338800" y="449100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52120" y="450504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fac668"/>
                </a:gs>
                <a:gs pos="100000">
                  <a:srgbClr val="faa7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125360" y="497988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9400" y="321624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5fc3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9400" y="3800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5fc3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9400" y="43610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5fc3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59480" y="32893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59480" y="3873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59480" y="44323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10794000">
            <a:off x="3809160" y="413892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gradFill rotWithShape="0">
            <a:gsLst>
              <a:gs pos="0">
                <a:srgbClr val="faa712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14400" y="1600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4680" y="586728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65720" y="586728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30520" y="2038320"/>
            <a:ext cx="3895560" cy="3895920"/>
          </a:xfrm>
          <a:prstGeom prst="ellipse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197160" y="2637000"/>
            <a:ext cx="2787840" cy="2778120"/>
            <a:chOff x="3197160" y="2637000"/>
            <a:chExt cx="2787840" cy="2778120"/>
          </a:xfrm>
        </p:grpSpPr>
        <p:sp>
          <p:nvSpPr>
            <p:cNvPr id="250" name=""/>
            <p:cNvSpPr/>
            <p:nvPr/>
          </p:nvSpPr>
          <p:spPr>
            <a:xfrm>
              <a:off x="3220560" y="2637000"/>
              <a:ext cx="276156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197160" y="2637000"/>
              <a:ext cx="2787840" cy="27781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9760" y="5813280"/>
            <a:ext cx="1695240" cy="44712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13720" y="3843360"/>
            <a:ext cx="1860480" cy="44712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8040" y="3800520"/>
            <a:ext cx="1947960" cy="447120"/>
          </a:xfrm>
          <a:prstGeom prst="roundRect">
            <a:avLst>
              <a:gd name="adj" fmla="val 18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38400" y="17082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09840" y="2747880"/>
            <a:ext cx="2489400" cy="2489400"/>
            <a:chOff x="3309840" y="2747880"/>
            <a:chExt cx="2489400" cy="2489400"/>
          </a:xfrm>
        </p:grpSpPr>
        <p:sp>
          <p:nvSpPr>
            <p:cNvPr id="257" name=""/>
            <p:cNvSpPr/>
            <p:nvPr/>
          </p:nvSpPr>
          <p:spPr>
            <a:xfrm>
              <a:off x="3309840" y="2747880"/>
              <a:ext cx="2489400" cy="24894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3408840" y="2757240"/>
              <a:ext cx="2295360" cy="12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3409920" y="4007160"/>
              <a:ext cx="2295360" cy="12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3689280" y="3579840"/>
            <a:ext cx="173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22880" y="2333520"/>
            <a:ext cx="444240" cy="325440"/>
          </a:xfrm>
          <a:prstGeom prst="upArrow">
            <a:avLst>
              <a:gd name="adj1" fmla="val 57861"/>
              <a:gd name="adj2" fmla="val 59514"/>
            </a:avLst>
          </a:prstGeom>
          <a:solidFill>
            <a:srgbClr val="e45267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56120" y="3814920"/>
            <a:ext cx="371520" cy="446040"/>
          </a:xfrm>
          <a:prstGeom prst="rightArrow">
            <a:avLst>
              <a:gd name="adj1" fmla="val 54861"/>
              <a:gd name="adj2" fmla="val 59167"/>
            </a:avLst>
          </a:prstGeom>
          <a:solidFill>
            <a:srgbClr val="5fc3d7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22880" y="5303880"/>
            <a:ext cx="465120" cy="368280"/>
          </a:xfrm>
          <a:prstGeom prst="downArrow">
            <a:avLst>
              <a:gd name="adj1" fmla="val 50167"/>
              <a:gd name="adj2" fmla="val 58051"/>
            </a:avLst>
          </a:prstGeom>
          <a:solidFill>
            <a:srgbClr val="faa712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81440" y="3822840"/>
            <a:ext cx="374400" cy="439560"/>
          </a:xfrm>
          <a:prstGeom prst="leftArrow">
            <a:avLst>
              <a:gd name="adj1" fmla="val 50000"/>
              <a:gd name="adj2" fmla="val 53815"/>
            </a:avLst>
          </a:prstGeom>
          <a:solidFill>
            <a:srgbClr val="79ce24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308320" y="3780000"/>
            <a:ext cx="542880" cy="542880"/>
            <a:chOff x="2308320" y="3780000"/>
            <a:chExt cx="542880" cy="542880"/>
          </a:xfrm>
        </p:grpSpPr>
        <p:sp>
          <p:nvSpPr>
            <p:cNvPr id="266" name=""/>
            <p:cNvSpPr/>
            <p:nvPr/>
          </p:nvSpPr>
          <p:spPr>
            <a:xfrm>
              <a:off x="230832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0f9e7"/>
                </a:gs>
                <a:gs pos="50000">
                  <a:srgbClr val="79ce24"/>
                </a:gs>
                <a:gs pos="100000">
                  <a:srgbClr val="f0f9e7"/>
                </a:gs>
              </a:gsLst>
              <a:lin ang="5400000"/>
            </a:gradFill>
            <a:ln w="6480">
              <a:solidFill>
                <a:srgbClr val="79ce24"/>
              </a:solidFill>
              <a:miter/>
            </a:ln>
            <a:effectLst>
              <a:outerShdw dist="381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23800" y="3795480"/>
              <a:ext cx="508320" cy="511200"/>
            </a:xfrm>
            <a:prstGeom prst="ellipse">
              <a:avLst/>
            </a:prstGeom>
            <a:gradFill rotWithShape="0">
              <a:gsLst>
                <a:gs pos="0">
                  <a:srgbClr val="79ce24"/>
                </a:gs>
                <a:gs pos="50000">
                  <a:srgbClr val="5fa21c"/>
                </a:gs>
                <a:gs pos="100000">
                  <a:srgbClr val="79ce24"/>
                </a:gs>
              </a:gsLst>
              <a:lin ang="5400000"/>
            </a:gradFill>
            <a:ln w="9360">
              <a:solidFill>
                <a:srgbClr val="79ce24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310440" y="3780000"/>
            <a:ext cx="542880" cy="542880"/>
            <a:chOff x="6310440" y="3780000"/>
            <a:chExt cx="542880" cy="542880"/>
          </a:xfrm>
        </p:grpSpPr>
        <p:sp>
          <p:nvSpPr>
            <p:cNvPr id="269" name=""/>
            <p:cNvSpPr/>
            <p:nvPr/>
          </p:nvSpPr>
          <p:spPr>
            <a:xfrm>
              <a:off x="6310440" y="378000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edf7f9"/>
                </a:gs>
                <a:gs pos="50000">
                  <a:srgbClr val="5fc3d7"/>
                </a:gs>
                <a:gs pos="100000">
                  <a:srgbClr val="edf7f9"/>
                </a:gs>
              </a:gsLst>
              <a:lin ang="5400000"/>
            </a:gradFill>
            <a:ln w="6480">
              <a:solidFill>
                <a:srgbClr val="5fc3d7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5920" y="3795480"/>
              <a:ext cx="508320" cy="511200"/>
            </a:xfrm>
            <a:prstGeom prst="ellipse">
              <a:avLst/>
            </a:prstGeom>
            <a:gradFill rotWithShape="0">
              <a:gsLst>
                <a:gs pos="0">
                  <a:srgbClr val="5fc3d7"/>
                </a:gs>
                <a:gs pos="50000">
                  <a:srgbClr val="4a99a9"/>
                </a:gs>
                <a:gs pos="100000">
                  <a:srgbClr val="5fc3d7"/>
                </a:gs>
              </a:gsLst>
              <a:lin ang="5400000"/>
            </a:gradFill>
            <a:ln w="9360">
              <a:solidFill>
                <a:srgbClr val="5fc3d7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290840" y="5781600"/>
            <a:ext cx="543240" cy="542880"/>
            <a:chOff x="4290840" y="5781600"/>
            <a:chExt cx="543240" cy="542880"/>
          </a:xfrm>
        </p:grpSpPr>
        <p:sp>
          <p:nvSpPr>
            <p:cNvPr id="272" name=""/>
            <p:cNvSpPr/>
            <p:nvPr/>
          </p:nvSpPr>
          <p:spPr>
            <a:xfrm>
              <a:off x="4290840" y="5781600"/>
              <a:ext cx="543240" cy="542880"/>
            </a:xfrm>
            <a:prstGeom prst="ellipse">
              <a:avLst/>
            </a:prstGeom>
            <a:gradFill rotWithShape="0">
              <a:gsLst>
                <a:gs pos="0">
                  <a:srgbClr val="fdf5e5"/>
                </a:gs>
                <a:gs pos="50000">
                  <a:srgbClr val="faa712"/>
                </a:gs>
                <a:gs pos="100000">
                  <a:srgbClr val="fdf5e5"/>
                </a:gs>
              </a:gsLst>
              <a:lin ang="5400000"/>
            </a:gradFill>
            <a:ln w="6480">
              <a:solidFill>
                <a:srgbClr val="faa712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06320" y="5797080"/>
              <a:ext cx="508680" cy="511200"/>
            </a:xfrm>
            <a:prstGeom prst="ellipse">
              <a:avLst/>
            </a:prstGeom>
            <a:gradFill rotWithShape="0">
              <a:gsLst>
                <a:gs pos="0">
                  <a:srgbClr val="faa712"/>
                </a:gs>
                <a:gs pos="50000">
                  <a:srgbClr val="c5830e"/>
                </a:gs>
                <a:gs pos="100000">
                  <a:srgbClr val="faa712"/>
                </a:gs>
              </a:gsLst>
              <a:lin ang="5400000"/>
            </a:gradFill>
            <a:ln w="9360">
              <a:solidFill>
                <a:srgbClr val="faa712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268880" y="1660680"/>
            <a:ext cx="542880" cy="542880"/>
            <a:chOff x="4268880" y="1660680"/>
            <a:chExt cx="542880" cy="542880"/>
          </a:xfrm>
        </p:grpSpPr>
        <p:sp>
          <p:nvSpPr>
            <p:cNvPr id="275" name=""/>
            <p:cNvSpPr/>
            <p:nvPr/>
          </p:nvSpPr>
          <p:spPr>
            <a:xfrm>
              <a:off x="4268880" y="1660680"/>
              <a:ext cx="542880" cy="542880"/>
            </a:xfrm>
            <a:prstGeom prst="ellipse">
              <a:avLst/>
            </a:prstGeom>
            <a:gradFill rotWithShape="0">
              <a:gsLst>
                <a:gs pos="0">
                  <a:srgbClr val="fbecee"/>
                </a:gs>
                <a:gs pos="50000">
                  <a:srgbClr val="e45267"/>
                </a:gs>
                <a:gs pos="100000">
                  <a:srgbClr val="fbecee"/>
                </a:gs>
              </a:gsLst>
              <a:lin ang="5400000"/>
            </a:gradFill>
            <a:ln w="6480">
              <a:solidFill>
                <a:srgbClr val="e45267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84360" y="1676160"/>
              <a:ext cx="508320" cy="511200"/>
            </a:xfrm>
            <a:prstGeom prst="ellipse">
              <a:avLst/>
            </a:prstGeom>
            <a:gradFill rotWithShape="0">
              <a:gsLst>
                <a:gs pos="0">
                  <a:srgbClr val="e45267"/>
                </a:gs>
                <a:gs pos="50000">
                  <a:srgbClr val="b34051"/>
                </a:gs>
                <a:gs pos="100000">
                  <a:srgbClr val="e45267"/>
                </a:gs>
              </a:gsLst>
              <a:lin ang="5400000"/>
            </a:gradFill>
            <a:ln w="9360">
              <a:solidFill>
                <a:srgbClr val="e45267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314960" y="1695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52600" y="3821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67320" y="3825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0160" y="5826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759280" y="2666880"/>
            <a:ext cx="2355840" cy="419400"/>
            <a:chOff x="5759280" y="2666880"/>
            <a:chExt cx="2355840" cy="419400"/>
          </a:xfrm>
        </p:grpSpPr>
        <p:sp>
          <p:nvSpPr>
            <p:cNvPr id="283" name=""/>
            <p:cNvSpPr/>
            <p:nvPr/>
          </p:nvSpPr>
          <p:spPr>
            <a:xfrm>
              <a:off x="5759280" y="266688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95640" y="269208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8480" y="2666880"/>
            <a:ext cx="2355840" cy="419400"/>
            <a:chOff x="1068480" y="2666880"/>
            <a:chExt cx="2355840" cy="419400"/>
          </a:xfrm>
        </p:grpSpPr>
        <p:sp>
          <p:nvSpPr>
            <p:cNvPr id="286" name=""/>
            <p:cNvSpPr/>
            <p:nvPr/>
          </p:nvSpPr>
          <p:spPr>
            <a:xfrm>
              <a:off x="1068480" y="266688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04840" y="269208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626480" y="26956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86040" y="2687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28800" y="340056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e8e8e"/>
              </a:gs>
              <a:gs pos="100000">
                <a:srgbClr val="08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26280" y="3411360"/>
            <a:ext cx="2695680" cy="26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642047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642047"/>
              </a:path>
            </a:pathLst>
          </a:custGeom>
          <a:solidFill>
            <a:srgbClr val="e4526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 rot="5400000">
            <a:off x="940680" y="3399840"/>
            <a:ext cx="2682720" cy="26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5fc3d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9670200">
            <a:off x="924840" y="3392280"/>
            <a:ext cx="2696040" cy="269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" y="12827"/>
                </a:moveTo>
                <a:arcTo wR="10800" hR="10800" stAng="10150833" swAng="7033431"/>
                <a:lnTo>
                  <a:pt x="10800" y="10800"/>
                </a:lnTo>
                <a:close/>
              </a:path>
              <a:path fill="none" w="21600" h="21600">
                <a:moveTo>
                  <a:pt x="192" y="12827"/>
                </a:moveTo>
                <a:arcTo wR="10800" hR="10800" stAng="10150833" swAng="7033431"/>
              </a:path>
            </a:pathLst>
          </a:custGeom>
          <a:solidFill>
            <a:srgbClr val="faa712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20960" y="4410000"/>
            <a:ext cx="708120" cy="708120"/>
          </a:xfrm>
          <a:prstGeom prst="ellipse">
            <a:avLst/>
          </a:prstGeom>
          <a:solidFill>
            <a:srgbClr val="79ce24"/>
          </a:solidFill>
          <a:ln w="254160">
            <a:solidFill>
              <a:srgbClr val="ffffff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923120" y="3354120"/>
            <a:ext cx="1671120" cy="1380600"/>
            <a:chOff x="1923120" y="3354120"/>
            <a:chExt cx="1671120" cy="1380600"/>
          </a:xfrm>
        </p:grpSpPr>
        <p:grpSp>
          <p:nvGrpSpPr>
            <p:cNvPr id="296" name=""/>
            <p:cNvGrpSpPr/>
            <p:nvPr/>
          </p:nvGrpSpPr>
          <p:grpSpPr>
            <a:xfrm>
              <a:off x="2288880" y="3354120"/>
              <a:ext cx="1305360" cy="1380600"/>
              <a:chOff x="2288880" y="3354120"/>
              <a:chExt cx="1305360" cy="1380600"/>
            </a:xfrm>
          </p:grpSpPr>
          <p:sp>
            <p:nvSpPr>
              <p:cNvPr id="297" name=""/>
              <p:cNvSpPr/>
              <p:nvPr/>
            </p:nvSpPr>
            <p:spPr>
              <a:xfrm flipV="1" rot="8983800">
                <a:off x="3034800" y="353160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 rot="8167800">
                <a:off x="2925360" y="3359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7872600">
                <a:off x="2842920" y="32781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 rot="7340400">
                <a:off x="2739960" y="31845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923120" y="3361320"/>
              <a:ext cx="1596960" cy="960840"/>
              <a:chOff x="1923120" y="3361320"/>
              <a:chExt cx="1596960" cy="960840"/>
            </a:xfrm>
          </p:grpSpPr>
          <p:sp>
            <p:nvSpPr>
              <p:cNvPr id="302" name=""/>
              <p:cNvSpPr/>
              <p:nvPr/>
            </p:nvSpPr>
            <p:spPr>
              <a:xfrm flipV="1" rot="7630800">
                <a:off x="2816280" y="323604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6814800">
                <a:off x="2650320" y="311940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 rot="6519600">
                <a:off x="2541600" y="30765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 rot="5987400">
                <a:off x="2410200" y="302904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980640" y="4834440"/>
            <a:ext cx="1373760" cy="1294560"/>
            <a:chOff x="980640" y="4834440"/>
            <a:chExt cx="1373760" cy="1294560"/>
          </a:xfrm>
        </p:grpSpPr>
        <p:sp>
          <p:nvSpPr>
            <p:cNvPr id="307" name=""/>
            <p:cNvSpPr/>
            <p:nvPr/>
          </p:nvSpPr>
          <p:spPr>
            <a:xfrm flipV="1" rot="19510800">
              <a:off x="1302480" y="4802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18694800">
              <a:off x="1424160" y="49626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 rot="18399600">
              <a:off x="1513080" y="503712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 rot="17867400">
              <a:off x="1621800" y="51224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69840" y="4518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19400" y="379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71920" y="488484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57760" y="340056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59595"/>
              </a:gs>
              <a:gs pos="100000">
                <a:srgbClr val="08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55240" y="3411360"/>
            <a:ext cx="2695680" cy="26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642047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642047"/>
              </a:path>
            </a:pathLst>
          </a:custGeom>
          <a:solidFill>
            <a:srgbClr val="e4526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 rot="5400000">
            <a:off x="5673240" y="3401640"/>
            <a:ext cx="2683080" cy="26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9" y="1609"/>
                </a:moveTo>
                <a:arcTo wR="10800" hR="10800" stAng="-7300427" swAng="7238555"/>
                <a:lnTo>
                  <a:pt x="10800" y="10800"/>
                </a:lnTo>
                <a:close/>
              </a:path>
              <a:path fill="none" w="21600" h="21600">
                <a:moveTo>
                  <a:pt x="5129" y="1609"/>
                </a:moveTo>
                <a:arcTo wR="10800" hR="10800" stAng="-7300427" swAng="7238555"/>
              </a:path>
            </a:pathLst>
          </a:custGeom>
          <a:solidFill>
            <a:srgbClr val="5fc3d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9670200">
            <a:off x="5657040" y="3387960"/>
            <a:ext cx="2691360" cy="26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" y="12827"/>
                </a:moveTo>
                <a:arcTo wR="10800" hR="10800" stAng="10150833" swAng="10648419"/>
                <a:lnTo>
                  <a:pt x="10800" y="10800"/>
                </a:lnTo>
                <a:close/>
              </a:path>
              <a:path fill="none" w="21600" h="21600">
                <a:moveTo>
                  <a:pt x="192" y="12827"/>
                </a:moveTo>
                <a:arcTo wR="10800" hR="10800" stAng="10150833" swAng="10648419"/>
              </a:path>
            </a:pathLst>
          </a:custGeom>
          <a:solidFill>
            <a:srgbClr val="faa712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49920" y="4410000"/>
            <a:ext cx="708120" cy="708120"/>
          </a:xfrm>
          <a:prstGeom prst="ellipse">
            <a:avLst/>
          </a:prstGeom>
          <a:solidFill>
            <a:srgbClr val="79ce24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52080" y="3354120"/>
            <a:ext cx="1671120" cy="1380600"/>
            <a:chOff x="6652080" y="3354120"/>
            <a:chExt cx="1671120" cy="1380600"/>
          </a:xfrm>
        </p:grpSpPr>
        <p:grpSp>
          <p:nvGrpSpPr>
            <p:cNvPr id="320" name=""/>
            <p:cNvGrpSpPr/>
            <p:nvPr/>
          </p:nvGrpSpPr>
          <p:grpSpPr>
            <a:xfrm>
              <a:off x="7017840" y="3354120"/>
              <a:ext cx="1305360" cy="1380600"/>
              <a:chOff x="7017840" y="3354120"/>
              <a:chExt cx="1305360" cy="1380600"/>
            </a:xfrm>
          </p:grpSpPr>
          <p:sp>
            <p:nvSpPr>
              <p:cNvPr id="321" name=""/>
              <p:cNvSpPr/>
              <p:nvPr/>
            </p:nvSpPr>
            <p:spPr>
              <a:xfrm flipV="1" rot="8983800">
                <a:off x="7763760" y="353160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 rot="8167800">
                <a:off x="7654320" y="3359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 rot="7872600">
                <a:off x="7571880" y="32781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 rot="7340400">
                <a:off x="7468920" y="31845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652080" y="3361320"/>
              <a:ext cx="1596960" cy="960840"/>
              <a:chOff x="6652080" y="3361320"/>
              <a:chExt cx="1596960" cy="960840"/>
            </a:xfrm>
          </p:grpSpPr>
          <p:sp>
            <p:nvSpPr>
              <p:cNvPr id="326" name=""/>
              <p:cNvSpPr/>
              <p:nvPr/>
            </p:nvSpPr>
            <p:spPr>
              <a:xfrm flipV="1" rot="7630800">
                <a:off x="7545240" y="323604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 rot="6814800">
                <a:off x="7379280" y="311940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6519600">
                <a:off x="7270560" y="30765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 rot="5987400">
                <a:off x="7139160" y="302904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5710680" y="4832640"/>
            <a:ext cx="1371600" cy="1294560"/>
            <a:chOff x="5710680" y="4832640"/>
            <a:chExt cx="1371600" cy="1294560"/>
          </a:xfrm>
        </p:grpSpPr>
        <p:sp>
          <p:nvSpPr>
            <p:cNvPr id="331" name=""/>
            <p:cNvSpPr/>
            <p:nvPr/>
          </p:nvSpPr>
          <p:spPr>
            <a:xfrm flipV="1" rot="19510800">
              <a:off x="6031800" y="48006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8694800">
              <a:off x="6152760" y="4960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18399600">
              <a:off x="6242040" y="503460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 rot="17867400">
              <a:off x="6350400" y="512136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888160" y="4075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48360" y="379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22960" y="517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941640" y="4276800"/>
            <a:ext cx="219240" cy="218880"/>
            <a:chOff x="3941640" y="4276800"/>
            <a:chExt cx="219240" cy="218880"/>
          </a:xfrm>
        </p:grpSpPr>
        <p:sp>
          <p:nvSpPr>
            <p:cNvPr id="339" name=""/>
            <p:cNvSpPr/>
            <p:nvPr/>
          </p:nvSpPr>
          <p:spPr>
            <a:xfrm>
              <a:off x="3941640" y="4277880"/>
              <a:ext cx="219240" cy="217800"/>
            </a:xfrm>
            <a:prstGeom prst="ellipse">
              <a:avLst/>
            </a:prstGeom>
            <a:solidFill>
              <a:srgbClr val="5fc3d7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3960000" y="427680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941640" y="4668840"/>
            <a:ext cx="219240" cy="219240"/>
            <a:chOff x="3941640" y="4668840"/>
            <a:chExt cx="219240" cy="219240"/>
          </a:xfrm>
        </p:grpSpPr>
        <p:sp>
          <p:nvSpPr>
            <p:cNvPr id="342" name=""/>
            <p:cNvSpPr/>
            <p:nvPr/>
          </p:nvSpPr>
          <p:spPr>
            <a:xfrm>
              <a:off x="3941640" y="4669920"/>
              <a:ext cx="219240" cy="218160"/>
            </a:xfrm>
            <a:prstGeom prst="ellipse">
              <a:avLst/>
            </a:prstGeom>
            <a:solidFill>
              <a:srgbClr val="e45267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3960000" y="466884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3941640" y="5060880"/>
            <a:ext cx="219240" cy="219240"/>
            <a:chOff x="3941640" y="5060880"/>
            <a:chExt cx="219240" cy="219240"/>
          </a:xfrm>
        </p:grpSpPr>
        <p:sp>
          <p:nvSpPr>
            <p:cNvPr id="345" name=""/>
            <p:cNvSpPr/>
            <p:nvPr/>
          </p:nvSpPr>
          <p:spPr>
            <a:xfrm>
              <a:off x="3941640" y="5061960"/>
              <a:ext cx="219240" cy="218160"/>
            </a:xfrm>
            <a:prstGeom prst="ellipse">
              <a:avLst/>
            </a:prstGeom>
            <a:solidFill>
              <a:srgbClr val="faa712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3"/>
            <a:stretch/>
          </p:blipFill>
          <p:spPr>
            <a:xfrm>
              <a:off x="3960000" y="5060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"/>
          <p:cNvSpPr/>
          <p:nvPr/>
        </p:nvSpPr>
        <p:spPr>
          <a:xfrm>
            <a:off x="4119480" y="420840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9480" y="460044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9480" y="500220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9:33:0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3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