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8.png" ContentType="image/png"/>
  <Override PartName="/ppt/media/image17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2.gif" ContentType="image/gif"/>
  <Override PartName="/ppt/media/image15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06B-2DD9-4EA8-A1E8-6EA2F039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05C-4032-47B7-86A3-8B19AFEB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F3E-78DA-443D-B66F-34F7192A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EB2-635F-402C-B759-66AB2736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C77-F984-4261-BC49-1F03BBDA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8A2-1A2B-44CB-9DD6-E71FA20D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2A5-39E4-4135-8D60-6C34921F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6D6-B7BE-44F6-A9C4-0E903EB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653-6E42-408F-BD8A-41ED5B0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6BE-66B6-4695-9A21-B238A4EF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32F-B2FA-4952-BC40-C4B243C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90A-305D-473B-A525-876E473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0408"/>
            </a:gs>
            <a:gs pos="100000">
              <a:srgbClr val="f7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4C70-C945-4EC9-9945-1DBD72ABE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0408"/>
            </a:gs>
            <a:gs pos="100000">
              <a:srgbClr val="f7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梅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xnyy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55520" y="981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漂亮动感的兔年春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贺卡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0408"/>
            </a:gs>
            <a:gs pos="100000">
              <a:srgbClr val="f7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水带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灯"/>
          <p:cNvPicPr/>
          <p:nvPr/>
        </p:nvPicPr>
        <p:blipFill>
          <a:blip r:embed="rId3"/>
          <a:stretch/>
        </p:blipFill>
        <p:spPr>
          <a:xfrm>
            <a:off x="0" y="0"/>
            <a:ext cx="1619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0408"/>
            </a:gs>
            <a:gs pos="100000">
              <a:srgbClr val="f7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时钟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大钟"/>
          <p:cNvPicPr/>
          <p:nvPr/>
        </p:nvPicPr>
        <p:blipFill>
          <a:blip r:embed="rId3"/>
          <a:stretch/>
        </p:blipFill>
        <p:spPr>
          <a:xfrm>
            <a:off x="0" y="0"/>
            <a:ext cx="8532720" cy="639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20">
                                  <p:stCondLst>
                                    <p:cond delay="5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1"/>
                            </p:stCondLst>
                            <p:childTnLst>
                              <p:par>
                                <p:cTn id="55" nodeType="afterEffect" fill="hold" presetClass="exit" presetID="2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0408"/>
            </a:gs>
            <a:gs pos="100000">
              <a:srgbClr val="f7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礼花"/>
          <p:cNvPicPr/>
          <p:nvPr/>
        </p:nvPicPr>
        <p:blipFill>
          <a:blip r:embed="rId2"/>
          <a:stretch/>
        </p:blipFill>
        <p:spPr>
          <a:xfrm>
            <a:off x="7662960" y="634212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礼花"/>
          <p:cNvPicPr/>
          <p:nvPr/>
        </p:nvPicPr>
        <p:blipFill>
          <a:blip r:embed="rId3"/>
          <a:stretch/>
        </p:blipFill>
        <p:spPr>
          <a:xfrm>
            <a:off x="611280" y="765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2"/>
          <p:cNvPicPr/>
          <p:nvPr/>
        </p:nvPicPr>
        <p:blipFill>
          <a:blip r:embed="rId4"/>
          <a:stretch/>
        </p:blipFill>
        <p:spPr>
          <a:xfrm>
            <a:off x="2050920" y="333360"/>
            <a:ext cx="5257800" cy="210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喜"/>
          <p:cNvPicPr/>
          <p:nvPr/>
        </p:nvPicPr>
        <p:blipFill>
          <a:blip r:embed="rId5"/>
          <a:stretch/>
        </p:blipFill>
        <p:spPr>
          <a:xfrm>
            <a:off x="4838760" y="620640"/>
            <a:ext cx="318924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玉"/>
          <p:cNvPicPr/>
          <p:nvPr/>
        </p:nvPicPr>
        <p:blipFill>
          <a:blip r:embed="rId6"/>
          <a:stretch/>
        </p:blipFill>
        <p:spPr>
          <a:xfrm>
            <a:off x="898560" y="620640"/>
            <a:ext cx="3168720" cy="89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兔子舞蹈"/>
          <p:cNvPicPr/>
          <p:nvPr/>
        </p:nvPicPr>
        <p:blipFill>
          <a:blip r:embed="rId7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烟花"/>
          <p:cNvPicPr/>
          <p:nvPr/>
        </p:nvPicPr>
        <p:blipFill>
          <a:blip r:embed="rId8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烟花"/>
          <p:cNvPicPr/>
          <p:nvPr/>
        </p:nvPicPr>
        <p:blipFill>
          <a:blip r:embed="rId9"/>
          <a:stretch/>
        </p:blipFill>
        <p:spPr>
          <a:xfrm rot="2511600">
            <a:off x="-2122200" y="2060280"/>
            <a:ext cx="7415280" cy="55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烟花"/>
          <p:cNvPicPr/>
          <p:nvPr/>
        </p:nvPicPr>
        <p:blipFill>
          <a:blip r:embed="rId10"/>
          <a:stretch/>
        </p:blipFill>
        <p:spPr>
          <a:xfrm rot="18708600">
            <a:off x="3278880" y="2345040"/>
            <a:ext cx="7461000" cy="559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烟花"/>
          <p:cNvPicPr/>
          <p:nvPr/>
        </p:nvPicPr>
        <p:blipFill>
          <a:blip r:embed="rId11"/>
          <a:stretch/>
        </p:blipFill>
        <p:spPr>
          <a:xfrm>
            <a:off x="1042920" y="2421000"/>
            <a:ext cx="7461360" cy="5595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227664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1"/>
                            </p:stCondLst>
                            <p:childTnLst>
                              <p:par>
                                <p:cTn id="78" nodeType="afterEffect" fill="hold" presetClass="exit" presetID="21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2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2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DA6-687C-4BDF-B2D0-6849D4CCC3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0408"/>
            </a:gs>
            <a:gs pos="100000">
              <a:srgbClr val="f703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牡丹"/>
          <p:cNvPicPr/>
          <p:nvPr/>
        </p:nvPicPr>
        <p:blipFill>
          <a:blip r:embed="rId2"/>
          <a:stretch/>
        </p:blipFill>
        <p:spPr>
          <a:xfrm>
            <a:off x="0" y="3860640"/>
            <a:ext cx="2778120" cy="299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新"/>
          <p:cNvPicPr/>
          <p:nvPr/>
        </p:nvPicPr>
        <p:blipFill>
          <a:blip r:embed="rId3"/>
          <a:stretch/>
        </p:blipFill>
        <p:spPr>
          <a:xfrm>
            <a:off x="3708360" y="3355920"/>
            <a:ext cx="2448000" cy="59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万"/>
          <p:cNvPicPr/>
          <p:nvPr/>
        </p:nvPicPr>
        <p:blipFill>
          <a:blip r:embed="rId4"/>
          <a:stretch/>
        </p:blipFill>
        <p:spPr>
          <a:xfrm>
            <a:off x="3780000" y="4076640"/>
            <a:ext cx="2447640" cy="64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阖"/>
          <p:cNvPicPr/>
          <p:nvPr/>
        </p:nvPicPr>
        <p:blipFill>
          <a:blip r:embed="rId5"/>
          <a:stretch/>
        </p:blipFill>
        <p:spPr>
          <a:xfrm>
            <a:off x="3780000" y="4857840"/>
            <a:ext cx="2447640" cy="65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灯"/>
          <p:cNvPicPr/>
          <p:nvPr/>
        </p:nvPicPr>
        <p:blipFill>
          <a:blip r:embed="rId6"/>
          <a:stretch/>
        </p:blipFill>
        <p:spPr>
          <a:xfrm>
            <a:off x="7956720" y="-98280"/>
            <a:ext cx="1618920" cy="3427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7"/>
          <p:cNvSpPr/>
          <p:nvPr/>
        </p:nvSpPr>
        <p:spPr>
          <a:xfrm>
            <a:off x="2843280" y="213372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635280" y="2100240"/>
            <a:ext cx="453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1:33:46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1:57Z</dcterms:modified>
  <cp:revision>13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