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0FD6-53F8-4D15-AF11-7692EA18B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DD30-F150-4C00-8A41-D43F8644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B70B-3B0E-4057-880B-DB5D2E3C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44DA-C2BD-492D-88D4-CC1416E84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E95A-9852-4094-8357-7B4A198D9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8976-72D8-4EA9-B931-4261974F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3550-8938-4964-8F64-6FADF802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D162-E58D-4C6F-B87D-81709213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1FCE-DF71-46C3-B15E-3D543F75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642960"/>
            <a:ext cx="82296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BB11-BF69-465F-8490-EE7C4214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78D7-F17A-4741-A2EA-A4282678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B963-34C7-4E62-B311-7528F098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E01C-C046-4F8D-97B7-2CFBD80A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D4BD-71BA-4DAB-A3DF-86972998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ADDE-62F5-44F4-BF88-E10AB5B0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36DF-4300-4580-B107-C2057EFBC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C18F-CBC1-4707-A584-4D30669C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BB48-455F-4B31-947C-483AD3C7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2372-FB3F-4CF4-9C7C-7A9F8B61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4BF6-BB76-470D-886D-6035E313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42960"/>
            <a:ext cx="82296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02B5-98AA-4865-82DE-4415B1BCD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8665-435E-4684-99FD-C8DEAD56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BF05-7D8D-4DE0-8917-8104BB63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8A8A-74EE-4D7F-B581-BF4DAC70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鱼不愚\桌面\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经典特宋简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E730-F43D-45BC-9B75-5A44D19EF4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Documents and Settings\鱼不愚\桌面\未标题-1副本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C:\Documents and Settings\鱼不愚\桌面\未标题-1副本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经典特宋简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24C7-A3ED-4DEF-AD68-ED3E240FC8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14120" y="83664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漂亮蓝色水滴工作报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82520"/>
            <a:ext cx="8229600" cy="7747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0c0"/>
                </a:solidFill>
                <a:latin typeface="汉仪粗宋简"/>
                <a:ea typeface="汉仪粗宋简"/>
              </a:rPr>
              <a:t>目  录</a:t>
            </a:r>
            <a:endParaRPr b="0" lang="en-US" sz="44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88" name="圆角矩形 4"/>
          <p:cNvSpPr/>
          <p:nvPr/>
        </p:nvSpPr>
        <p:spPr>
          <a:xfrm>
            <a:off x="1643040" y="2292480"/>
            <a:ext cx="4929120" cy="642960"/>
          </a:xfrm>
          <a:prstGeom prst="roundRect">
            <a:avLst>
              <a:gd name="adj" fmla="val 16667"/>
            </a:avLst>
          </a:prstGeom>
          <a:solidFill>
            <a:srgbClr val="0062ac"/>
          </a:solidFill>
          <a:ln w="25560">
            <a:solidFill>
              <a:srgbClr val="00b0f0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Documents and Settings\鱼不愚\桌面\3dicon1_zcool.com.cn [转换].png"/>
          <p:cNvPicPr/>
          <p:nvPr/>
        </p:nvPicPr>
        <p:blipFill>
          <a:blip r:embed="rId1"/>
          <a:srcRect l="38759" t="0" r="35730" b="62560"/>
          <a:stretch/>
        </p:blipFill>
        <p:spPr>
          <a:xfrm>
            <a:off x="1071720" y="1857240"/>
            <a:ext cx="1143000" cy="124488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>
            <a:off x="1292400" y="2408400"/>
            <a:ext cx="7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 Black"/>
                <a:ea typeface="ClassizismAntiqua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圆角矩形 8"/>
          <p:cNvSpPr/>
          <p:nvPr/>
        </p:nvSpPr>
        <p:spPr>
          <a:xfrm>
            <a:off x="2357280" y="3521160"/>
            <a:ext cx="4929480" cy="642960"/>
          </a:xfrm>
          <a:prstGeom prst="roundRect">
            <a:avLst>
              <a:gd name="adj" fmla="val 16667"/>
            </a:avLst>
          </a:prstGeom>
          <a:solidFill>
            <a:srgbClr val="0062ac"/>
          </a:solidFill>
          <a:ln w="25560">
            <a:solidFill>
              <a:srgbClr val="00b0f0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C:\Documents and Settings\鱼不愚\桌面\3dicon1_zcool.com.cn [转换].png"/>
          <p:cNvPicPr/>
          <p:nvPr/>
        </p:nvPicPr>
        <p:blipFill>
          <a:blip r:embed="rId2"/>
          <a:srcRect l="38759" t="0" r="35730" b="62560"/>
          <a:stretch/>
        </p:blipFill>
        <p:spPr>
          <a:xfrm>
            <a:off x="1785960" y="3071880"/>
            <a:ext cx="1143000" cy="1244520"/>
          </a:xfrm>
          <a:prstGeom prst="rect">
            <a:avLst/>
          </a:prstGeom>
          <a:ln w="0">
            <a:noFill/>
          </a:ln>
        </p:spPr>
      </p:pic>
      <p:sp>
        <p:nvSpPr>
          <p:cNvPr id="93" name="TextBox 10"/>
          <p:cNvSpPr/>
          <p:nvPr/>
        </p:nvSpPr>
        <p:spPr>
          <a:xfrm>
            <a:off x="2006640" y="3637080"/>
            <a:ext cx="7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 Black"/>
                <a:ea typeface="ClassizismAntiqua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圆角矩形 12"/>
          <p:cNvSpPr/>
          <p:nvPr/>
        </p:nvSpPr>
        <p:spPr>
          <a:xfrm>
            <a:off x="3051000" y="4792680"/>
            <a:ext cx="4929480" cy="642960"/>
          </a:xfrm>
          <a:prstGeom prst="roundRect">
            <a:avLst>
              <a:gd name="adj" fmla="val 16667"/>
            </a:avLst>
          </a:prstGeom>
          <a:solidFill>
            <a:srgbClr val="0062ac"/>
          </a:solidFill>
          <a:ln w="25560">
            <a:solidFill>
              <a:srgbClr val="00b0f0"/>
            </a:solidFill>
            <a:miter/>
          </a:ln>
          <a:effectLst>
            <a:outerShdw dist="38183" dir="27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Documents and Settings\鱼不愚\桌面\3dicon1_zcool.com.cn [转换].png"/>
          <p:cNvPicPr/>
          <p:nvPr/>
        </p:nvPicPr>
        <p:blipFill>
          <a:blip r:embed="rId3"/>
          <a:srcRect l="38759" t="0" r="35730" b="62560"/>
          <a:stretch/>
        </p:blipFill>
        <p:spPr>
          <a:xfrm>
            <a:off x="2479680" y="4357800"/>
            <a:ext cx="1143000" cy="1244520"/>
          </a:xfrm>
          <a:prstGeom prst="rect">
            <a:avLst/>
          </a:prstGeom>
          <a:ln w="0">
            <a:noFill/>
          </a:ln>
        </p:spPr>
      </p:pic>
      <p:sp>
        <p:nvSpPr>
          <p:cNvPr id="96" name="TextBox 14"/>
          <p:cNvSpPr/>
          <p:nvPr/>
        </p:nvSpPr>
        <p:spPr>
          <a:xfrm>
            <a:off x="2700360" y="4908600"/>
            <a:ext cx="7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 Black"/>
                <a:ea typeface="ClassizismAntiqua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058840" y="2301840"/>
            <a:ext cx="432936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细黑"/>
              </a:rPr>
              <a:t>文本目录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8" name="内容占位符 2"/>
          <p:cNvSpPr/>
          <p:nvPr/>
        </p:nvSpPr>
        <p:spPr>
          <a:xfrm>
            <a:off x="2857680" y="3516480"/>
            <a:ext cx="4329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文本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内容占位符 2"/>
          <p:cNvSpPr/>
          <p:nvPr/>
        </p:nvSpPr>
        <p:spPr>
          <a:xfrm>
            <a:off x="3529080" y="4811760"/>
            <a:ext cx="4329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细黑"/>
                <a:ea typeface="华文细黑"/>
              </a:rPr>
              <a:t>文本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对角圆角矩形 5"/>
          <p:cNvSpPr/>
          <p:nvPr/>
        </p:nvSpPr>
        <p:spPr>
          <a:xfrm rot="21346800">
            <a:off x="1133640" y="1809360"/>
            <a:ext cx="6954840" cy="3879720"/>
          </a:xfrm>
          <a:prstGeom prst="pie">
            <a:avLst/>
          </a:prstGeom>
          <a:gradFill rotWithShape="0">
            <a:gsLst>
              <a:gs pos="0">
                <a:srgbClr val="0070c0"/>
              </a:gs>
              <a:gs pos="100000">
                <a:srgbClr val="00b0f0"/>
              </a:gs>
            </a:gsLst>
            <a:lin ang="8352000"/>
          </a:gradFill>
          <a:ln w="0">
            <a:noFill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汉仪粗宋简"/>
                <a:ea typeface="汉仪粗宋简"/>
              </a:rPr>
              <a:t>强调类型图表</a:t>
            </a: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pic>
        <p:nvPicPr>
          <p:cNvPr id="102" name="Picture 3" descr="C:\TDDOWNLOAD\pencil.png"/>
          <p:cNvPicPr/>
          <p:nvPr/>
        </p:nvPicPr>
        <p:blipFill>
          <a:blip r:embed="rId1"/>
          <a:stretch/>
        </p:blipFill>
        <p:spPr>
          <a:xfrm>
            <a:off x="887400" y="161784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 rot="21361200">
            <a:off x="1348920" y="2091960"/>
            <a:ext cx="6454800" cy="33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细黑"/>
              </a:rPr>
              <a:t>强调文本内容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汉仪粗宋简"/>
                <a:ea typeface="汉仪粗宋简"/>
              </a:rPr>
              <a:t>分析类型图表</a:t>
            </a: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grpSp>
        <p:nvGrpSpPr>
          <p:cNvPr id="105" name="剪去同侧角的矩形 6"/>
          <p:cNvGrpSpPr/>
          <p:nvPr/>
        </p:nvGrpSpPr>
        <p:grpSpPr>
          <a:xfrm>
            <a:off x="4694400" y="2567160"/>
            <a:ext cx="3747960" cy="3528720"/>
            <a:chOff x="4694400" y="2567160"/>
            <a:chExt cx="3747960" cy="3528720"/>
          </a:xfrm>
        </p:grpSpPr>
        <p:pic>
          <p:nvPicPr>
            <p:cNvPr id="106" name="剪去同侧角的矩形 6" descr=""/>
            <p:cNvPicPr/>
            <p:nvPr/>
          </p:nvPicPr>
          <p:blipFill>
            <a:blip r:embed="rId1"/>
            <a:stretch/>
          </p:blipFill>
          <p:spPr>
            <a:xfrm>
              <a:off x="4694400" y="2567160"/>
              <a:ext cx="3747960" cy="35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4927680" y="2803320"/>
              <a:ext cx="3281400" cy="32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剪去同侧角的矩形 5"/>
          <p:cNvGrpSpPr/>
          <p:nvPr/>
        </p:nvGrpSpPr>
        <p:grpSpPr>
          <a:xfrm>
            <a:off x="701640" y="2567160"/>
            <a:ext cx="3747960" cy="3528720"/>
            <a:chOff x="701640" y="2567160"/>
            <a:chExt cx="3747960" cy="3528720"/>
          </a:xfrm>
        </p:grpSpPr>
        <p:pic>
          <p:nvPicPr>
            <p:cNvPr id="109" name="剪去同侧角的矩形 5" descr=""/>
            <p:cNvPicPr/>
            <p:nvPr/>
          </p:nvPicPr>
          <p:blipFill>
            <a:blip r:embed="rId2"/>
            <a:stretch/>
          </p:blipFill>
          <p:spPr>
            <a:xfrm>
              <a:off x="701640" y="2567160"/>
              <a:ext cx="3747960" cy="35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934920" y="2803320"/>
              <a:ext cx="3281400" cy="32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Picture 2" descr="C:\TDDOWNLOAD\user_female.png"/>
          <p:cNvPicPr/>
          <p:nvPr/>
        </p:nvPicPr>
        <p:blipFill>
          <a:blip r:embed="rId3"/>
          <a:stretch/>
        </p:blipFill>
        <p:spPr>
          <a:xfrm>
            <a:off x="1944720" y="1566720"/>
            <a:ext cx="1262160" cy="2475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TDDOWNLOAD\user_male.png"/>
          <p:cNvPicPr/>
          <p:nvPr/>
        </p:nvPicPr>
        <p:blipFill>
          <a:blip r:embed="rId4"/>
          <a:stretch/>
        </p:blipFill>
        <p:spPr>
          <a:xfrm>
            <a:off x="5937120" y="1554120"/>
            <a:ext cx="1262160" cy="2475000"/>
          </a:xfrm>
          <a:prstGeom prst="rect">
            <a:avLst/>
          </a:prstGeom>
          <a:ln w="0">
            <a:noFill/>
          </a:ln>
        </p:spPr>
      </p:pic>
      <p:grpSp>
        <p:nvGrpSpPr>
          <p:cNvPr id="113" name="内容占位符 2"/>
          <p:cNvGrpSpPr/>
          <p:nvPr/>
        </p:nvGrpSpPr>
        <p:grpSpPr>
          <a:xfrm>
            <a:off x="719280" y="2567160"/>
            <a:ext cx="3730320" cy="3509640"/>
            <a:chOff x="719280" y="2567160"/>
            <a:chExt cx="3730320" cy="3509640"/>
          </a:xfrm>
        </p:grpSpPr>
        <p:pic>
          <p:nvPicPr>
            <p:cNvPr id="114" name="内容占位符 2" descr=""/>
            <p:cNvPicPr/>
            <p:nvPr/>
          </p:nvPicPr>
          <p:blipFill>
            <a:blip r:embed="rId5"/>
            <a:stretch/>
          </p:blipFill>
          <p:spPr>
            <a:xfrm>
              <a:off x="719280" y="2567160"/>
              <a:ext cx="373032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01360" y="2643120"/>
              <a:ext cx="3571560" cy="33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文本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内容占位符 2"/>
          <p:cNvGrpSpPr/>
          <p:nvPr/>
        </p:nvGrpSpPr>
        <p:grpSpPr>
          <a:xfrm>
            <a:off x="4681440" y="2567160"/>
            <a:ext cx="3730680" cy="3509640"/>
            <a:chOff x="4681440" y="2567160"/>
            <a:chExt cx="3730680" cy="3509640"/>
          </a:xfrm>
        </p:grpSpPr>
        <p:pic>
          <p:nvPicPr>
            <p:cNvPr id="117" name="内容占位符 2" descr=""/>
            <p:cNvPicPr/>
            <p:nvPr/>
          </p:nvPicPr>
          <p:blipFill>
            <a:blip r:embed="rId6"/>
            <a:stretch/>
          </p:blipFill>
          <p:spPr>
            <a:xfrm>
              <a:off x="4681440" y="2567160"/>
              <a:ext cx="373068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763880" y="2643120"/>
              <a:ext cx="3571920" cy="33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文本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汉仪粗宋简"/>
                <a:ea typeface="汉仪粗宋简"/>
              </a:rPr>
              <a:t>数据类型图表</a:t>
            </a: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pic>
        <p:nvPicPr>
          <p:cNvPr id="120" name="内容占位符 3" descr=""/>
          <p:cNvPicPr/>
          <p:nvPr/>
        </p:nvPicPr>
        <p:blipFill>
          <a:blip r:embed="rId1"/>
          <a:stretch/>
        </p:blipFill>
        <p:spPr>
          <a:xfrm>
            <a:off x="1120680" y="1714680"/>
            <a:ext cx="6902640" cy="39826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68360" y="134136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汉仪粗宋简"/>
                <a:ea typeface="汉仪粗宋简"/>
              </a:rPr>
              <a:t>说明类型图表</a:t>
            </a: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pic>
        <p:nvPicPr>
          <p:cNvPr id="123" name="Picture 5" descr="C:\Documents and Settings\鱼不愚\桌面\biz_icon_01.png"/>
          <p:cNvPicPr/>
          <p:nvPr/>
        </p:nvPicPr>
        <p:blipFill>
          <a:blip r:embed="rId1"/>
          <a:stretch/>
        </p:blipFill>
        <p:spPr>
          <a:xfrm>
            <a:off x="1112760" y="1825560"/>
            <a:ext cx="6918480" cy="4254480"/>
          </a:xfrm>
          <a:prstGeom prst="rect">
            <a:avLst/>
          </a:prstGeom>
          <a:ln w="0">
            <a:noFill/>
          </a:ln>
        </p:spPr>
      </p:pic>
      <p:grpSp>
        <p:nvGrpSpPr>
          <p:cNvPr id="124" name="内容占位符 2"/>
          <p:cNvGrpSpPr/>
          <p:nvPr/>
        </p:nvGrpSpPr>
        <p:grpSpPr>
          <a:xfrm>
            <a:off x="1994040" y="2073240"/>
            <a:ext cx="5155920" cy="3016080"/>
            <a:chOff x="1994040" y="2073240"/>
            <a:chExt cx="5155920" cy="3016080"/>
          </a:xfrm>
        </p:grpSpPr>
        <p:pic>
          <p:nvPicPr>
            <p:cNvPr id="125" name="内容占位符 2" descr=""/>
            <p:cNvPicPr/>
            <p:nvPr/>
          </p:nvPicPr>
          <p:blipFill>
            <a:blip r:embed="rId2"/>
            <a:stretch/>
          </p:blipFill>
          <p:spPr>
            <a:xfrm>
              <a:off x="1994040" y="2073240"/>
              <a:ext cx="5155920" cy="30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2071440" y="2152440"/>
              <a:ext cx="5000400" cy="28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华文细黑"/>
                  <a:ea typeface="华文细黑"/>
                </a:rPr>
                <a:t>文本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经典特宋简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经典特宋简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615E-2621-406A-ADF1-62BF9B786C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副标题 2"/>
          <p:cNvGrpSpPr/>
          <p:nvPr/>
        </p:nvGrpSpPr>
        <p:grpSpPr>
          <a:xfrm>
            <a:off x="493560" y="847800"/>
            <a:ext cx="6516720" cy="1230120"/>
            <a:chOff x="493560" y="847800"/>
            <a:chExt cx="6516720" cy="1230120"/>
          </a:xfrm>
        </p:grpSpPr>
        <p:pic>
          <p:nvPicPr>
            <p:cNvPr id="131" name="副标题 2" descr=""/>
            <p:cNvPicPr/>
            <p:nvPr/>
          </p:nvPicPr>
          <p:blipFill>
            <a:blip r:embed="rId1"/>
            <a:stretch/>
          </p:blipFill>
          <p:spPr>
            <a:xfrm>
              <a:off x="493560" y="847800"/>
              <a:ext cx="6516720" cy="12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571320" y="928440"/>
              <a:ext cx="6357960" cy="10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70c0"/>
                  </a:solidFill>
                  <a:latin typeface="汉仪粗宋简"/>
                  <a:ea typeface="汉仪粗宋简"/>
                </a:rPr>
                <a:t>THANKS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5T07:29:15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2:00Z</dcterms:modified>
  <cp:revision>3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