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HP Simplifi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HP Simplifi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HP Simplifie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HP Simplifi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HP Simplifi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HP Simplifi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HP Simplifi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HP Simplifie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HP Simplifi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HP Simplifi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P Simplified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HP Simplifi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6d6"/>
                </a:solidFill>
                <a:latin typeface="HP Simplified"/>
              </a:rPr>
              <a:t>Click to edit the outline text format</a:t>
            </a:r>
            <a:endParaRPr b="1" lang="en-US" sz="1800" spc="-1" strike="noStrike">
              <a:solidFill>
                <a:srgbClr val="0096d6"/>
              </a:solidFill>
              <a:latin typeface="HP Simplified"/>
            </a:endParaRPr>
          </a:p>
          <a:p>
            <a:pPr lvl="1" indent="0"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P Simplified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HP Simplified"/>
            </a:endParaRPr>
          </a:p>
          <a:p>
            <a:pPr lvl="2" indent="45720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P Simplified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HP Simplified"/>
            </a:endParaRPr>
          </a:p>
          <a:p>
            <a:pPr lvl="3" marL="162000" indent="295200">
              <a:spcAft>
                <a:spcPts val="400"/>
              </a:spcAft>
              <a:buClr>
                <a:srgbClr val="000000"/>
              </a:buClr>
              <a:buSzPct val="80000"/>
              <a:buFont typeface="Lucida Grande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P Simplified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HP Simplified"/>
            </a:endParaRPr>
          </a:p>
          <a:p>
            <a:pPr lvl="4" marL="318960" indent="138240">
              <a:spcAft>
                <a:spcPts val="400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P Simplified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HP Simplified"/>
            </a:endParaRPr>
          </a:p>
          <a:p>
            <a:pPr lvl="5" marL="318960" indent="138240">
              <a:spcBef>
                <a:spcPts val="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P Simplified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HP Simplified"/>
            </a:endParaRPr>
          </a:p>
          <a:p>
            <a:pPr lvl="6" marL="318960" indent="138240">
              <a:spcBef>
                <a:spcPts val="3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P Simplified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HP Simplifi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7240" y="47242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2021760" y="936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96d6"/>
                </a:solidFill>
                <a:latin typeface="Arial"/>
                <a:ea typeface="宋体"/>
              </a:rPr>
              <a:t>配图漂亮橙色系欧美风格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P Simplified"/>
              </a:rPr>
              <a:t>使用规范说明</a:t>
            </a:r>
            <a:endParaRPr b="1" lang="en-US" sz="2800" spc="-1" strike="noStrike">
              <a:solidFill>
                <a:srgbClr val="000000"/>
              </a:solidFill>
              <a:latin typeface="HP Simplifie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P Simplified"/>
              </a:rPr>
              <a:t>站点介绍：</a:t>
            </a:r>
            <a:endParaRPr b="1" lang="en-US" sz="14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P Simplifie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P Simplified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HP Simplified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HP Simplified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HP Simplifie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P Simplified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HP Simplifie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P Simplified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HP Simplifie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P Simplified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HP Simplifie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P Simplified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HP Simplifie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P Simplified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HP Simplifie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P Simplified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HP Simplified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HP Simplified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HP Simplified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HP Simplifie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HP Simplified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HP Simplifie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HP Simplified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6d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6d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8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P Simplified"/>
              </a:rPr>
              <a:t>特别说明：</a:t>
            </a:r>
            <a:endParaRPr b="1" lang="en-US" sz="14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P Simplified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HP Simplifie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P Simplifie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8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8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8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P Simplified"/>
              </a:rPr>
              <a:t>栏目推荐：</a:t>
            </a:r>
            <a:endParaRPr b="1" lang="en-US" sz="14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 u="sng">
                <a:solidFill>
                  <a:srgbClr val="0096d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0096d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 u="sng">
                <a:solidFill>
                  <a:srgbClr val="0096d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96d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0096d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 u="sng">
                <a:solidFill>
                  <a:srgbClr val="0096d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96d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 u="sng">
                <a:solidFill>
                  <a:srgbClr val="0096d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96d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 u="sng">
                <a:solidFill>
                  <a:srgbClr val="0096d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96d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 u="sng">
                <a:solidFill>
                  <a:srgbClr val="0096d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0096d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 u="sng">
                <a:solidFill>
                  <a:srgbClr val="0096d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0096d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 u="sng">
                <a:solidFill>
                  <a:srgbClr val="0096d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6d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 u="sng">
                <a:solidFill>
                  <a:srgbClr val="0096d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6d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 u="sng">
                <a:solidFill>
                  <a:srgbClr val="0096d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6d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 u="sng">
                <a:solidFill>
                  <a:srgbClr val="0096d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6d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96d6"/>
              </a:solidFill>
              <a:latin typeface="HP Simplified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96d6"/>
              </a:solidFill>
              <a:latin typeface="HP Simplified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998640" y="47926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0096d6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9:31:00Z</dcterms:created>
  <dc:creator>幻灯片之家：www.eeppt.com</dc:creator>
  <dc:description>幻灯片之家：www.eeppt.com</dc:description>
  <cp:keywords>幻灯片之家：www.eeppt.com</cp:keywords>
  <dc:language>en-US</dc:language>
  <cp:lastModifiedBy/>
  <cp:lastPrinted>2012-04-13T15:38:00Z</cp:lastPrinted>
  <dcterms:modified xsi:type="dcterms:W3CDTF">2015-09-18T13:25:50Z</dcterms:modified>
  <cp:revision>117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675338E99BEFA4EA9ECE25517404070</vt:lpwstr>
  </property>
  <property fmtid="{D5CDD505-2E9C-101B-9397-08002B2CF9AE}" pid="3" name="KSOProductBuildVer">
    <vt:lpwstr>2052-9.1.0.5132</vt:lpwstr>
  </property>
</Properties>
</file>