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5759450" cy="3240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A9E1-9C05-4079-A226-FBD780214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6920" y="187272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AE94-3CB3-485A-A6EF-82D2B045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94480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2CC1-1A8F-4B9A-8D17-264AAC626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4048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9404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692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4048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79404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9434-67F7-4C9F-84C2-42E2820E5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2AE3-B30A-43BE-8869-254E5935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CD8D-D541-4C7A-AC2F-0E2C1944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22C9-9C16-4621-B54B-70786017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D5C4-41AD-4185-8EB8-09FB456F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6920" y="129960"/>
            <a:ext cx="518652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8188-19AA-4F62-A010-C68021F8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843E-31BC-4F6F-80FE-0A244AA0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4480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B1B6-1EF8-48FA-A4F1-9E8006FA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557A-50F2-45C8-B370-341C372A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 fontScale="92000"/>
          </a:bodyPr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147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91480" indent="-118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28000" indent="-118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064520" indent="-118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064520" indent="-118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064520" indent="-118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6920" y="2950920"/>
            <a:ext cx="1344600" cy="2235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Autofit/>
          </a:bodyPr>
          <a:lstStyle>
            <a:lvl1pPr indent="0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68120" y="2950920"/>
            <a:ext cx="1824120" cy="2235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Autofit/>
          </a:bodyPr>
          <a:lstStyle>
            <a:lvl1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28840" y="2950920"/>
            <a:ext cx="1344600" cy="2235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Autofit/>
          </a:bodyPr>
          <a:lstStyle>
            <a:lvl1pPr indent="0" algn="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fld id="{7D53FC5F-5E2C-4941-8829-112667083F8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.png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hyperlink" Target="http://www.eeppt.com" TargetMode="Externa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62120" y="554040"/>
          <a:ext cx="2184480" cy="217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2120" y="554040"/>
                    <a:ext cx="2184480" cy="21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0" y="0"/>
          <a:ext cx="5761080" cy="22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5761080" cy="2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0" y="3013200"/>
          <a:ext cx="5761080" cy="226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013200"/>
                    <a:ext cx="5761080" cy="22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4024440" y="401760"/>
          <a:ext cx="1144440" cy="121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24440" y="401760"/>
                    <a:ext cx="114444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4633920" y="1697040"/>
          <a:ext cx="434880" cy="685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33920" y="1697040"/>
                    <a:ext cx="4348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4100400" y="2306520"/>
          <a:ext cx="584280" cy="422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00400" y="2306520"/>
                    <a:ext cx="58428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204920" y="554040"/>
          <a:ext cx="685800" cy="407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04920" y="554040"/>
                    <a:ext cx="6858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5200560" y="173160"/>
          <a:ext cx="560520" cy="2819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200560" y="173160"/>
                    <a:ext cx="56052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0" y="249120"/>
          <a:ext cx="554040" cy="2743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0" y="249120"/>
                    <a:ext cx="5540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0" y="26877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07160" y="17316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青花瓷中国风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94840" y="88920"/>
            <a:ext cx="5172120" cy="2714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040" y="599760"/>
            <a:ext cx="5624280" cy="24670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 fontScale="5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4591080" y="157320"/>
            <a:ext cx="876240" cy="1648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3708-6E20-417B-91B7-8968585906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0" y="0"/>
          <a:ext cx="5761080" cy="2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761080" cy="2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0" y="3013200"/>
          <a:ext cx="5761080" cy="22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013200"/>
                    <a:ext cx="5761080" cy="22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5200560" y="173160"/>
          <a:ext cx="560520" cy="281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00560" y="173160"/>
                    <a:ext cx="56052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0" y="249120"/>
          <a:ext cx="554040" cy="2743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249120"/>
                    <a:ext cx="5540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1417680" y="1298520"/>
            <a:ext cx="309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6T05:53:25Z</dcterms:created>
  <dc:creator/>
  <dc:description>www.eeppt.com;</dc:description>
  <cp:keywords>www.eeppt.com</cp:keywords>
  <dc:language>en-US</dc:language>
  <cp:lastModifiedBy>pc</cp:lastModifiedBy>
  <dcterms:modified xsi:type="dcterms:W3CDTF">2015-09-18T13:26:02Z</dcterms:modified>
  <cp:revision>4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Version">
    <vt:r8>1</vt:r8>
  </property>
</Properties>
</file>