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981-E21E-40B8-9C07-1F4D3046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C3B-9973-439A-8FA5-1823F962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F3E-3DD8-4ED8-8478-A3DCDF98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C85-3B68-4952-A12F-B222BB95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E768-0E0D-420E-8B0B-A6321816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3CB7-E15D-44D7-A03F-85632AB0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AE25-E3EB-4348-B363-005E663B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2ABD-B8D4-4F83-89D0-0598C8D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8EC5-3C5D-4223-89DF-3F199B08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679D-7E06-4A2D-9525-49886EA1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D831-FF4B-4AB5-BADE-B4C2CF2F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745-07A9-428A-9452-8F0CEA3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1EE0-6F5C-4C09-A7DD-BF83CDD6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D600-2423-42BA-AACF-50568AF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EEB3-16C3-4BDC-9A81-E6E7833B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3F83-E4C2-499F-9400-A616B564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68580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0440"/>
            <a:ext cx="2502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7CAF-D0E9-46A1-A6A5-CB7030AD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B6B-50F3-463E-9F22-0E8A56BC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ADE-BA9D-425F-A9AE-C9765FA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1DB-F5B2-4122-916E-D280D72F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DA6-5EE6-422F-A8A3-D117ED9A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395-FA6A-4460-ABB2-F63EDB0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044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D42-3C97-4489-9D19-2C6B7F64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47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685800"/>
            <a:ext cx="3792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044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9C5-0D73-41C2-A111-29F821F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A3D-C767-4913-A23E-D0333FFCEF72}" type="slidenum">
              <a:rPr b="1" lang="zh-CN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712F-BCAD-43CC-B3ED-103576F8A8D9}" type="slidenum">
              <a:rPr b="0" lang="zh-CN" sz="1000" spc="-1" strike="noStrike">
                <a:solidFill>
                  <a:srgbClr val="ffffff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484360" y="4581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hocolates"/>
          <p:cNvPicPr/>
          <p:nvPr/>
        </p:nvPicPr>
        <p:blipFill>
          <a:blip r:embed="rId17"/>
          <a:stretch/>
        </p:blipFill>
        <p:spPr>
          <a:xfrm>
            <a:off x="228600" y="806400"/>
            <a:ext cx="7467480" cy="6051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000" y="2387520"/>
            <a:ext cx="8712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巧克力情人节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打包下载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upid"/>
          <p:cNvPicPr/>
          <p:nvPr/>
        </p:nvPicPr>
        <p:blipFill>
          <a:blip r:embed="rId2"/>
          <a:stretch/>
        </p:blipFill>
        <p:spPr>
          <a:xfrm>
            <a:off x="0" y="91440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upid_flying_hg_clr"/>
          <p:cNvPicPr/>
          <p:nvPr/>
        </p:nvPicPr>
        <p:blipFill>
          <a:blip r:embed="rId2"/>
          <a:stretch/>
        </p:blipFill>
        <p:spPr>
          <a:xfrm>
            <a:off x="0" y="4876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使用规范说明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514-AB29-4B7E-95BF-F23FC69EC022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eart_chocolate_for_you_hg_clr"/>
          <p:cNvPicPr/>
          <p:nvPr/>
        </p:nvPicPr>
        <p:blipFill>
          <a:blip r:embed="rId2"/>
          <a:stretch/>
        </p:blipFill>
        <p:spPr>
          <a:xfrm>
            <a:off x="162000" y="4657680"/>
            <a:ext cx="22003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23:32:43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9:30Z</dcterms:modified>
  <cp:revision>8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