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80DD-A75A-4B77-A9AC-4CF474A22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59173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91BE-8725-4AF8-93D9-4F59852D5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704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E937-BC4D-4AD4-A755-5C9384A02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47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05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47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05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C74F-4162-4632-90F9-4648272A8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40840" y="2895120"/>
            <a:ext cx="861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16A2-383C-4232-9686-FA3082916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704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18960" y="59173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704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47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50560" y="56386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189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47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50560" y="59173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AFF1-839E-4583-B6F4-DF550C74E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4A22-2F02-4A96-ABFB-2E6AC7E5F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58A5-68CF-435C-8379-E3FBC76AB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0840" y="2895120"/>
            <a:ext cx="861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9EFE-3FFB-4175-BBD2-E20FFB3A7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E2F3-6425-4BF0-B33E-3C6B3C8E3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7040" y="59173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58B9-A22F-4341-B716-E3A2E3B02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7040" y="56386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59173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3551-A7F9-4DCA-B860-E3C17E34A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77299" r="0" b="8013"/>
          <a:stretch/>
        </p:blipFill>
        <p:spPr>
          <a:xfrm>
            <a:off x="0" y="0"/>
            <a:ext cx="9144000" cy="100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flipV="1">
            <a:off x="0" y="1029240"/>
            <a:ext cx="9156600" cy="14436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gradFill rotWithShape="0">
            <a:gsLst>
              <a:gs pos="0">
                <a:srgbClr val="ececec"/>
              </a:gs>
              <a:gs pos="50000">
                <a:srgbClr val="dddddd"/>
              </a:gs>
              <a:gs pos="100000">
                <a:srgbClr val="ecec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725C-EA51-4AEB-A88D-C3592017472D}" type="slidenum"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32160" y="65433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8920" y="2946240"/>
            <a:ext cx="8997840" cy="795600"/>
          </a:xfrm>
          <a:prstGeom prst="rect">
            <a:avLst/>
          </a:prstGeom>
          <a:gradFill rotWithShape="0">
            <a:gsLst>
              <a:gs pos="0">
                <a:srgbClr val="458f8f"/>
              </a:gs>
              <a:gs pos="100000">
                <a:srgbClr val="2b16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6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7240" y="2805120"/>
            <a:ext cx="9086400" cy="1047240"/>
            <a:chOff x="57240" y="2805120"/>
            <a:chExt cx="9086400" cy="1047240"/>
          </a:xfrm>
        </p:grpSpPr>
        <p:sp>
          <p:nvSpPr>
            <p:cNvPr id="52" name=""/>
            <p:cNvSpPr/>
            <p:nvPr/>
          </p:nvSpPr>
          <p:spPr>
            <a:xfrm flipV="1">
              <a:off x="63360" y="3720960"/>
              <a:ext cx="9080280" cy="131040"/>
            </a:xfrm>
            <a:custGeom>
              <a:avLst/>
              <a:gdLst/>
              <a:ahLst/>
              <a:rect l="l" t="t" r="r" b="b"/>
              <a:pathLst>
                <a:path w="5768" h="366">
                  <a:moveTo>
                    <a:pt x="4" y="365"/>
                  </a:moveTo>
                  <a:lnTo>
                    <a:pt x="0" y="246"/>
                  </a:lnTo>
                  <a:cubicBezTo>
                    <a:pt x="304" y="192"/>
                    <a:pt x="1175" y="64"/>
                    <a:pt x="1837" y="32"/>
                  </a:cubicBezTo>
                  <a:cubicBezTo>
                    <a:pt x="2499" y="0"/>
                    <a:pt x="3316" y="19"/>
                    <a:pt x="3970" y="52"/>
                  </a:cubicBezTo>
                  <a:cubicBezTo>
                    <a:pt x="4624" y="85"/>
                    <a:pt x="5464" y="179"/>
                    <a:pt x="5764" y="231"/>
                  </a:cubicBezTo>
                  <a:lnTo>
                    <a:pt x="5768" y="366"/>
                  </a:lnTo>
                  <a:lnTo>
                    <a:pt x="4" y="3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240" y="2805120"/>
              <a:ext cx="9080280" cy="131040"/>
            </a:xfrm>
            <a:custGeom>
              <a:avLst/>
              <a:gdLst/>
              <a:ahLst/>
              <a:rect l="l" t="t" r="r" b="b"/>
              <a:pathLst>
                <a:path w="5768" h="366">
                  <a:moveTo>
                    <a:pt x="4" y="365"/>
                  </a:moveTo>
                  <a:lnTo>
                    <a:pt x="0" y="246"/>
                  </a:lnTo>
                  <a:cubicBezTo>
                    <a:pt x="304" y="192"/>
                    <a:pt x="1175" y="64"/>
                    <a:pt x="1837" y="32"/>
                  </a:cubicBezTo>
                  <a:cubicBezTo>
                    <a:pt x="2499" y="0"/>
                    <a:pt x="3316" y="19"/>
                    <a:pt x="3970" y="52"/>
                  </a:cubicBezTo>
                  <a:cubicBezTo>
                    <a:pt x="4624" y="85"/>
                    <a:pt x="5464" y="179"/>
                    <a:pt x="5764" y="231"/>
                  </a:cubicBezTo>
                  <a:lnTo>
                    <a:pt x="5768" y="366"/>
                  </a:lnTo>
                  <a:lnTo>
                    <a:pt x="4" y="3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b16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320" y="2939760"/>
            <a:ext cx="89629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浅绿色医疗幻灯片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33200" y="3341160"/>
            <a:ext cx="1467000" cy="972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3338640"/>
            <a:ext cx="1349640" cy="144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2b166e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2b166e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9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c9bb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c9bb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a5366"/>
                </a:gs>
                <a:gs pos="50000">
                  <a:srgbClr val="6c9bbe"/>
                </a:gs>
                <a:gs pos="100000">
                  <a:srgbClr val="3a5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c9bbe">
                    <a:alpha val="0"/>
                  </a:srgbClr>
                </a:gs>
                <a:gs pos="100000">
                  <a:srgbClr val="4462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58f8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f4141"/>
                </a:gs>
                <a:gs pos="100000">
                  <a:srgbClr val="458f8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54d4d"/>
                </a:gs>
                <a:gs pos="50000">
                  <a:srgbClr val="458f8f"/>
                </a:gs>
                <a:gs pos="100000">
                  <a:srgbClr val="25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58f8f">
                    <a:alpha val="0"/>
                  </a:srgbClr>
                </a:gs>
                <a:gs pos="100000">
                  <a:srgbClr val="2b5a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5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00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308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5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1022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818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38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63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0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7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5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9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04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5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02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cxnSp>
            <p:nvCxnSpPr>
              <p:cNvPr id="506" name=""/>
              <p:cNvCxnSpPr>
                <a:stCxn id="502" idx="3"/>
                <a:endCxn id="50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507" name=""/>
              <p:cNvCxnSpPr>
                <a:stCxn id="503" idx="3"/>
                <a:endCxn id="50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508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11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13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f636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1c1"/>
                  </a:gs>
                  <a:gs pos="50000">
                    <a:srgbClr val="458f8f">
                      <a:alpha val="0"/>
                    </a:srgbClr>
                  </a:gs>
                  <a:gs pos="100000">
                    <a:srgbClr val="99c1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8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20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4b4fe"/>
                  </a:gs>
                  <a:gs pos="100000">
                    <a:srgbClr val="9999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>
                      <a:alpha val="0"/>
                    </a:srgbClr>
                  </a:gs>
                  <a:gs pos="100000">
                    <a:srgbClr val="d2d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5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7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0bed4"/>
                  </a:gs>
                  <a:gs pos="100000">
                    <a:srgbClr val="6c9bb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9bbe">
                      <a:alpha val="0"/>
                    </a:srgbClr>
                  </a:gs>
                  <a:gs pos="100000">
                    <a:srgbClr val="b6cdd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51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052640" y="2392200"/>
          <a:ext cx="7191360" cy="3198960"/>
        </p:xfrm>
        <a:graphic>
          <a:graphicData uri="http://schemas.openxmlformats.org/drawingml/2006/table">
            <a:tbl>
              <a:tblPr/>
              <a:tblGrid>
                <a:gridCol w="1622520"/>
                <a:gridCol w="1130040"/>
                <a:gridCol w="1111320"/>
                <a:gridCol w="1106640"/>
                <a:gridCol w="1114200"/>
                <a:gridCol w="110664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b166e"/>
                      </a:solidFill>
                    </a:lnR>
                    <a:lnT>
                      <a:noFill/>
                    </a:lnT>
                    <a:lnB w="576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69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abafe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95656"/>
                </a:gs>
                <a:gs pos="100000">
                  <a:srgbClr val="458f8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6e6e00"/>
                </a:gs>
                <a:gs pos="100000">
                  <a:srgbClr val="cccc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81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100000">
                    <a:srgbClr val="415d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100000">
                    <a:srgbClr val="6c9bbe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100000">
                    <a:srgbClr val="6c9b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b166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90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d0e2e2"/>
                </a:gs>
                <a:gs pos="100000">
                  <a:srgbClr val="458f8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00"/>
                      </a:gs>
                      <a:gs pos="100000">
                        <a:srgbClr val="818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602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9bbe"/>
                      </a:gs>
                      <a:gs pos="100000">
                        <a:srgbClr val="1a25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c9bb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15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58f8f"/>
                      </a:gs>
                      <a:gs pos="100000">
                        <a:srgbClr val="2349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458f8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8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99" name="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00" name="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107" name="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08" name="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15" name="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16" name="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23" name="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66e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66B9-3545-4503-996D-120C1D68DE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514600" y="3009960"/>
            <a:ext cx="43434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458f8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2b166e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458f8f"/>
                  </a:gs>
                </a:gsLst>
                <a:lin ang="10800000"/>
              </a:gradFill>
              <a:effectLst>
                <a:outerShdw dist="17819" dir="2700000" blurRad="0" rotWithShape="0">
                  <a:srgbClr val="2b166e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880" y="1447560"/>
            <a:ext cx="763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8f8f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458f8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5c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b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0d0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dd7d7"/>
                  </a:gs>
                  <a:gs pos="100000">
                    <a:srgbClr val="458f8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48235"/>
                    </a:srgbClr>
                  </a:gs>
                  <a:gs pos="100000">
                    <a:srgbClr val="36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53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100000">
                  <a:srgbClr val="152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84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2535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cxnSp>
          <p:nvCxnSpPr>
            <p:cNvPr id="16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miter/>
            </a:ln>
          </p:spPr>
        </p:cxnSp>
        <p:sp>
          <p:nvSpPr>
            <p:cNvPr id="16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1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92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7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31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50000">
                    <a:srgbClr val="cccc00"/>
                  </a:gs>
                  <a:gs pos="100000">
                    <a:srgbClr val="5e5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50000">
                    <a:srgbClr val="6c9bbe"/>
                  </a:gs>
                  <a:gs pos="100000">
                    <a:srgbClr val="31475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141"/>
                  </a:gs>
                  <a:gs pos="5000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5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39300"/>
                  </a:gs>
                  <a:gs pos="50000">
                    <a:srgbClr val="cccc00"/>
                  </a:gs>
                  <a:gs pos="100000">
                    <a:srgbClr val="939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e6eb8"/>
                  </a:gs>
                  <a:gs pos="50000">
                    <a:srgbClr val="9999ff"/>
                  </a:gs>
                  <a:gs pos="100000">
                    <a:srgbClr val="6e6e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c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e7089"/>
                  </a:gs>
                  <a:gs pos="50000">
                    <a:srgbClr val="6c9bbe"/>
                  </a:gs>
                  <a:gs pos="100000">
                    <a:srgbClr val="4e708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16767"/>
                  </a:gs>
                  <a:gs pos="50000">
                    <a:srgbClr val="458f8f"/>
                  </a:gs>
                  <a:gs pos="100000">
                    <a:srgbClr val="3167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46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a1a1f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c9bbe"/>
                </a:gs>
                <a:gs pos="100000">
                  <a:srgbClr val="a9c4d8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59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c9b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93b49"/>
                  </a:gs>
                  <a:gs pos="50000">
                    <a:srgbClr val="6c9bbe"/>
                  </a:gs>
                  <a:gs pos="100000">
                    <a:srgbClr val="293b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26Z</dcterms:modified>
  <cp:revision>6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