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D0E7-80F7-4206-87A4-AD3F94860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EFC6-72B8-480E-BD5D-1DF6F4B03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24E6-CF5E-4669-B223-F8F45F662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9C5B-B2FA-4DA8-8C97-3C598DBF4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FE5B-9A69-4A60-B99C-CB5F862E6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A079-065C-4F5D-B5C1-D2697EABB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7E83-9AF9-4C50-964E-486C6CEA9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39EB-3E1F-4A4C-B439-DEF0D4C9C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AF8C-3936-4BC6-B71F-C3DC8D2A3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0842-1D11-4500-BFEF-E5B09C96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6F89-3C24-440F-ACF1-17C04276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A102-EC1F-43CD-B41D-74790978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B97B7-4275-4231-BD0D-EC42FF1A439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F57DD-4B81-4B33-82CC-0298FE9A61B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17b1OOOPIC19"/>
          <p:cNvPicPr/>
          <p:nvPr/>
        </p:nvPicPr>
        <p:blipFill>
          <a:blip r:embed="rId1"/>
          <a:stretch/>
        </p:blipFill>
        <p:spPr>
          <a:xfrm>
            <a:off x="0" y="573120"/>
            <a:ext cx="9144000" cy="5711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11160" y="62064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清明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图片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1" descr="xpic10436"/>
          <p:cNvPicPr/>
          <p:nvPr/>
        </p:nvPicPr>
        <p:blipFill>
          <a:blip r:embed="rId1"/>
          <a:stretch/>
        </p:blipFill>
        <p:spPr>
          <a:xfrm>
            <a:off x="0" y="157320"/>
            <a:ext cx="9144000" cy="65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D25B-A6A0-4CE0-8AEC-8EE4DA3E880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1" descr="xpic10438"/>
          <p:cNvPicPr/>
          <p:nvPr/>
        </p:nvPicPr>
        <p:blipFill>
          <a:blip r:embed="rId1"/>
          <a:stretch/>
        </p:blipFill>
        <p:spPr>
          <a:xfrm>
            <a:off x="0" y="425520"/>
            <a:ext cx="9144000" cy="60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" descr="64b1OOOPICed"/>
          <p:cNvPicPr/>
          <p:nvPr/>
        </p:nvPicPr>
        <p:blipFill>
          <a:blip r:embed="rId1"/>
          <a:stretch/>
        </p:blipFill>
        <p:spPr>
          <a:xfrm>
            <a:off x="0" y="390600"/>
            <a:ext cx="9144000" cy="60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" descr="80bOOOPICd5"/>
          <p:cNvPicPr/>
          <p:nvPr/>
        </p:nvPicPr>
        <p:blipFill>
          <a:blip r:embed="rId1"/>
          <a:stretch/>
        </p:blipFill>
        <p:spPr>
          <a:xfrm>
            <a:off x="0" y="130320"/>
            <a:ext cx="9144000" cy="6597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95280" y="37180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1" descr="82bOOOPIC73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1079_big"/>
          <p:cNvPicPr/>
          <p:nvPr/>
        </p:nvPicPr>
        <p:blipFill>
          <a:blip r:embed="rId1"/>
          <a:stretch/>
        </p:blipFill>
        <p:spPr>
          <a:xfrm>
            <a:off x="0" y="361800"/>
            <a:ext cx="9144000" cy="61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1" descr="1333248482620"/>
          <p:cNvPicPr/>
          <p:nvPr/>
        </p:nvPicPr>
        <p:blipFill>
          <a:blip r:embed="rId1"/>
          <a:stretch/>
        </p:blipFill>
        <p:spPr>
          <a:xfrm>
            <a:off x="420840" y="0"/>
            <a:ext cx="8302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1" descr="2012033021135097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1" descr="2012040115334247"/>
          <p:cNvPicPr/>
          <p:nvPr/>
        </p:nvPicPr>
        <p:blipFill>
          <a:blip r:embed="rId1"/>
          <a:stretch/>
        </p:blipFill>
        <p:spPr>
          <a:xfrm>
            <a:off x="0" y="1089000"/>
            <a:ext cx="91440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1" descr="psd8222"/>
          <p:cNvPicPr/>
          <p:nvPr/>
        </p:nvPicPr>
        <p:blipFill>
          <a:blip r:embed="rId1"/>
          <a:stretch/>
        </p:blipFill>
        <p:spPr>
          <a:xfrm>
            <a:off x="0" y="198360"/>
            <a:ext cx="9144000" cy="646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1T09:37:00Z</dcterms:created>
  <dc:creator>pc</dc:creator>
  <dc:description>www.eeppt.com;</dc:description>
  <cp:keywords>www.eeppt.com</cp:keywords>
  <dc:language>en-US</dc:language>
  <cp:lastModifiedBy>SUNNY-PC</cp:lastModifiedBy>
  <dcterms:modified xsi:type="dcterms:W3CDTF">2015-09-18T13:21:44Z</dcterms:modified>
  <cp:revision>1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