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B299-A24C-4F54-9881-63C86857D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2090-FB39-4542-8033-408A2AB0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300C-B017-43E5-B514-B81F7A672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F89A-081E-46BF-8D39-762CFA303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8B44-BDF5-464D-8309-B40CBC3BE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2F06-8C33-4857-AA0B-10EB66F8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0562-C8F6-460E-9433-E381EA84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A2B1-4353-44A8-B69B-16404799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33F6-8C81-4B80-B04E-E4D446C8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1808-2588-443A-91F6-04FA8BB6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18BB-25D7-4609-AE36-D33B1B11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0352-13C1-4A4A-AB88-ADBAADC6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91E7-C89D-4690-B36D-3E693FCD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573F-865C-449C-8A5D-0BC3F53C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7D33-DFAF-426F-94AD-93150F41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C312-B8C4-44B0-A8EF-9697C5EE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D736-A4C7-4E1A-87CD-86E84A498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1E74-FD06-4036-9DE1-89672EFF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F7CC-C6F9-4B75-A7AE-F53EB1DB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A8C1-2698-421E-B1E2-D339E66C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1B3A-E648-499A-92B2-F2E04EEE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3BCC-58CA-4D8A-962C-FBC114DF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DD50-DF3B-4857-BAE8-B669603E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BF9C-E2C2-4538-9065-D280773B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44313"/>
                </a:srgbClr>
              </a:gs>
              <a:gs pos="100000">
                <a:srgbClr val="ffffff">
                  <a:alpha val="9725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3119-5FB9-4B50-AAC7-7949C5830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FCF4-642E-4ED5-A317-069858625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61520" y="83664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清明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979640" y="620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D2C5-9CEB-4127-BC98-C2A9DE28EB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2:41:07Z</dcterms:created>
  <dc:creator>pc</dc:creator>
  <dc:description>www.eeppt.com;</dc:description>
  <cp:keywords>www.eeppt.com</cp:keywords>
  <dc:language>en-US</dc:language>
  <cp:lastModifiedBy>jccook</cp:lastModifiedBy>
  <dcterms:modified xsi:type="dcterms:W3CDTF">2015-09-20T08:17:51Z</dcterms:modified>
  <cp:revision>11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