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EE9E-6F3C-4421-93FB-A0E788EE3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6973-BEA6-4775-9F7F-54A383C4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FE19-093B-4F30-8E1B-D150F8DB2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52B2-F7E3-4B7D-B0B6-7225F1D35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F42C-2058-40F7-9256-B8E2F223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6456-AB94-42F0-BA96-D652D87A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9A55-3D59-4EB3-9E91-E04686DC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DFB0-55C4-4418-AE7F-9A47CB0E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D2B1-FF92-473D-B661-B607B876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FD64-A809-4133-8AB1-55C98CA2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7B88-AE66-4FEA-8361-B59F7EA0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4146-B8E8-42F3-9C5D-3F1E6ECE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85F8-10CF-4E6A-93BD-32B369EE761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4D64-1148-4FC1-8C52-3990F3E843D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281160" y="5284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75080" y="189000"/>
            <a:ext cx="47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清明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忆清明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内容占位符 3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453360"/>
          </a:xfrm>
          <a:prstGeom prst="rect">
            <a:avLst/>
          </a:prstGeom>
          <a:ln w="0">
            <a:noFill/>
          </a:ln>
        </p:spPr>
      </p:pic>
      <p:pic>
        <p:nvPicPr>
          <p:cNvPr id="46" name="图片 4" descr=""/>
          <p:cNvPicPr/>
          <p:nvPr/>
        </p:nvPicPr>
        <p:blipFill>
          <a:blip r:embed="rId2"/>
          <a:srcRect l="0" t="91256" r="0" b="0"/>
          <a:stretch/>
        </p:blipFill>
        <p:spPr>
          <a:xfrm>
            <a:off x="-20520" y="0"/>
            <a:ext cx="9164520" cy="600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CEA0-D4F9-4991-AB0D-5383BD5D07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2T11:51:00Z</dcterms:created>
  <dc:creator>pc</dc:creator>
  <dc:description>www.eeppt.com;</dc:description>
  <cp:keywords>www.eeppt.com</cp:keywords>
  <dc:language>en-US</dc:language>
  <cp:lastModifiedBy>lenovo</cp:lastModifiedBy>
  <dcterms:modified xsi:type="dcterms:W3CDTF">2015-09-18T13:21:48Z</dcterms:modified>
  <cp:revision>7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