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68F-0F91-4ECC-8FA7-9873B41E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4258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B83-CEB2-452E-9094-FB97985C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A04-ACFC-44B5-B72B-306992EF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2667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2667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4258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4258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4258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8B1-9FEC-472F-85D6-418EC594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DC0F-5405-458A-8458-1F1972D1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6732-1331-458D-9B7F-4CBBEB29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6C4F-C02D-4BD9-8055-0D82ADD2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315E-E2B9-447D-9517-FEC1D3F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9E0-E908-417B-8FA9-33BE5800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2E24-09C4-4A3D-B903-DAD49C8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20E1-F392-491D-83B7-E9FD8171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10A-AD75-422C-9992-4B68F7A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739E-6E80-40F4-B1BB-093195D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4258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4F22-8342-4696-A543-24295B6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4258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A753-72A4-4755-B6C8-BC05D55E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F281-433B-40D3-AC2D-75C1567C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2667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2667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4258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4258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4258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A597-518F-4919-A0E3-21014C45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E55-E166-4DAF-8996-97B8C1C1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F7B-2275-48F7-B01C-EF65C00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08F-386C-4DCD-9EFE-A49DAAA5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EE6-86BB-4434-B897-315FA7FB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6FB-135C-45B4-88E2-0D636588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4258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4B9-A582-410B-8C87-94BA1A7D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2667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4258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2F5-7A43-447F-8DBE-5213BB1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 C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 C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 C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6120-9D88-41FD-96FF-0E8418DC743C}" type="slidenum">
              <a:rPr b="0" lang="en-US" sz="1200" spc="-1" strike="noStrike">
                <a:solidFill>
                  <a:srgbClr val="ffffff"/>
                </a:solidFill>
                <a:latin typeface="Franklin Gothic Demi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 C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 C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 C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603-C377-434F-A941-AD5B12762D30}" type="slidenum">
              <a:rPr b="0" lang="en-US" sz="1200" spc="-1" strike="noStrike">
                <a:solidFill>
                  <a:srgbClr val="ffffff"/>
                </a:solidFill>
                <a:latin typeface="Franklin Gothic Demi C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anklin Gothic Demi Cond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 Con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anklin Gothic Demi Cond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 Con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ranklin Gothic Demi Cond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 Con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ranklin Gothic Demi Cond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Demi Con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Impact"/>
              </a:rPr>
              <a:t>Global Projection</a:t>
            </a: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Your Subtitle Goes Here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4920" y="63828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全球化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0" name=""/>
          <p:cNvSpPr/>
          <p:nvPr/>
        </p:nvSpPr>
        <p:spPr>
          <a:xfrm>
            <a:off x="3357720" y="233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 Cond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 Cond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 Cond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 C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 C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 C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 Cond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 Cond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 Cond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42B-7F18-464D-85AE-AF9BD57C5FC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6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7" name="global_projection_prt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8" name="global_projection_qx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9" name="global_projection_sld" descr=""/>
          <p:cNvPicPr/>
          <p:nvPr/>
        </p:nvPicPr>
        <p:blipFill>
          <a:blip r:embed="rId3"/>
          <a:stretch/>
        </p:blipFill>
        <p:spPr>
          <a:xfrm>
            <a:off x="243828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00" name="global_projection_trs" descr=""/>
          <p:cNvPicPr/>
          <p:nvPr/>
        </p:nvPicPr>
        <p:blipFill>
          <a:blip r:embed="rId4"/>
          <a:stretch/>
        </p:blipFill>
        <p:spPr>
          <a:xfrm>
            <a:off x="4648320" y="50292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3:39:4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22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