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0653-5E91-482C-889A-B5B585551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C72F-618D-4B44-AEB7-E1C60A70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95A4-D1E7-474F-864B-41003F112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5EE1-8C83-4EEF-B61B-F74C8BC80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041F-4844-47F0-B895-911762D7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BB6C-00CB-47AC-954A-7F89C476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A85A-05D4-467E-9E13-3C470792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8476-28D2-4364-B5E1-558D2881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25DD-A1F8-4C0D-9E7C-32129230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72E7-1E8A-47BD-8BF1-05C27545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EA19-CC0B-4669-8E22-2F6EF8B7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65A5-8115-458B-83FC-B465F29F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C86F-A673-4CC9-B577-339C46EF633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79640" y="63817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10920" y="549360"/>
            <a:ext cx="598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情人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罗曼蒂克爱心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099A-6CF0-41BA-86E0-34EA52AA46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5T00:46:17Z</dcterms:created>
  <dc:creator>pc</dc:creator>
  <dc:description>www.eeppt.com;</dc:description>
  <cp:keywords>www.eeppt.com</cp:keywords>
  <dc:language>en-US</dc:language>
  <cp:lastModifiedBy>Windows 用户</cp:lastModifiedBy>
  <dcterms:modified xsi:type="dcterms:W3CDTF">2015-09-18T13:20:13Z</dcterms:modified>
  <cp:revision>5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