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C1BF-7E5C-4FA9-8049-A3D63D5C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806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698000"/>
            <a:ext cx="806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865D-1306-43A5-A2A4-D75C67D8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8748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69800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87480" y="469800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4636-AD8C-4ADB-B0CB-4460B186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2760" y="441936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320" y="441936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69800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2760" y="469800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320" y="469800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6A83-B49E-480E-8105-9C167A88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075A-4843-413B-A1D8-A097F62A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441936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6A61-0728-42C3-9462-70858893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284A-6762-4421-BF39-F317FFAA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3933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87480" y="4419360"/>
            <a:ext cx="3933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E42B-605E-455A-B317-27C60EDB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3F31-DB52-4C99-AE68-3367E299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E542-7646-4028-B241-B7394DC0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87480" y="4419360"/>
            <a:ext cx="3933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469800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C484-515F-4987-8267-C8665AA4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41936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4F9A-8205-4C72-8EA8-8C65BECE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3933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8748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87480" y="469800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C35C-E4E2-4F64-922C-8F9036BA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8748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698000"/>
            <a:ext cx="806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D6FA-3586-46A9-B5C2-E27B758C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806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4698000"/>
            <a:ext cx="806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308C-7BDC-4280-9A72-68C9ADBE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8748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69800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87480" y="469800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4F90-9E7C-4AB3-B90A-3F8873FC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760" y="441936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320" y="441936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469800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760" y="469800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320" y="4698000"/>
            <a:ext cx="2595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76C7-E788-48F9-9B40-774B1271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3D9-2A3D-4A3C-8AC5-C0AEAF1A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3933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87480" y="4419360"/>
            <a:ext cx="3933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F07-D025-4A2E-8708-4D17B76E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2F43-5EAB-47D7-8FAF-73CB705A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F0E-ED39-4B9A-9C79-86D131A3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87480" y="4419360"/>
            <a:ext cx="3933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69800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95BE-4722-460B-BE23-66A64B8D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3933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8748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7480" y="469800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A0A-65FB-4592-83D8-98F3D994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7480" y="4419360"/>
            <a:ext cx="3933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698000"/>
            <a:ext cx="806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FFF4-3FC7-44B3-90ED-254AF233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0"/>
            <a:ext cx="8686800" cy="91440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add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AF2A-8156-40C8-9F25-5F755923C2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5378400" y="990720"/>
            <a:ext cx="3765600" cy="586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1600200"/>
            <a:ext cx="8610480" cy="99072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c7ecb3">
                  <a:alpha val="0"/>
                </a:srgbClr>
              </a:gs>
              <a:gs pos="100000">
                <a:srgbClr val="8dda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D867-7094-444D-896B-C5F9B1B09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9200" y="56674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43360" y="0"/>
            <a:ext cx="4400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青色风格企业</a:t>
            </a: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441936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1386000"/>
            <a:ext cx="8381880" cy="4709520"/>
            <a:chOff x="457200" y="1386000"/>
            <a:chExt cx="8381880" cy="4709520"/>
          </a:xfrm>
        </p:grpSpPr>
        <p:sp>
          <p:nvSpPr>
            <p:cNvPr id="273" name=""/>
            <p:cNvSpPr/>
            <p:nvPr/>
          </p:nvSpPr>
          <p:spPr>
            <a:xfrm>
              <a:off x="2590920" y="213336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8dda6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3581280" y="3124080"/>
              <a:ext cx="2057400" cy="2133000"/>
              <a:chOff x="3581280" y="3124080"/>
              <a:chExt cx="2057400" cy="2133000"/>
            </a:xfrm>
          </p:grpSpPr>
          <p:sp>
            <p:nvSpPr>
              <p:cNvPr id="275" name=""/>
              <p:cNvSpPr/>
              <p:nvPr/>
            </p:nvSpPr>
            <p:spPr>
              <a:xfrm>
                <a:off x="3581280" y="3124080"/>
                <a:ext cx="2057400" cy="21330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16360" y="3159360"/>
                <a:ext cx="1587240" cy="804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952080" y="3962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4191120" y="1752480"/>
              <a:ext cx="685800" cy="658440"/>
              <a:chOff x="4191120" y="1752480"/>
              <a:chExt cx="685800" cy="65844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4191120" y="1752480"/>
                <a:ext cx="685800" cy="658440"/>
                <a:chOff x="4191120" y="1752480"/>
                <a:chExt cx="685800" cy="6584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191120" y="1752480"/>
                  <a:ext cx="685800" cy="65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8b30"/>
                    </a:gs>
                    <a:gs pos="100000">
                      <a:srgbClr val="613a14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8b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4356000" y="185364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524760" y="5037840"/>
              <a:ext cx="368280" cy="334080"/>
              <a:chOff x="3524760" y="5037840"/>
              <a:chExt cx="368280" cy="334080"/>
            </a:xfrm>
          </p:grpSpPr>
          <p:sp>
            <p:nvSpPr>
              <p:cNvPr id="284" name=""/>
              <p:cNvSpPr/>
              <p:nvPr/>
            </p:nvSpPr>
            <p:spPr>
              <a:xfrm rot="18226800">
                <a:off x="3553560" y="5208840"/>
                <a:ext cx="131040" cy="139320"/>
              </a:xfrm>
              <a:prstGeom prst="ellipse">
                <a:avLst/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76e9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8226800">
                <a:off x="3732480" y="5061240"/>
                <a:ext cx="131400" cy="139320"/>
              </a:xfrm>
              <a:prstGeom prst="ellipse">
                <a:avLst/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76e9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895480" y="5329080"/>
              <a:ext cx="685800" cy="685440"/>
              <a:chOff x="2895480" y="5329080"/>
              <a:chExt cx="685800" cy="68544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2895480" y="5329080"/>
                <a:ext cx="685800" cy="685440"/>
                <a:chOff x="2895480" y="5329080"/>
                <a:chExt cx="685800" cy="6854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895480" y="5329080"/>
                  <a:ext cx="68580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a7e3"/>
                    </a:gs>
                    <a:gs pos="100000">
                      <a:srgbClr val="0e283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73600" y="5340240"/>
                  <a:ext cx="529200" cy="258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a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3053880" y="5457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6251400" y="3124080"/>
              <a:ext cx="682560" cy="693360"/>
              <a:chOff x="6251400" y="3124080"/>
              <a:chExt cx="682560" cy="69336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6251400" y="3124080"/>
                <a:ext cx="682560" cy="693360"/>
                <a:chOff x="6251400" y="3124080"/>
                <a:chExt cx="682560" cy="6933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6251400" y="3124080"/>
                  <a:ext cx="682560" cy="69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8f2b"/>
                    </a:gs>
                    <a:gs pos="100000">
                      <a:srgbClr val="a9bd84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329160" y="3135240"/>
                  <a:ext cx="52668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b8f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6396840" y="321912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5638680" y="5333760"/>
              <a:ext cx="654120" cy="622080"/>
              <a:chOff x="5638680" y="5333760"/>
              <a:chExt cx="654120" cy="62208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5638680" y="5333760"/>
                <a:ext cx="654120" cy="622080"/>
                <a:chOff x="5638680" y="5333760"/>
                <a:chExt cx="654120" cy="6220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638680" y="533376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4334"/>
                    </a:gs>
                    <a:gs pos="100000">
                      <a:srgbClr val="061e1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713200" y="534384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f43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5794920" y="536688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362320" y="3124080"/>
              <a:ext cx="685800" cy="685440"/>
              <a:chOff x="2362320" y="3124080"/>
              <a:chExt cx="685800" cy="68544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2362320" y="3124080"/>
                <a:ext cx="685800" cy="685440"/>
                <a:chOff x="2362320" y="3124080"/>
                <a:chExt cx="685800" cy="6854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2362320" y="3124080"/>
                  <a:ext cx="68580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dda62"/>
                    </a:gs>
                    <a:gs pos="100000">
                      <a:srgbClr val="3f622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440440" y="3135240"/>
                  <a:ext cx="529200" cy="258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dda6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2523240" y="320004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 rot="18226800">
              <a:off x="5563440" y="5173920"/>
              <a:ext cx="129600" cy="137880"/>
            </a:xfrm>
            <a:prstGeom prst="ellipse">
              <a:avLst/>
            </a:prstGeom>
            <a:gradFill rotWithShape="0">
              <a:gsLst>
                <a:gs pos="0">
                  <a:srgbClr val="0f4334"/>
                </a:gs>
                <a:gs pos="100000">
                  <a:srgbClr val="092c2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8226800">
              <a:off x="5411160" y="5020920"/>
              <a:ext cx="129960" cy="137880"/>
            </a:xfrm>
            <a:prstGeom prst="ellipse">
              <a:avLst/>
            </a:prstGeom>
            <a:gradFill rotWithShape="0">
              <a:gsLst>
                <a:gs pos="0">
                  <a:srgbClr val="0f4334"/>
                </a:gs>
                <a:gs pos="100000">
                  <a:srgbClr val="092c2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099240" y="3553560"/>
              <a:ext cx="416160" cy="261000"/>
              <a:chOff x="3099240" y="3553560"/>
              <a:chExt cx="416160" cy="261000"/>
            </a:xfrm>
          </p:grpSpPr>
          <p:sp>
            <p:nvSpPr>
              <p:cNvPr id="309" name=""/>
              <p:cNvSpPr/>
              <p:nvPr/>
            </p:nvSpPr>
            <p:spPr>
              <a:xfrm rot="18226800">
                <a:off x="3127680" y="3577320"/>
                <a:ext cx="132120" cy="139320"/>
              </a:xfrm>
              <a:prstGeom prst="ellipse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507d3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8226800">
                <a:off x="3354840" y="3651120"/>
                <a:ext cx="131760" cy="139320"/>
              </a:xfrm>
              <a:prstGeom prst="ellipse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4692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470840" y="2531520"/>
              <a:ext cx="187920" cy="466920"/>
              <a:chOff x="4470840" y="2531520"/>
              <a:chExt cx="187920" cy="466920"/>
            </a:xfrm>
          </p:grpSpPr>
          <p:sp>
            <p:nvSpPr>
              <p:cNvPr id="312" name=""/>
              <p:cNvSpPr/>
              <p:nvPr/>
            </p:nvSpPr>
            <p:spPr>
              <a:xfrm rot="18226800">
                <a:off x="4498920" y="2555280"/>
                <a:ext cx="131040" cy="138240"/>
              </a:xfrm>
              <a:prstGeom prst="ellipse">
                <a:avLst/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83e1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8226800">
                <a:off x="4498920" y="2836080"/>
                <a:ext cx="131040" cy="138240"/>
              </a:xfrm>
              <a:prstGeom prst="ellipse">
                <a:avLst/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f431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 rot="18226800">
              <a:off x="5963400" y="36018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ea95e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8226800">
              <a:off x="5715720" y="37256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ea95e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7200" y="3276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38080" y="5562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24480" y="5562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323" name="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804680" y="1869120"/>
              <a:ext cx="1130760" cy="1064520"/>
              <a:chOff x="1804680" y="1869120"/>
              <a:chExt cx="1130760" cy="1064520"/>
            </a:xfrm>
          </p:grpSpPr>
          <p:sp>
            <p:nvSpPr>
              <p:cNvPr id="325" name=""/>
              <p:cNvSpPr/>
              <p:nvPr/>
            </p:nvSpPr>
            <p:spPr>
              <a:xfrm>
                <a:off x="1804680" y="18691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dda62"/>
                  </a:gs>
                  <a:gs pos="100000">
                    <a:srgbClr val="629744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75240" y="193752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e9a8"/>
                  </a:gs>
                  <a:gs pos="50000">
                    <a:srgbClr val="8dda62">
                      <a:alpha val="0"/>
                    </a:srgbClr>
                  </a:gs>
                  <a:gs pos="100000">
                    <a:srgbClr val="c0e9a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930680" y="21585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330" name="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1804680" y="3399120"/>
              <a:ext cx="1130760" cy="1064520"/>
              <a:chOff x="1804680" y="3399120"/>
              <a:chExt cx="1130760" cy="1064520"/>
            </a:xfrm>
          </p:grpSpPr>
          <p:sp>
            <p:nvSpPr>
              <p:cNvPr id="332" name=""/>
              <p:cNvSpPr/>
              <p:nvPr/>
            </p:nvSpPr>
            <p:spPr>
              <a:xfrm>
                <a:off x="1804680" y="33991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b8f2b"/>
                  </a:gs>
                  <a:gs pos="100000">
                    <a:srgbClr val="435a1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875240" y="346752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8f2b">
                      <a:alpha val="0"/>
                    </a:srgbClr>
                  </a:gs>
                  <a:gs pos="100000">
                    <a:srgbClr val="bfcea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930680" y="3690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337" name="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804680" y="4939200"/>
              <a:ext cx="1130760" cy="1064520"/>
              <a:chOff x="1804680" y="4939200"/>
              <a:chExt cx="1130760" cy="1064520"/>
            </a:xfrm>
          </p:grpSpPr>
          <p:sp>
            <p:nvSpPr>
              <p:cNvPr id="339" name=""/>
              <p:cNvSpPr/>
              <p:nvPr/>
            </p:nvSpPr>
            <p:spPr>
              <a:xfrm>
                <a:off x="1804680" y="49392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15d7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875240" y="50076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a7e3">
                      <a:alpha val="0"/>
                    </a:srgbClr>
                  </a:gs>
                  <a:gs pos="100000">
                    <a:srgbClr val="9fd3f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30680" y="52300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755640" y="1898640"/>
            <a:ext cx="7632720" cy="3054240"/>
            <a:chOff x="755640" y="1898640"/>
            <a:chExt cx="7632720" cy="3054240"/>
          </a:xfrm>
        </p:grpSpPr>
        <p:sp>
          <p:nvSpPr>
            <p:cNvPr id="345" name=""/>
            <p:cNvSpPr/>
            <p:nvPr/>
          </p:nvSpPr>
          <p:spPr>
            <a:xfrm>
              <a:off x="2916360" y="26971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dda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51640" y="26971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b8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2764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b8f2b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2764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b8f2b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69120" y="20462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394d17"/>
                </a:gs>
                <a:gs pos="50000">
                  <a:srgbClr val="6b8f2b"/>
                </a:gs>
                <a:gs pos="100000">
                  <a:srgbClr val="394d1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00800" y="20574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b8f2b">
                    <a:alpha val="0"/>
                  </a:srgbClr>
                </a:gs>
                <a:gs pos="100000">
                  <a:srgbClr val="435a1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70640" y="21398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5640" y="18986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ba7e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5640" y="18986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ba7e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6760" y="20397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f5a7a"/>
                </a:gs>
                <a:gs pos="50000">
                  <a:srgbClr val="3ba7e3"/>
                </a:gs>
                <a:gs pos="100000">
                  <a:srgbClr val="1f5a7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98560" y="2043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ba7e3">
                    <a:alpha val="0"/>
                  </a:srgbClr>
                </a:gs>
                <a:gs pos="100000">
                  <a:srgbClr val="2569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90720" y="21337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1017720" y="2158920"/>
              <a:ext cx="1636560" cy="1636920"/>
              <a:chOff x="1017720" y="2158920"/>
              <a:chExt cx="1636560" cy="1636920"/>
            </a:xfrm>
          </p:grpSpPr>
          <p:sp>
            <p:nvSpPr>
              <p:cNvPr id="358" name=""/>
              <p:cNvSpPr/>
              <p:nvPr/>
            </p:nvSpPr>
            <p:spPr>
              <a:xfrm>
                <a:off x="101772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03860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5552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14444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349236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dda6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9236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40642d"/>
                </a:gs>
                <a:gs pos="100000">
                  <a:srgbClr val="8dda6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33840" y="20462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4c7534"/>
                </a:gs>
                <a:gs pos="50000">
                  <a:srgbClr val="8dda62"/>
                </a:gs>
                <a:gs pos="100000">
                  <a:srgbClr val="4c75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35280" y="20494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dda62">
                    <a:alpha val="0"/>
                  </a:srgbClr>
                </a:gs>
                <a:gs pos="100000">
                  <a:srgbClr val="5989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27440" y="21398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3754440" y="2158920"/>
              <a:ext cx="1636560" cy="1636920"/>
              <a:chOff x="3754440" y="2158920"/>
              <a:chExt cx="1636560" cy="1636920"/>
            </a:xfrm>
          </p:grpSpPr>
          <p:sp>
            <p:nvSpPr>
              <p:cNvPr id="368" name=""/>
              <p:cNvSpPr/>
              <p:nvPr/>
            </p:nvSpPr>
            <p:spPr>
              <a:xfrm>
                <a:off x="375444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77532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9224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88116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500880" y="2158920"/>
              <a:ext cx="1636560" cy="1636920"/>
              <a:chOff x="6500880" y="2158920"/>
              <a:chExt cx="1636560" cy="1636920"/>
            </a:xfrm>
          </p:grpSpPr>
          <p:sp>
            <p:nvSpPr>
              <p:cNvPr id="373" name=""/>
              <p:cNvSpPr/>
              <p:nvPr/>
            </p:nvSpPr>
            <p:spPr>
              <a:xfrm>
                <a:off x="650088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2176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3868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62760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80496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3844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9136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522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954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9386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838080" y="1530360"/>
            <a:ext cx="6934320" cy="4489560"/>
            <a:chOff x="838080" y="1530360"/>
            <a:chExt cx="6934320" cy="4489560"/>
          </a:xfrm>
        </p:grpSpPr>
        <p:sp>
          <p:nvSpPr>
            <p:cNvPr id="385" name=""/>
            <p:cNvSpPr/>
            <p:nvPr/>
          </p:nvSpPr>
          <p:spPr>
            <a:xfrm>
              <a:off x="83808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8dda62"/>
                </a:gs>
                <a:gs pos="100000">
                  <a:srgbClr val="6b8f2b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2880" y="342900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2917800" y="3740040"/>
              <a:ext cx="1704960" cy="2028960"/>
              <a:chOff x="2917800" y="3740040"/>
              <a:chExt cx="1704960" cy="2028960"/>
            </a:xfrm>
          </p:grpSpPr>
          <p:sp>
            <p:nvSpPr>
              <p:cNvPr id="388" name=""/>
              <p:cNvSpPr/>
              <p:nvPr/>
            </p:nvSpPr>
            <p:spPr>
              <a:xfrm rot="20876400">
                <a:off x="2986200" y="495936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17800" y="374004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38320" y="374940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955960" y="376560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8120" y="380988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335400" y="43671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1066680" y="3359160"/>
              <a:ext cx="1371240" cy="1718640"/>
              <a:chOff x="1066680" y="3359160"/>
              <a:chExt cx="1371240" cy="1718640"/>
            </a:xfrm>
          </p:grpSpPr>
          <p:sp>
            <p:nvSpPr>
              <p:cNvPr id="395" name=""/>
              <p:cNvSpPr/>
              <p:nvPr/>
            </p:nvSpPr>
            <p:spPr>
              <a:xfrm rot="20826600">
                <a:off x="1143000" y="434952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1066680" y="3359160"/>
                <a:ext cx="1371240" cy="1441080"/>
                <a:chOff x="1066680" y="3359160"/>
                <a:chExt cx="1371240" cy="14410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66680" y="33591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084680" y="336744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097640" y="338076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169280" y="341748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347120" y="38653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2" name=""/>
            <p:cNvGrpSpPr/>
            <p:nvPr/>
          </p:nvGrpSpPr>
          <p:grpSpPr>
            <a:xfrm>
              <a:off x="1033200" y="1987560"/>
              <a:ext cx="1100160" cy="1139760"/>
              <a:chOff x="1033200" y="1987560"/>
              <a:chExt cx="1100160" cy="1139760"/>
            </a:xfrm>
          </p:grpSpPr>
          <p:sp>
            <p:nvSpPr>
              <p:cNvPr id="403" name=""/>
              <p:cNvSpPr/>
              <p:nvPr/>
            </p:nvSpPr>
            <p:spPr>
              <a:xfrm>
                <a:off x="1033200" y="259416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109520" y="198756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122120" y="19922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133280" y="20034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187280" y="202896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306440" y="23367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2300040" y="1530360"/>
              <a:ext cx="804960" cy="762120"/>
              <a:chOff x="2300040" y="1530360"/>
              <a:chExt cx="804960" cy="762120"/>
            </a:xfrm>
          </p:grpSpPr>
          <p:sp>
            <p:nvSpPr>
              <p:cNvPr id="410" name=""/>
              <p:cNvSpPr/>
              <p:nvPr/>
            </p:nvSpPr>
            <p:spPr>
              <a:xfrm>
                <a:off x="2300040" y="206388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422440" y="153036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431800" y="153360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38280" y="153972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474640" y="155880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492640" y="17542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1000" y="358128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52760" y="1828800"/>
            <a:ext cx="6368040" cy="3770280"/>
            <a:chOff x="752760" y="1828800"/>
            <a:chExt cx="6368040" cy="3770280"/>
          </a:xfrm>
        </p:grpSpPr>
        <p:sp>
          <p:nvSpPr>
            <p:cNvPr id="419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ce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c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43120" y="288612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cc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96d00"/>
                </a:gs>
                <a:gs pos="50000">
                  <a:srgbClr val="ffcc00"/>
                </a:gs>
                <a:gs pos="100000">
                  <a:srgbClr val="896d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0"/>
                  </a:srgbClr>
                </a:gs>
                <a:gs pos="100000">
                  <a:srgbClr val="a1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43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092240" y="2039760"/>
            <a:ext cx="2163600" cy="3165480"/>
            <a:chOff x="1092240" y="2039760"/>
            <a:chExt cx="2163600" cy="3165480"/>
          </a:xfrm>
        </p:grpSpPr>
        <p:sp>
          <p:nvSpPr>
            <p:cNvPr id="450" name=""/>
            <p:cNvSpPr/>
            <p:nvPr/>
          </p:nvSpPr>
          <p:spPr>
            <a:xfrm>
              <a:off x="109224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2572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4300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4300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1836720" y="2039760"/>
              <a:ext cx="642960" cy="642960"/>
              <a:chOff x="1836720" y="2039760"/>
              <a:chExt cx="642960" cy="642960"/>
            </a:xfrm>
          </p:grpSpPr>
          <p:sp>
            <p:nvSpPr>
              <p:cNvPr id="455" name=""/>
              <p:cNvSpPr/>
              <p:nvPr/>
            </p:nvSpPr>
            <p:spPr>
              <a:xfrm>
                <a:off x="183672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843200" y="204444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851120" y="2048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857600" y="205416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891440" y="206964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197676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6856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5816520" y="2039760"/>
            <a:ext cx="2163600" cy="3165480"/>
            <a:chOff x="5816520" y="2039760"/>
            <a:chExt cx="2163600" cy="3165480"/>
          </a:xfrm>
        </p:grpSpPr>
        <p:sp>
          <p:nvSpPr>
            <p:cNvPr id="463" name=""/>
            <p:cNvSpPr/>
            <p:nvPr/>
          </p:nvSpPr>
          <p:spPr>
            <a:xfrm>
              <a:off x="581652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5000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6728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6728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6561000" y="2039760"/>
              <a:ext cx="642960" cy="642960"/>
              <a:chOff x="6561000" y="2039760"/>
              <a:chExt cx="642960" cy="642960"/>
            </a:xfrm>
          </p:grpSpPr>
          <p:sp>
            <p:nvSpPr>
              <p:cNvPr id="468" name=""/>
              <p:cNvSpPr/>
              <p:nvPr/>
            </p:nvSpPr>
            <p:spPr>
              <a:xfrm>
                <a:off x="656100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567480" y="204444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575400" y="2048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581880" y="205416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615720" y="206964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670104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9284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3454560" y="2039760"/>
            <a:ext cx="2163600" cy="3165480"/>
            <a:chOff x="3454560" y="2039760"/>
            <a:chExt cx="2163600" cy="3165480"/>
          </a:xfrm>
        </p:grpSpPr>
        <p:sp>
          <p:nvSpPr>
            <p:cNvPr id="476" name=""/>
            <p:cNvSpPr/>
            <p:nvPr/>
          </p:nvSpPr>
          <p:spPr>
            <a:xfrm>
              <a:off x="345456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8804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50532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50532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990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05520" y="204444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13440" y="204768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19560" y="205416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54840" y="207000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3908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3088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0" y="1371600"/>
            <a:ext cx="9144000" cy="4366080"/>
            <a:chOff x="0" y="1371600"/>
            <a:chExt cx="9144000" cy="4366080"/>
          </a:xfrm>
        </p:grpSpPr>
        <p:sp>
          <p:nvSpPr>
            <p:cNvPr id="489" name=""/>
            <p:cNvSpPr/>
            <p:nvPr/>
          </p:nvSpPr>
          <p:spPr>
            <a:xfrm>
              <a:off x="0" y="26607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27129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396720" y="2063880"/>
              <a:ext cx="2183040" cy="3600720"/>
              <a:chOff x="396720" y="2063880"/>
              <a:chExt cx="2183040" cy="36007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873720" y="2982960"/>
                <a:ext cx="1706040" cy="2681640"/>
                <a:chOff x="873720" y="2982960"/>
                <a:chExt cx="1706040" cy="268164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873720" y="3161880"/>
                  <a:ext cx="1578600" cy="2502720"/>
                  <a:chOff x="873720" y="3161880"/>
                  <a:chExt cx="1578600" cy="250272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3876600">
                    <a:off x="410040" y="41338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3876600">
                    <a:off x="1915920" y="51026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1368360" y="2982960"/>
                  <a:ext cx="1211400" cy="1920240"/>
                  <a:chOff x="1368360" y="2982960"/>
                  <a:chExt cx="1211400" cy="192024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V="1" rot="3876600">
                    <a:off x="1012680" y="37288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V="1" rot="3876600">
                    <a:off x="2150640" y="44802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9" name=""/>
              <p:cNvGrpSpPr/>
              <p:nvPr/>
            </p:nvGrpSpPr>
            <p:grpSpPr>
              <a:xfrm>
                <a:off x="396720" y="2063880"/>
                <a:ext cx="1441800" cy="1440720"/>
                <a:chOff x="396720" y="2063880"/>
                <a:chExt cx="1441800" cy="14407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396720" y="20638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96720" y="20638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92120" y="21574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92120" y="21607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54040" y="22212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571320" y="2238480"/>
                  <a:ext cx="1092240" cy="1092960"/>
                  <a:chOff x="571320" y="2238480"/>
                  <a:chExt cx="1092240" cy="10929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>
                    <a:off x="571320" y="22384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585360" y="22446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596520" y="22550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655920" y="22827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0" name=""/>
              <p:cNvSpPr/>
              <p:nvPr/>
            </p:nvSpPr>
            <p:spPr>
              <a:xfrm rot="3925800">
                <a:off x="897840" y="40093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3925800">
                <a:off x="1401840" y="37173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2379600" y="2063880"/>
              <a:ext cx="2183040" cy="3600720"/>
              <a:chOff x="2379600" y="2063880"/>
              <a:chExt cx="2183040" cy="360072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2856600" y="2982960"/>
                <a:ext cx="1706040" cy="2681640"/>
                <a:chOff x="2856600" y="2982960"/>
                <a:chExt cx="1706040" cy="2681640"/>
              </a:xfrm>
            </p:grpSpPr>
            <p:grpSp>
              <p:nvGrpSpPr>
                <p:cNvPr id="514" name=""/>
                <p:cNvGrpSpPr/>
                <p:nvPr/>
              </p:nvGrpSpPr>
              <p:grpSpPr>
                <a:xfrm>
                  <a:off x="2856600" y="3161880"/>
                  <a:ext cx="1578600" cy="2502720"/>
                  <a:chOff x="2856600" y="3161880"/>
                  <a:chExt cx="1578600" cy="250272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rot="3876600">
                    <a:off x="2392920" y="41338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3876600">
                    <a:off x="3898800" y="51026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3351240" y="2982960"/>
                  <a:ext cx="1211400" cy="1920240"/>
                  <a:chOff x="3351240" y="2982960"/>
                  <a:chExt cx="1211400" cy="19202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V="1" rot="3876600">
                    <a:off x="2995560" y="37288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V="1" rot="3876600">
                    <a:off x="4133520" y="44802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2379600" y="2063880"/>
                <a:ext cx="1441800" cy="1440720"/>
                <a:chOff x="2379600" y="2063880"/>
                <a:chExt cx="1441800" cy="14407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2379600" y="20638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379600" y="20638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475000" y="21574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475000" y="21607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536920" y="22212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6" name=""/>
                <p:cNvGrpSpPr/>
                <p:nvPr/>
              </p:nvGrpSpPr>
              <p:grpSpPr>
                <a:xfrm>
                  <a:off x="2554200" y="2238480"/>
                  <a:ext cx="1092240" cy="1092960"/>
                  <a:chOff x="2554200" y="2238480"/>
                  <a:chExt cx="1092240" cy="109296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>
                    <a:off x="2554200" y="22384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2568240" y="22446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2579400" y="22550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638800" y="22827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1" name=""/>
              <p:cNvSpPr/>
              <p:nvPr/>
            </p:nvSpPr>
            <p:spPr>
              <a:xfrm rot="3925800">
                <a:off x="2874960" y="40093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3925800">
                <a:off x="3378240" y="37173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4427640" y="2063880"/>
              <a:ext cx="2182680" cy="3600720"/>
              <a:chOff x="4427640" y="2063880"/>
              <a:chExt cx="2182680" cy="360072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4904280" y="2982960"/>
                <a:ext cx="1706040" cy="2681640"/>
                <a:chOff x="4904280" y="2982960"/>
                <a:chExt cx="1706040" cy="2681640"/>
              </a:xfrm>
            </p:grpSpPr>
            <p:grpSp>
              <p:nvGrpSpPr>
                <p:cNvPr id="535" name=""/>
                <p:cNvGrpSpPr/>
                <p:nvPr/>
              </p:nvGrpSpPr>
              <p:grpSpPr>
                <a:xfrm>
                  <a:off x="4904280" y="3161880"/>
                  <a:ext cx="1578600" cy="2502720"/>
                  <a:chOff x="4904280" y="3161880"/>
                  <a:chExt cx="1578600" cy="250272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rot="3876600">
                    <a:off x="4440600" y="41338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rot="3876600">
                    <a:off x="5946480" y="51026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5398920" y="2982960"/>
                  <a:ext cx="1211400" cy="1920240"/>
                  <a:chOff x="5398920" y="2982960"/>
                  <a:chExt cx="1211400" cy="192024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flipV="1" rot="3876600">
                    <a:off x="5043240" y="37288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V="1" rot="3876600">
                    <a:off x="6181200" y="44802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4427640" y="2063880"/>
                <a:ext cx="1441440" cy="1440720"/>
                <a:chOff x="4427640" y="2063880"/>
                <a:chExt cx="1441440" cy="14407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4427640" y="20638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427640" y="20638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523040" y="215748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523040" y="216072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584960" y="2221200"/>
                  <a:ext cx="112644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7" name=""/>
                <p:cNvGrpSpPr/>
                <p:nvPr/>
              </p:nvGrpSpPr>
              <p:grpSpPr>
                <a:xfrm>
                  <a:off x="4602240" y="2238480"/>
                  <a:ext cx="1091880" cy="1092960"/>
                  <a:chOff x="4602240" y="2238480"/>
                  <a:chExt cx="1091880" cy="109296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>
                    <a:off x="4602240" y="223848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4616280" y="224460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4627440" y="225504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4686840" y="228276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2" name=""/>
              <p:cNvSpPr/>
              <p:nvPr/>
            </p:nvSpPr>
            <p:spPr>
              <a:xfrm rot="3925800">
                <a:off x="4932000" y="40093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3925800">
                <a:off x="5435640" y="37173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6442200" y="1905120"/>
              <a:ext cx="2399760" cy="3832560"/>
              <a:chOff x="6442200" y="1905120"/>
              <a:chExt cx="2399760" cy="3832560"/>
            </a:xfrm>
          </p:grpSpPr>
          <p:grpSp>
            <p:nvGrpSpPr>
              <p:cNvPr id="555" name=""/>
              <p:cNvGrpSpPr/>
              <p:nvPr/>
            </p:nvGrpSpPr>
            <p:grpSpPr>
              <a:xfrm>
                <a:off x="7136280" y="3056040"/>
                <a:ext cx="1705680" cy="2681640"/>
                <a:chOff x="7136280" y="3056040"/>
                <a:chExt cx="1705680" cy="2681640"/>
              </a:xfrm>
            </p:grpSpPr>
            <p:grpSp>
              <p:nvGrpSpPr>
                <p:cNvPr id="556" name=""/>
                <p:cNvGrpSpPr/>
                <p:nvPr/>
              </p:nvGrpSpPr>
              <p:grpSpPr>
                <a:xfrm>
                  <a:off x="7136280" y="3234960"/>
                  <a:ext cx="1578600" cy="2502720"/>
                  <a:chOff x="7136280" y="3234960"/>
                  <a:chExt cx="1578600" cy="250272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 rot="3876600">
                    <a:off x="6672600" y="420696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rot="3876600">
                    <a:off x="8178480" y="517572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9" name=""/>
                <p:cNvGrpSpPr/>
                <p:nvPr/>
              </p:nvGrpSpPr>
              <p:grpSpPr>
                <a:xfrm>
                  <a:off x="7630560" y="3056040"/>
                  <a:ext cx="1211400" cy="1920240"/>
                  <a:chOff x="7630560" y="3056040"/>
                  <a:chExt cx="1211400" cy="1920240"/>
                </a:xfrm>
              </p:grpSpPr>
              <p:sp>
                <p:nvSpPr>
                  <p:cNvPr id="560" name=""/>
                  <p:cNvSpPr/>
                  <p:nvPr/>
                </p:nvSpPr>
                <p:spPr>
                  <a:xfrm flipV="1" rot="3876600">
                    <a:off x="7274880" y="380196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V="1" rot="3876600">
                    <a:off x="8412840" y="455364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2" name=""/>
              <p:cNvSpPr/>
              <p:nvPr/>
            </p:nvSpPr>
            <p:spPr>
              <a:xfrm>
                <a:off x="6442200" y="19051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442200" y="19051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58120" y="201780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559560" y="202104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632640" y="209412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6653160" y="2114640"/>
                <a:ext cx="1312920" cy="1310400"/>
                <a:chOff x="6653160" y="2114640"/>
                <a:chExt cx="1312920" cy="131040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6653160" y="2114640"/>
                  <a:ext cx="131292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669720" y="2121840"/>
                  <a:ext cx="12812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6683400" y="213444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6754680" y="216792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 rot="3925800">
                <a:off x="7147080" y="41680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3925800">
                <a:off x="7649640" y="38764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77796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6840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4984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795000" y="13716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78" name=""/>
            <p:cNvCxnSpPr>
              <a:stCxn id="574" idx="3"/>
              <a:endCxn id="575" idx="1"/>
            </p:cNvCxnSpPr>
            <p:nvPr/>
          </p:nvCxnSpPr>
          <p:spPr>
            <a:xfrm>
              <a:off x="1514160" y="159840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79" name=""/>
            <p:cNvCxnSpPr>
              <a:stCxn id="575" idx="3"/>
              <a:endCxn id="576" idx="1"/>
            </p:cNvCxnSpPr>
            <p:nvPr/>
          </p:nvCxnSpPr>
          <p:spPr>
            <a:xfrm>
              <a:off x="3504960" y="159840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80" name=""/>
            <p:cNvCxnSpPr>
              <a:stCxn id="576" idx="3"/>
              <a:endCxn id="577" idx="1"/>
            </p:cNvCxnSpPr>
            <p:nvPr/>
          </p:nvCxnSpPr>
          <p:spPr>
            <a:xfrm>
              <a:off x="5486040" y="159876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15000" y="2819520"/>
            <a:ext cx="2610000" cy="2819160"/>
          </a:xfrm>
          <a:custGeom>
            <a:avLst/>
            <a:gdLst>
              <a:gd name="textAreaLeft" fmla="*/ 0 w 2610000"/>
              <a:gd name="textAreaRight" fmla="*/ 2610360 w 261000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6a4016"/>
              </a:gs>
              <a:gs pos="100000">
                <a:srgbClr val="e68b3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421080" y="2819520"/>
            <a:ext cx="2751120" cy="2819160"/>
          </a:xfrm>
          <a:custGeom>
            <a:avLst/>
            <a:gdLst>
              <a:gd name="textAreaLeft" fmla="*/ 0 w 2751120"/>
              <a:gd name="textAreaRight" fmla="*/ 2751480 w 27511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14113"/>
              </a:gs>
              <a:gs pos="100000">
                <a:srgbClr val="6b8f2b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135080" y="2819520"/>
            <a:ext cx="2751120" cy="2819160"/>
          </a:xfrm>
          <a:custGeom>
            <a:avLst/>
            <a:gdLst>
              <a:gd name="textAreaLeft" fmla="*/ 0 w 2751120"/>
              <a:gd name="textAreaRight" fmla="*/ 2751480 w 27511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40642d"/>
              </a:gs>
              <a:gs pos="100000">
                <a:srgbClr val="8dda6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1981080"/>
            <a:ext cx="190476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0642d"/>
              </a:gs>
              <a:gs pos="100000">
                <a:srgbClr val="8dda6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38440" y="1981080"/>
            <a:ext cx="190512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113"/>
              </a:gs>
              <a:gs pos="100000">
                <a:srgbClr val="6b8f2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67280" y="1981080"/>
            <a:ext cx="190512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a4016"/>
              </a:gs>
              <a:gs pos="100000">
                <a:srgbClr val="e68b3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685800" y="1849320"/>
          <a:ext cx="7620120" cy="364824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055160" y="1290960"/>
            <a:ext cx="6879600" cy="4804560"/>
            <a:chOff x="1055160" y="1290960"/>
            <a:chExt cx="6879600" cy="4804560"/>
          </a:xfrm>
        </p:grpSpPr>
        <p:sp>
          <p:nvSpPr>
            <p:cNvPr id="592" name=""/>
            <p:cNvSpPr/>
            <p:nvPr/>
          </p:nvSpPr>
          <p:spPr>
            <a:xfrm rot="20601600">
              <a:off x="1397160" y="231732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20601600">
              <a:off x="1454040" y="215532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20601600">
              <a:off x="1368360" y="214128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rot="20602200">
              <a:off x="1346400" y="217224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20601600">
              <a:off x="1378080" y="215244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rot="20602200">
              <a:off x="1360440" y="216000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20601600">
              <a:off x="2914920" y="286992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230200" y="30924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35320" y="21780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811480" y="2635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237360" y="316836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20539200">
              <a:off x="1372680" y="217080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37080" y="364968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811480" y="36255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59000" y="43876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53880" y="42354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20601600">
              <a:off x="3016440" y="312264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249260"/>
                </a:gs>
                <a:gs pos="100000">
                  <a:srgbClr val="10432c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13480" y="404496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828800" y="1752480"/>
            <a:ext cx="5410080" cy="665280"/>
            <a:chOff x="1828800" y="1752480"/>
            <a:chExt cx="5410080" cy="665280"/>
          </a:xfrm>
        </p:grpSpPr>
        <p:grpSp>
          <p:nvGrpSpPr>
            <p:cNvPr id="92" name=""/>
            <p:cNvGrpSpPr/>
            <p:nvPr/>
          </p:nvGrpSpPr>
          <p:grpSpPr>
            <a:xfrm>
              <a:off x="1828800" y="1752480"/>
              <a:ext cx="762120" cy="665280"/>
              <a:chOff x="1828800" y="1752480"/>
              <a:chExt cx="762120" cy="665280"/>
            </a:xfrm>
          </p:grpSpPr>
          <p:sp>
            <p:nvSpPr>
              <p:cNvPr id="93" name=""/>
              <p:cNvSpPr/>
              <p:nvPr/>
            </p:nvSpPr>
            <p:spPr>
              <a:xfrm>
                <a:off x="1834920" y="1763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28800" y="1752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873080" y="17917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0642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2438280" y="23619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66880" y="18288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27520" y="1850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28800" y="2666880"/>
            <a:ext cx="5410080" cy="665280"/>
            <a:chOff x="1828800" y="2666880"/>
            <a:chExt cx="5410080" cy="665280"/>
          </a:xfrm>
        </p:grpSpPr>
        <p:grpSp>
          <p:nvGrpSpPr>
            <p:cNvPr id="100" name=""/>
            <p:cNvGrpSpPr/>
            <p:nvPr/>
          </p:nvGrpSpPr>
          <p:grpSpPr>
            <a:xfrm>
              <a:off x="1828800" y="2666880"/>
              <a:ext cx="762120" cy="665280"/>
              <a:chOff x="1828800" y="2666880"/>
              <a:chExt cx="762120" cy="665280"/>
            </a:xfrm>
          </p:grpSpPr>
          <p:sp>
            <p:nvSpPr>
              <p:cNvPr id="101" name=""/>
              <p:cNvSpPr/>
              <p:nvPr/>
            </p:nvSpPr>
            <p:spPr>
              <a:xfrm>
                <a:off x="1834920" y="2678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828800" y="2666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873080" y="27061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a401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2438280" y="32763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66880" y="27432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27520" y="276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828800" y="3559320"/>
            <a:ext cx="5410080" cy="664920"/>
            <a:chOff x="1828800" y="3559320"/>
            <a:chExt cx="5410080" cy="664920"/>
          </a:xfrm>
        </p:grpSpPr>
        <p:grpSp>
          <p:nvGrpSpPr>
            <p:cNvPr id="108" name=""/>
            <p:cNvGrpSpPr/>
            <p:nvPr/>
          </p:nvGrpSpPr>
          <p:grpSpPr>
            <a:xfrm>
              <a:off x="1828800" y="3559320"/>
              <a:ext cx="762120" cy="664920"/>
              <a:chOff x="1828800" y="3559320"/>
              <a:chExt cx="762120" cy="664920"/>
            </a:xfrm>
          </p:grpSpPr>
          <p:sp>
            <p:nvSpPr>
              <p:cNvPr id="109" name=""/>
              <p:cNvSpPr/>
              <p:nvPr/>
            </p:nvSpPr>
            <p:spPr>
              <a:xfrm>
                <a:off x="1834920" y="3570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828800" y="3559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873080" y="3598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0642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438280" y="41684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66880" y="36352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27520" y="365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828800" y="4473720"/>
            <a:ext cx="5410080" cy="664920"/>
            <a:chOff x="1828800" y="4473720"/>
            <a:chExt cx="5410080" cy="664920"/>
          </a:xfrm>
        </p:grpSpPr>
        <p:grpSp>
          <p:nvGrpSpPr>
            <p:cNvPr id="116" name=""/>
            <p:cNvGrpSpPr/>
            <p:nvPr/>
          </p:nvGrpSpPr>
          <p:grpSpPr>
            <a:xfrm>
              <a:off x="1828800" y="4473720"/>
              <a:ext cx="762120" cy="664920"/>
              <a:chOff x="1828800" y="4473720"/>
              <a:chExt cx="762120" cy="664920"/>
            </a:xfrm>
          </p:grpSpPr>
          <p:sp>
            <p:nvSpPr>
              <p:cNvPr id="117" name=""/>
              <p:cNvSpPr/>
              <p:nvPr/>
            </p:nvSpPr>
            <p:spPr>
              <a:xfrm>
                <a:off x="1834920" y="4484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8800" y="4473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73080" y="45129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a401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438280" y="50828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66880" y="45496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27520" y="457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88C5-A613-482C-8EF6-C9B38E7F59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1676520" y="1905120"/>
            <a:ext cx="5486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b8f2b"/>
                    </a:gs>
                    <a:gs pos="100000">
                      <a:srgbClr val="8dda62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b8f2b"/>
                  </a:gs>
                  <a:gs pos="100000">
                    <a:srgbClr val="8dda62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6840" y="441936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5867280"/>
            <a:ext cx="6324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itle Image : 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562720" y="3095640"/>
            <a:ext cx="2286000" cy="2666880"/>
            <a:chOff x="5562720" y="3095640"/>
            <a:chExt cx="2286000" cy="2666880"/>
          </a:xfrm>
        </p:grpSpPr>
        <p:sp>
          <p:nvSpPr>
            <p:cNvPr id="128" name=""/>
            <p:cNvSpPr/>
            <p:nvPr/>
          </p:nvSpPr>
          <p:spPr>
            <a:xfrm>
              <a:off x="556272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f43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15000" y="3290760"/>
              <a:ext cx="205740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143000" y="3095640"/>
            <a:ext cx="2286000" cy="2666880"/>
            <a:chOff x="1143000" y="3095640"/>
            <a:chExt cx="2286000" cy="2666880"/>
          </a:xfrm>
        </p:grpSpPr>
        <p:sp>
          <p:nvSpPr>
            <p:cNvPr id="131" name=""/>
            <p:cNvSpPr/>
            <p:nvPr/>
          </p:nvSpPr>
          <p:spPr>
            <a:xfrm>
              <a:off x="114300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f43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38400" y="32958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8dbcb"/>
              </a:gs>
              <a:gs pos="100000">
                <a:srgbClr val="24926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f2cc"/>
              </a:gs>
              <a:gs pos="100000">
                <a:srgbClr val="8dda6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136" name=""/>
            <p:cNvGrpSpPr/>
            <p:nvPr/>
          </p:nvGrpSpPr>
          <p:grpSpPr>
            <a:xfrm>
              <a:off x="3048120" y="1371600"/>
              <a:ext cx="2998440" cy="1601280"/>
              <a:chOff x="3048120" y="1371600"/>
              <a:chExt cx="2998440" cy="16012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3048120" y="1514520"/>
                <a:ext cx="2998440" cy="1458360"/>
                <a:chOff x="3048120" y="1514520"/>
                <a:chExt cx="2998440" cy="14583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080880" y="15609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4514"/>
                    </a:gs>
                    <a:gs pos="100000">
                      <a:srgbClr val="6b8f2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048120" y="151452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8f2b"/>
                    </a:gs>
                    <a:gs pos="100000">
                      <a:srgbClr val="bccca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3189240" y="13716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0642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24160" y="137952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d6f1c7"/>
                  </a:gs>
                  <a:gs pos="100000">
                    <a:srgbClr val="8dda62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51160" y="139212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8dda62">
                      <a:alpha val="48235"/>
                    </a:srgbClr>
                  </a:gs>
                  <a:gs pos="100000">
                    <a:srgbClr val="6fac4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82920" y="141912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8dda62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3882960" y="157176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b8f2b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6840" y="1175040"/>
            <a:ext cx="7750080" cy="5225400"/>
            <a:chOff x="456840" y="1175040"/>
            <a:chExt cx="7750080" cy="5225400"/>
          </a:xfrm>
        </p:grpSpPr>
        <p:sp>
          <p:nvSpPr>
            <p:cNvPr id="148" name=""/>
            <p:cNvSpPr/>
            <p:nvPr/>
          </p:nvSpPr>
          <p:spPr>
            <a:xfrm rot="20241600">
              <a:off x="1077840" y="2385720"/>
              <a:ext cx="6853320" cy="28033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cec9c"/>
                </a:gs>
                <a:gs pos="100000">
                  <a:srgbClr val="fdfcf4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15238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6b8f2b"/>
                </a:gs>
                <a:gs pos="100000">
                  <a:srgbClr val="2431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5280" y="30481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8dda62"/>
                </a:gs>
                <a:gs pos="100000">
                  <a:srgbClr val="2c44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78000" y="474516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5131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52880" y="41148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d476d6"/>
                </a:gs>
                <a:gs pos="100000">
                  <a:srgbClr val="5931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81680" y="175248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3ba7e3"/>
                </a:gs>
                <a:gs pos="100000">
                  <a:srgbClr val="1439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22520" y="35053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39640" y="19810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71480" y="2259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81560" y="4572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0600" y="5195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29000" y="351000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73200" y="1811160"/>
              <a:ext cx="1793880" cy="161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1" name=""/>
            <p:cNvCxnSpPr/>
            <p:nvPr/>
          </p:nvCxnSpPr>
          <p:spPr>
            <a:xfrm flipH="1">
              <a:off x="456840" y="181080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62" name=""/>
            <p:cNvSpPr/>
            <p:nvPr/>
          </p:nvSpPr>
          <p:spPr>
            <a:xfrm>
              <a:off x="534600" y="13716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90720" y="1523880"/>
            <a:ext cx="7010280" cy="4343400"/>
            <a:chOff x="990720" y="1523880"/>
            <a:chExt cx="7010280" cy="4343400"/>
          </a:xfrm>
        </p:grpSpPr>
        <p:sp>
          <p:nvSpPr>
            <p:cNvPr id="165" name=""/>
            <p:cNvSpPr/>
            <p:nvPr/>
          </p:nvSpPr>
          <p:spPr>
            <a:xfrm>
              <a:off x="3657600" y="396216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57600" y="342900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57600" y="289548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9040" y="3125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9040" y="3659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99040" y="419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71800" y="2666880"/>
              <a:ext cx="533520" cy="2057400"/>
            </a:xfrm>
            <a:prstGeom prst="leftArrow">
              <a:avLst>
                <a:gd name="adj1" fmla="val 65583"/>
                <a:gd name="adj2" fmla="val 65181"/>
              </a:avLst>
            </a:prstGeom>
            <a:solidFill>
              <a:srgbClr val="249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90720" y="213336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f43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67040" y="236196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72200" y="213336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f43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48520" y="236196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89640" y="2666880"/>
              <a:ext cx="530280" cy="2057400"/>
            </a:xfrm>
            <a:prstGeom prst="rightArrow">
              <a:avLst>
                <a:gd name="adj1" fmla="val 67750"/>
                <a:gd name="adj2" fmla="val 66167"/>
              </a:avLst>
            </a:prstGeom>
            <a:solidFill>
              <a:srgbClr val="249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95840" y="1523880"/>
              <a:ext cx="3047760" cy="609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14113"/>
                </a:gs>
                <a:gs pos="50000">
                  <a:srgbClr val="6b8f2b"/>
                </a:gs>
                <a:gs pos="100000">
                  <a:srgbClr val="31411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24480" y="2286000"/>
              <a:ext cx="1752480" cy="533160"/>
            </a:xfrm>
            <a:prstGeom prst="upArrow">
              <a:avLst>
                <a:gd name="adj1" fmla="val 68380"/>
                <a:gd name="adj2" fmla="val 70833"/>
              </a:avLst>
            </a:prstGeom>
            <a:solidFill>
              <a:srgbClr val="249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74920" y="1757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5257800"/>
              <a:ext cx="3048120" cy="609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74920" y="5491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02160" y="4647960"/>
              <a:ext cx="1755720" cy="525600"/>
            </a:xfrm>
            <a:prstGeom prst="downArrow">
              <a:avLst>
                <a:gd name="adj1" fmla="val 67093"/>
                <a:gd name="adj2" fmla="val 64051"/>
              </a:avLst>
            </a:prstGeom>
            <a:solidFill>
              <a:srgbClr val="249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838080" y="1752480"/>
            <a:ext cx="7391520" cy="3581280"/>
            <a:chOff x="838080" y="1752480"/>
            <a:chExt cx="7391520" cy="3581280"/>
          </a:xfrm>
        </p:grpSpPr>
        <p:sp>
          <p:nvSpPr>
            <p:cNvPr id="185" name=""/>
            <p:cNvSpPr/>
            <p:nvPr/>
          </p:nvSpPr>
          <p:spPr>
            <a:xfrm flipH="1" rot="16200000">
              <a:off x="2809440" y="28659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f6d7"/>
                </a:gs>
                <a:gs pos="100000">
                  <a:srgbClr val="fcec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5400000">
              <a:off x="5680440" y="28116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f6d7"/>
                </a:gs>
                <a:gs pos="100000">
                  <a:srgbClr val="fcec9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10800000">
              <a:off x="424836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f6d7"/>
                </a:gs>
                <a:gs pos="100000">
                  <a:srgbClr val="fcec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3222360" y="1752480"/>
              <a:ext cx="2563920" cy="2563920"/>
              <a:chOff x="3222360" y="1752480"/>
              <a:chExt cx="2563920" cy="2563920"/>
            </a:xfrm>
          </p:grpSpPr>
          <p:sp>
            <p:nvSpPr>
              <p:cNvPr id="189" name=""/>
              <p:cNvSpPr/>
              <p:nvPr/>
            </p:nvSpPr>
            <p:spPr>
              <a:xfrm>
                <a:off x="3222360" y="1752480"/>
                <a:ext cx="2563920" cy="2563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2492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368520" y="1896840"/>
                <a:ext cx="2270160" cy="227016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01720" y="203184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b8f2b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01720" y="203184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33480" y="216360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394d17"/>
                  </a:gs>
                  <a:gs pos="50000">
                    <a:srgbClr val="6b8f2b"/>
                  </a:gs>
                  <a:gs pos="100000">
                    <a:srgbClr val="394d1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633480" y="216360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838080" y="335268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281916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8080" y="22860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24480" y="335268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642d"/>
                </a:gs>
                <a:gs pos="50000">
                  <a:srgbClr val="8dda62"/>
                </a:gs>
                <a:gs pos="100000">
                  <a:srgbClr val="4064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24480" y="281916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642d"/>
                </a:gs>
                <a:gs pos="50000">
                  <a:srgbClr val="8dda62"/>
                </a:gs>
                <a:gs pos="100000">
                  <a:srgbClr val="4064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24480" y="22860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642d"/>
                </a:gs>
                <a:gs pos="50000">
                  <a:srgbClr val="8dda62"/>
                </a:gs>
                <a:gs pos="100000">
                  <a:srgbClr val="4064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12400" y="2819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57440" y="480060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0432c"/>
                </a:gs>
                <a:gs pos="50000">
                  <a:srgbClr val="249260"/>
                </a:gs>
                <a:gs pos="100000">
                  <a:srgbClr val="10432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730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730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730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926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926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926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14400" y="1752480"/>
            <a:ext cx="7467480" cy="3886200"/>
            <a:chOff x="914400" y="1752480"/>
            <a:chExt cx="7467480" cy="3886200"/>
          </a:xfrm>
        </p:grpSpPr>
        <p:sp>
          <p:nvSpPr>
            <p:cNvPr id="211" name=""/>
            <p:cNvSpPr/>
            <p:nvPr/>
          </p:nvSpPr>
          <p:spPr>
            <a:xfrm>
              <a:off x="7761240" y="17524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2112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4384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3696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24640" y="369072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10120" y="46576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7800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914400" y="563220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914400" y="465768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914400" y="36957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914400" y="273528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914400" y="175896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04840" y="175248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04840" y="276372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04840" y="370980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04840" y="465768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0836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2760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38760" y="335268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59280" y="369072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60720" y="432252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6560" y="529092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4228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4228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4228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4228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0" y="1663560"/>
            <a:ext cx="8381880" cy="4102200"/>
            <a:chOff x="0" y="1663560"/>
            <a:chExt cx="8381880" cy="4102200"/>
          </a:xfrm>
        </p:grpSpPr>
        <p:grpSp>
          <p:nvGrpSpPr>
            <p:cNvPr id="239" name=""/>
            <p:cNvGrpSpPr/>
            <p:nvPr/>
          </p:nvGrpSpPr>
          <p:grpSpPr>
            <a:xfrm>
              <a:off x="0" y="4822560"/>
              <a:ext cx="6171840" cy="943200"/>
              <a:chOff x="0" y="4822560"/>
              <a:chExt cx="6171840" cy="94320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5065200"/>
                <a:ext cx="5817960" cy="665640"/>
              </a:xfrm>
              <a:prstGeom prst="rect">
                <a:avLst/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4926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5167080" y="4822560"/>
                <a:ext cx="1004760" cy="943200"/>
                <a:chOff x="5167080" y="4822560"/>
                <a:chExt cx="1004760" cy="9432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167080" y="4822560"/>
                  <a:ext cx="1004760" cy="943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a7e3"/>
                    </a:gs>
                    <a:gs pos="100000">
                      <a:srgbClr val="0e28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1920" y="4838040"/>
                  <a:ext cx="775080" cy="35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a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559480" y="48848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0" y="2727360"/>
              <a:ext cx="4946040" cy="929880"/>
              <a:chOff x="0" y="2727360"/>
              <a:chExt cx="4946040" cy="929880"/>
            </a:xfrm>
          </p:grpSpPr>
          <p:sp>
            <p:nvSpPr>
              <p:cNvPr id="246" name=""/>
              <p:cNvSpPr/>
              <p:nvPr/>
            </p:nvSpPr>
            <p:spPr>
              <a:xfrm>
                <a:off x="0" y="2960280"/>
                <a:ext cx="4271400" cy="664560"/>
              </a:xfrm>
              <a:prstGeom prst="rect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24926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3950640" y="2727360"/>
                <a:ext cx="995400" cy="929880"/>
                <a:chOff x="3950640" y="2727360"/>
                <a:chExt cx="995400" cy="92988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3950640" y="2727360"/>
                  <a:ext cx="995400" cy="929880"/>
                  <a:chOff x="3950640" y="2727360"/>
                  <a:chExt cx="995400" cy="92988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3950640" y="2727360"/>
                    <a:ext cx="99540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dda62"/>
                      </a:gs>
                      <a:gs pos="100000">
                        <a:srgbClr val="2a411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064400" y="2742480"/>
                    <a:ext cx="76788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dda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4248720" y="285516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0" y="3733560"/>
              <a:ext cx="5582520" cy="936360"/>
              <a:chOff x="0" y="3733560"/>
              <a:chExt cx="5582520" cy="93636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3993120"/>
                <a:ext cx="5187600" cy="666720"/>
              </a:xfrm>
              <a:prstGeom prst="rect">
                <a:avLst/>
              </a:prstGeom>
              <a:gradFill rotWithShape="0">
                <a:gsLst>
                  <a:gs pos="0">
                    <a:srgbClr val="6b8f2b"/>
                  </a:gs>
                  <a:gs pos="100000">
                    <a:srgbClr val="24926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4581000" y="3733560"/>
                <a:ext cx="1001520" cy="936360"/>
                <a:chOff x="4581000" y="3733560"/>
                <a:chExt cx="1001520" cy="936360"/>
              </a:xfrm>
            </p:grpSpPr>
            <p:grpSp>
              <p:nvGrpSpPr>
                <p:cNvPr id="255" name=""/>
                <p:cNvGrpSpPr/>
                <p:nvPr/>
              </p:nvGrpSpPr>
              <p:grpSpPr>
                <a:xfrm>
                  <a:off x="4581000" y="3733560"/>
                  <a:ext cx="1001520" cy="936360"/>
                  <a:chOff x="4581000" y="3733560"/>
                  <a:chExt cx="1001520" cy="93636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4581000" y="3733560"/>
                    <a:ext cx="1001520" cy="936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b8f2b"/>
                      </a:gs>
                      <a:gs pos="100000">
                        <a:srgbClr val="19220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695480" y="3749040"/>
                    <a:ext cx="77256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8f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947480" y="378360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"/>
            <p:cNvGrpSpPr/>
            <p:nvPr/>
          </p:nvGrpSpPr>
          <p:grpSpPr>
            <a:xfrm>
              <a:off x="0" y="1663560"/>
              <a:ext cx="4379040" cy="926640"/>
              <a:chOff x="0" y="1663560"/>
              <a:chExt cx="4379040" cy="92664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1917720"/>
                <a:ext cx="3879000" cy="665640"/>
              </a:xfrm>
              <a:prstGeom prst="rect">
                <a:avLst/>
              </a:prstGeom>
              <a:gradFill rotWithShape="0">
                <a:gsLst>
                  <a:gs pos="0">
                    <a:srgbClr val="e68b30"/>
                  </a:gs>
                  <a:gs pos="100000">
                    <a:srgbClr val="24926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3369960" y="1663560"/>
                <a:ext cx="1009080" cy="926640"/>
                <a:chOff x="3369960" y="1663560"/>
                <a:chExt cx="1009080" cy="926640"/>
              </a:xfrm>
            </p:grpSpPr>
            <p:grpSp>
              <p:nvGrpSpPr>
                <p:cNvPr id="262" name=""/>
                <p:cNvGrpSpPr/>
                <p:nvPr/>
              </p:nvGrpSpPr>
              <p:grpSpPr>
                <a:xfrm>
                  <a:off x="3369960" y="1663560"/>
                  <a:ext cx="1009080" cy="926640"/>
                  <a:chOff x="3369960" y="1663560"/>
                  <a:chExt cx="1009080" cy="92664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3369960" y="1663560"/>
                    <a:ext cx="1009080" cy="926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68b30"/>
                      </a:gs>
                      <a:gs pos="100000">
                        <a:srgbClr val="59361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485160" y="1678680"/>
                    <a:ext cx="778320" cy="34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8b3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"/>
                <p:cNvSpPr/>
                <p:nvPr/>
              </p:nvSpPr>
              <p:spPr>
                <a:xfrm>
                  <a:off x="3704400" y="176652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04920" y="2057400"/>
              <a:ext cx="29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4920" y="313524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8600" y="4141800"/>
              <a:ext cx="419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0880" y="5225760"/>
              <a:ext cx="457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24480" y="1752480"/>
              <a:ext cx="2057400" cy="1752480"/>
            </a:xfrm>
            <a:prstGeom prst="wedgeRoundRectCallout">
              <a:avLst>
                <a:gd name="adj1" fmla="val -43597"/>
                <a:gd name="adj2" fmla="val 89222"/>
                <a:gd name="adj3" fmla="val 16667"/>
              </a:avLst>
            </a:prstGeom>
            <a:solidFill>
              <a:srgbClr val="dddddd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07:30:1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6:01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