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3832-44E5-4862-BB20-B12EC46A7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53474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3CC-2E48-484E-BCC0-596A6955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1676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64C6-7880-4C03-B272-6FB456FA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160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47776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160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47776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B599-57ED-4A41-A5E7-7C081E62D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A021-9BBC-49BE-AC93-D1D0D00A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3C5C-D9F1-4243-B2AD-EDC174E2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D27F6-33DC-4F01-93F9-8B1DF7FE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1AEE-5E86-4950-ACFC-0D37A66B5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BCF2-AE0A-4FAE-A8E1-07F43492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82AE-8F4D-4B87-ADDD-A0A03C4A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3BEC-DB8F-4721-9BDC-EE889313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205E-2614-40A8-B370-BD4C1F47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1676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2583-D50F-44B8-8AF3-372E06AFD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759A-D4CA-4D9C-9279-61053488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53474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C43F-6F90-432F-9C17-CAD69CE6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31676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91E4-D9F8-4825-B313-19F3823E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160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7760" y="50288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160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477760" y="5347440"/>
            <a:ext cx="228168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E5E7A-927E-43C5-ACEC-A42DA501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2690-82B7-4828-89C3-F36D3131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C2B2-DD93-4F76-ADF9-6152D501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6F54-508F-41D8-B4A4-15E7C4A5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1911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D96-411A-4EF6-AC82-916DA6D82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CBE-BCBF-475D-8683-3FBB9982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16760" y="53474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9EB3-72B1-43A7-894B-B813260D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16760" y="5028840"/>
            <a:ext cx="34581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5347440"/>
            <a:ext cx="708660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BBD1-A42B-4B1B-8E8D-1679E7CD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f5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2f5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2f5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2f53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2f53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0A60-A608-4838-809B-9E1455282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A37D6-814A-4D66-AE12-C35B2F3F1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f53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002f53"/>
              </a:solidFill>
              <a:latin typeface="Century Gothic"/>
            </a:endParaRPr>
          </a:p>
          <a:p>
            <a:pPr lvl="2" marL="914400" algn="ctr">
              <a:spcBef>
                <a:spcPts val="499"/>
              </a:spcBef>
              <a:buClr>
                <a:srgbClr val="002f5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f53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02f53"/>
              </a:solidFill>
              <a:latin typeface="Century Gothic"/>
            </a:endParaRPr>
          </a:p>
          <a:p>
            <a:pPr lvl="3" marL="1371600" algn="ctr">
              <a:spcBef>
                <a:spcPts val="451"/>
              </a:spcBef>
              <a:buClr>
                <a:srgbClr val="002f53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f53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2f53"/>
              </a:solidFill>
              <a:latin typeface="Century Gothic"/>
            </a:endParaRPr>
          </a:p>
          <a:p>
            <a:pPr lvl="4" marL="1828800" algn="ctr">
              <a:spcBef>
                <a:spcPts val="451"/>
              </a:spcBef>
              <a:buClr>
                <a:srgbClr val="002f53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f53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2f53"/>
              </a:solidFill>
              <a:latin typeface="Century Gothic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f53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2f53"/>
              </a:solidFill>
              <a:latin typeface="Century Gothic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f53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2f53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5.jpeg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PRUSSIAN BLUE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r Subtitle Goes He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2280" y="4572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青色简洁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YOUR TOPIC GOES HERE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2f5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f53"/>
                </a:solidFill>
                <a:latin typeface="Century Gothic"/>
              </a:rPr>
              <a:t>Your Subtopics Go Here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924680" y="3514680"/>
            <a:ext cx="10573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YOUR TOPIC GOES HERE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3152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Your Subtopics Go Here</a:t>
            </a:r>
            <a:endParaRPr b="0" lang="en-US" sz="28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f53"/>
                </a:solidFill>
                <a:latin typeface="Century Gothic"/>
              </a:rPr>
              <a:t>Transitional Page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2f53"/>
                </a:solidFill>
                <a:latin typeface="Century Gothic"/>
              </a:rPr>
              <a:t>使用规范说明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：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entury Gothic"/>
              </a:rPr>
              <a:t>：</a:t>
            </a:r>
            <a:endParaRPr b="0" lang="en-US" sz="14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f53"/>
              </a:solidFill>
              <a:latin typeface="Century Gothic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F8A-1FF5-4AAC-9EE8-2B95F82092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777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elements</a:t>
            </a:r>
            <a:endParaRPr b="0" lang="en-US" sz="4400" spc="-1" strike="noStrike">
              <a:solidFill>
                <a:srgbClr val="002f53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638680" y="411480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981080" y="127620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1981080" y="409572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638680" y="1276200"/>
            <a:ext cx="3124440" cy="2343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4d4d4d">
                <a:alpha val="50000"/>
              </a:srgbClr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80880" y="2209680"/>
            <a:ext cx="1057320" cy="1362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440" y="5028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18:26:1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6:00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