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Y견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Y견고딕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HY견고딕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68360" y="907920"/>
            <a:ext cx="309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6600" y="692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爽型工作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900000" y="2544840"/>
            <a:ext cx="5078520" cy="747720"/>
            <a:chOff x="900000" y="2544840"/>
            <a:chExt cx="5078520" cy="747720"/>
          </a:xfrm>
        </p:grpSpPr>
        <p:pic>
          <p:nvPicPr>
            <p:cNvPr id="78" name="Picture 3" descr="그림1"/>
            <p:cNvPicPr/>
            <p:nvPr/>
          </p:nvPicPr>
          <p:blipFill>
            <a:blip r:embed="rId2"/>
            <a:stretch/>
          </p:blipFill>
          <p:spPr>
            <a:xfrm>
              <a:off x="900000" y="254484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AutoShape 4"/>
            <p:cNvSpPr/>
            <p:nvPr/>
          </p:nvSpPr>
          <p:spPr>
            <a:xfrm>
              <a:off x="1006200" y="2641680"/>
              <a:ext cx="230040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3e5a">
                    <a:alpha val="0"/>
                  </a:srgbClr>
                </a:gs>
                <a:gs pos="100000">
                  <a:srgbClr val="0287c2">
                    <a:alpha val="5137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1761840" y="2714400"/>
              <a:ext cx="855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300" spc="-1" strike="noStrike">
                  <a:solidFill>
                    <a:srgbClr val="00004c"/>
                  </a:solidFill>
                  <a:latin typeface="HY견고딕"/>
                </a:rPr>
                <a:t>1. </a:t>
              </a:r>
              <a:r>
                <a:rPr b="0" i="1" lang="zh-CN" sz="2300" spc="-1" strike="noStrike">
                  <a:solidFill>
                    <a:srgbClr val="00004c"/>
                  </a:solidFill>
                  <a:latin typeface="HY견고딕"/>
                </a:rPr>
                <a:t>内容部分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"/>
          <p:cNvGrpSpPr/>
          <p:nvPr/>
        </p:nvGrpSpPr>
        <p:grpSpPr>
          <a:xfrm>
            <a:off x="2068560" y="4057560"/>
            <a:ext cx="5078520" cy="747720"/>
            <a:chOff x="2068560" y="4057560"/>
            <a:chExt cx="5078520" cy="747720"/>
          </a:xfrm>
        </p:grpSpPr>
        <p:pic>
          <p:nvPicPr>
            <p:cNvPr id="82" name="Picture 7" descr="그림1"/>
            <p:cNvPicPr/>
            <p:nvPr/>
          </p:nvPicPr>
          <p:blipFill>
            <a:blip r:embed="rId3"/>
            <a:stretch/>
          </p:blipFill>
          <p:spPr>
            <a:xfrm>
              <a:off x="2068560" y="405756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8"/>
            <p:cNvSpPr/>
            <p:nvPr/>
          </p:nvSpPr>
          <p:spPr>
            <a:xfrm>
              <a:off x="2178000" y="4155840"/>
              <a:ext cx="230040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3e5a">
                    <a:alpha val="0"/>
                  </a:srgbClr>
                </a:gs>
                <a:gs pos="100000">
                  <a:srgbClr val="0287c2">
                    <a:alpha val="5137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2357640" y="4227120"/>
              <a:ext cx="314136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300" spc="-1" strike="noStrike">
                  <a:solidFill>
                    <a:srgbClr val="00004c"/>
                  </a:solidFill>
                  <a:latin typeface="HY견고딕"/>
                </a:rPr>
                <a:t>3.</a:t>
              </a:r>
              <a:r>
                <a:rPr b="0" i="1" lang="zh-CN" sz="1800" spc="-1" strike="noStrike">
                  <a:solidFill>
                    <a:srgbClr val="00004c"/>
                  </a:solidFill>
                  <a:latin typeface="Arial"/>
                  <a:ea typeface="宋体"/>
                </a:rPr>
                <a:t>内容部分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0"/>
          <p:cNvGrpSpPr/>
          <p:nvPr/>
        </p:nvGrpSpPr>
        <p:grpSpPr>
          <a:xfrm>
            <a:off x="2658960" y="4813200"/>
            <a:ext cx="5078520" cy="747720"/>
            <a:chOff x="2658960" y="4813200"/>
            <a:chExt cx="5078520" cy="747720"/>
          </a:xfrm>
        </p:grpSpPr>
        <p:pic>
          <p:nvPicPr>
            <p:cNvPr id="86" name="Picture 11" descr="그림1"/>
            <p:cNvPicPr/>
            <p:nvPr/>
          </p:nvPicPr>
          <p:blipFill>
            <a:blip r:embed="rId4"/>
            <a:stretch/>
          </p:blipFill>
          <p:spPr>
            <a:xfrm>
              <a:off x="2658960" y="481320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12"/>
            <p:cNvSpPr/>
            <p:nvPr/>
          </p:nvSpPr>
          <p:spPr>
            <a:xfrm>
              <a:off x="2768400" y="4917960"/>
              <a:ext cx="230040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3e5a">
                    <a:alpha val="0"/>
                  </a:srgbClr>
                </a:gs>
                <a:gs pos="100000">
                  <a:srgbClr val="0287c2">
                    <a:alpha val="5137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3"/>
            <p:cNvSpPr/>
            <p:nvPr/>
          </p:nvSpPr>
          <p:spPr>
            <a:xfrm>
              <a:off x="3406680" y="4982760"/>
              <a:ext cx="10951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300" spc="-1" strike="noStrike">
                  <a:solidFill>
                    <a:srgbClr val="00004c"/>
                  </a:solidFill>
                  <a:latin typeface="HY견고딕"/>
                </a:rPr>
                <a:t>4.</a:t>
              </a:r>
              <a:r>
                <a:rPr b="0" i="1" lang="zh-CN" sz="1800" spc="-1" strike="noStrike">
                  <a:solidFill>
                    <a:srgbClr val="00004c"/>
                  </a:solidFill>
                  <a:latin typeface="Arial"/>
                  <a:ea typeface="宋体"/>
                </a:rPr>
                <a:t>内容部分一</a:t>
              </a:r>
              <a:r>
                <a:rPr b="0" i="1" lang="zh-CN" sz="2300" spc="-1" strike="noStrike">
                  <a:solidFill>
                    <a:srgbClr val="00004c"/>
                  </a:solidFill>
                  <a:latin typeface="HY견고딕"/>
                </a:rPr>
                <a:t>	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4"/>
          <p:cNvGrpSpPr/>
          <p:nvPr/>
        </p:nvGrpSpPr>
        <p:grpSpPr>
          <a:xfrm>
            <a:off x="3306600" y="5570640"/>
            <a:ext cx="5078520" cy="747720"/>
            <a:chOff x="3306600" y="5570640"/>
            <a:chExt cx="5078520" cy="747720"/>
          </a:xfrm>
        </p:grpSpPr>
        <p:pic>
          <p:nvPicPr>
            <p:cNvPr id="90" name="Picture 15" descr="그림1"/>
            <p:cNvPicPr/>
            <p:nvPr/>
          </p:nvPicPr>
          <p:blipFill>
            <a:blip r:embed="rId5"/>
            <a:stretch/>
          </p:blipFill>
          <p:spPr>
            <a:xfrm>
              <a:off x="3306600" y="557064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16"/>
            <p:cNvSpPr/>
            <p:nvPr/>
          </p:nvSpPr>
          <p:spPr>
            <a:xfrm>
              <a:off x="3416040" y="5670720"/>
              <a:ext cx="230040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3e5a">
                    <a:alpha val="0"/>
                  </a:srgbClr>
                </a:gs>
                <a:gs pos="100000">
                  <a:srgbClr val="0287c2">
                    <a:alpha val="5137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4031640" y="5740200"/>
              <a:ext cx="7153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300" spc="-1" strike="noStrike">
                  <a:solidFill>
                    <a:srgbClr val="00004c"/>
                  </a:solidFill>
                  <a:latin typeface="HY견고딕"/>
                </a:rPr>
                <a:t>5.</a:t>
              </a:r>
              <a:r>
                <a:rPr b="0" i="1" lang="zh-CN" sz="1800" spc="-1" strike="noStrike">
                  <a:solidFill>
                    <a:srgbClr val="00004c"/>
                  </a:solidFill>
                  <a:latin typeface="Arial"/>
                  <a:ea typeface="宋体"/>
                </a:rPr>
                <a:t>内容部分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8"/>
          <p:cNvGrpSpPr/>
          <p:nvPr/>
        </p:nvGrpSpPr>
        <p:grpSpPr>
          <a:xfrm>
            <a:off x="1494000" y="3300480"/>
            <a:ext cx="5078160" cy="747720"/>
            <a:chOff x="1494000" y="3300480"/>
            <a:chExt cx="5078160" cy="747720"/>
          </a:xfrm>
        </p:grpSpPr>
        <p:pic>
          <p:nvPicPr>
            <p:cNvPr id="94" name="Picture 19" descr="그림1"/>
            <p:cNvPicPr/>
            <p:nvPr/>
          </p:nvPicPr>
          <p:blipFill>
            <a:blip r:embed="rId6"/>
            <a:stretch/>
          </p:blipFill>
          <p:spPr>
            <a:xfrm>
              <a:off x="1494000" y="3300480"/>
              <a:ext cx="50781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20"/>
            <p:cNvSpPr/>
            <p:nvPr/>
          </p:nvSpPr>
          <p:spPr>
            <a:xfrm>
              <a:off x="1606320" y="3403800"/>
              <a:ext cx="2300040" cy="514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3e5a">
                    <a:alpha val="0"/>
                  </a:srgbClr>
                </a:gs>
                <a:gs pos="100000">
                  <a:srgbClr val="0287c2">
                    <a:alpha val="5137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1"/>
            <p:cNvSpPr/>
            <p:nvPr/>
          </p:nvSpPr>
          <p:spPr>
            <a:xfrm>
              <a:off x="2218320" y="3470040"/>
              <a:ext cx="7153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300" spc="-1" strike="noStrike">
                  <a:solidFill>
                    <a:srgbClr val="00004c"/>
                  </a:solidFill>
                  <a:latin typeface="HY견고딕"/>
                </a:rPr>
                <a:t>2.</a:t>
              </a:r>
              <a:r>
                <a:rPr b="0" i="1" lang="zh-CN" sz="1800" spc="-1" strike="noStrike">
                  <a:solidFill>
                    <a:srgbClr val="00004c"/>
                  </a:solidFill>
                  <a:latin typeface="Arial"/>
                  <a:ea typeface="宋体"/>
                </a:rPr>
                <a:t>内容部分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708360" y="2709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Y견고딕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Y견고딕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HY견고딕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HY견고딕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HY견고딕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HY견고딕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HY견고딕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HY견고딕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HY견고딕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HY견고딕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Y견고딕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HY견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Y견고딕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Y견고딕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HY견고딕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771640" y="170028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1:45:30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9-18T13:21:52Z</dcterms:modified>
  <cp:revision>5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