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942-E5D3-4392-BA7E-AA706C8F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A17-CAF6-4561-B7E8-17ED93CD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413-8836-4026-9745-66142895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28A-F1F3-4CD1-B09D-FEB4722E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AF2-A2E7-4FAA-8F32-53E64CB6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D50-1AA7-470A-8C0F-CB7CA3D9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519-EA04-40D1-8CFD-A49004C6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9F5-E4A4-4381-BE96-94A66F67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524-CD49-44CD-BE43-BFA72EB1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32E-C96B-4B44-B72D-1FA072A2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4EF-6235-4CA2-909E-1A0916D2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2E8-F348-4B09-99CE-665DF9C8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A54F-F2B4-417C-8BFD-AF1982CB3F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2600" y="333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七夕情人节精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3"/>
          <p:cNvGrpSpPr/>
          <p:nvPr/>
        </p:nvGrpSpPr>
        <p:grpSpPr>
          <a:xfrm>
            <a:off x="2700360" y="2705040"/>
            <a:ext cx="4896000" cy="684360"/>
            <a:chOff x="2700360" y="2705040"/>
            <a:chExt cx="4896000" cy="684360"/>
          </a:xfrm>
        </p:grpSpPr>
        <p:sp>
          <p:nvSpPr>
            <p:cNvPr id="45" name="任意多边形 5"/>
            <p:cNvSpPr/>
            <p:nvPr/>
          </p:nvSpPr>
          <p:spPr>
            <a:xfrm>
              <a:off x="2700360" y="2705040"/>
              <a:ext cx="489600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6"/>
            <p:cNvSpPr/>
            <p:nvPr/>
          </p:nvSpPr>
          <p:spPr>
            <a:xfrm>
              <a:off x="2748240" y="2721600"/>
              <a:ext cx="479988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6"/>
          <p:cNvGrpSpPr/>
          <p:nvPr/>
        </p:nvGrpSpPr>
        <p:grpSpPr>
          <a:xfrm>
            <a:off x="2700360" y="3471840"/>
            <a:ext cx="4896000" cy="682560"/>
            <a:chOff x="2700360" y="3471840"/>
            <a:chExt cx="4896000" cy="682560"/>
          </a:xfrm>
        </p:grpSpPr>
        <p:sp>
          <p:nvSpPr>
            <p:cNvPr id="48" name="任意多边形 8"/>
            <p:cNvSpPr/>
            <p:nvPr/>
          </p:nvSpPr>
          <p:spPr>
            <a:xfrm>
              <a:off x="2700360" y="3471840"/>
              <a:ext cx="489600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9"/>
            <p:cNvSpPr/>
            <p:nvPr/>
          </p:nvSpPr>
          <p:spPr>
            <a:xfrm>
              <a:off x="2748240" y="3488400"/>
              <a:ext cx="479988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9"/>
          <p:cNvGrpSpPr/>
          <p:nvPr/>
        </p:nvGrpSpPr>
        <p:grpSpPr>
          <a:xfrm>
            <a:off x="2700360" y="4237200"/>
            <a:ext cx="4896000" cy="684000"/>
            <a:chOff x="2700360" y="4237200"/>
            <a:chExt cx="4896000" cy="684000"/>
          </a:xfrm>
        </p:grpSpPr>
        <p:sp>
          <p:nvSpPr>
            <p:cNvPr id="51" name="任意多边形 11"/>
            <p:cNvSpPr/>
            <p:nvPr/>
          </p:nvSpPr>
          <p:spPr>
            <a:xfrm>
              <a:off x="2700360" y="4237200"/>
              <a:ext cx="4896000" cy="68400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2"/>
            <p:cNvSpPr/>
            <p:nvPr/>
          </p:nvSpPr>
          <p:spPr>
            <a:xfrm>
              <a:off x="2748240" y="4253760"/>
              <a:ext cx="4799880" cy="65088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2"/>
          <p:cNvGrpSpPr/>
          <p:nvPr/>
        </p:nvGrpSpPr>
        <p:grpSpPr>
          <a:xfrm>
            <a:off x="2700360" y="5003640"/>
            <a:ext cx="4896000" cy="682920"/>
            <a:chOff x="2700360" y="5003640"/>
            <a:chExt cx="4896000" cy="682920"/>
          </a:xfrm>
        </p:grpSpPr>
        <p:sp>
          <p:nvSpPr>
            <p:cNvPr id="54" name="任意多边形 14"/>
            <p:cNvSpPr/>
            <p:nvPr/>
          </p:nvSpPr>
          <p:spPr>
            <a:xfrm>
              <a:off x="2700360" y="5003640"/>
              <a:ext cx="4896000" cy="68292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5"/>
            <p:cNvSpPr/>
            <p:nvPr/>
          </p:nvSpPr>
          <p:spPr>
            <a:xfrm>
              <a:off x="2748240" y="5020200"/>
              <a:ext cx="4799880" cy="64980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2700360" y="5769000"/>
            <a:ext cx="4896000" cy="684360"/>
            <a:chOff x="2700360" y="5769000"/>
            <a:chExt cx="4896000" cy="684360"/>
          </a:xfrm>
        </p:grpSpPr>
        <p:sp>
          <p:nvSpPr>
            <p:cNvPr id="57" name="任意多边形 17"/>
            <p:cNvSpPr/>
            <p:nvPr/>
          </p:nvSpPr>
          <p:spPr>
            <a:xfrm>
              <a:off x="2700360" y="5769000"/>
              <a:ext cx="489600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8"/>
            <p:cNvSpPr/>
            <p:nvPr/>
          </p:nvSpPr>
          <p:spPr>
            <a:xfrm>
              <a:off x="2748240" y="5785560"/>
              <a:ext cx="479988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1763640" y="1898640"/>
            <a:ext cx="5832720" cy="684360"/>
            <a:chOff x="1763640" y="1898640"/>
            <a:chExt cx="5832720" cy="684360"/>
          </a:xfrm>
        </p:grpSpPr>
        <p:sp>
          <p:nvSpPr>
            <p:cNvPr id="60" name="任意多边形 23"/>
            <p:cNvSpPr/>
            <p:nvPr/>
          </p:nvSpPr>
          <p:spPr>
            <a:xfrm>
              <a:off x="1763640" y="1898640"/>
              <a:ext cx="5832720" cy="684360"/>
            </a:xfrm>
            <a:custGeom>
              <a:avLst/>
              <a:gdLst/>
              <a:ahLst/>
              <a:rect l="l" t="t" r="r" b="b"/>
              <a:pathLst>
                <a:path w="3131343" h="521890">
                  <a:moveTo>
                    <a:pt x="0" y="52189"/>
                  </a:moveTo>
                  <a:cubicBezTo>
                    <a:pt x="0" y="23366"/>
                    <a:pt x="23366" y="0"/>
                    <a:pt x="52189" y="0"/>
                  </a:cubicBezTo>
                  <a:lnTo>
                    <a:pt x="3079154" y="0"/>
                  </a:lnTo>
                  <a:cubicBezTo>
                    <a:pt x="3107977" y="0"/>
                    <a:pt x="3131343" y="23366"/>
                    <a:pt x="3131343" y="52189"/>
                  </a:cubicBezTo>
                  <a:lnTo>
                    <a:pt x="3131343" y="469701"/>
                  </a:lnTo>
                  <a:cubicBezTo>
                    <a:pt x="3131343" y="498524"/>
                    <a:pt x="3107977" y="521890"/>
                    <a:pt x="3079154" y="521890"/>
                  </a:cubicBezTo>
                  <a:lnTo>
                    <a:pt x="52189" y="521890"/>
                  </a:lnTo>
                  <a:cubicBezTo>
                    <a:pt x="23366" y="521890"/>
                    <a:pt x="0" y="498524"/>
                    <a:pt x="0" y="469701"/>
                  </a:cubicBezTo>
                  <a:lnTo>
                    <a:pt x="0" y="52189"/>
                  </a:lnTo>
                  <a:close/>
                </a:path>
              </a:pathLst>
            </a:cu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50760" bIns="50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1798920" y="1911960"/>
              <a:ext cx="5760000" cy="659160"/>
              <a:chOff x="1798920" y="1911960"/>
              <a:chExt cx="5760000" cy="659160"/>
            </a:xfrm>
          </p:grpSpPr>
          <p:pic>
            <p:nvPicPr>
              <p:cNvPr id="62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8920" y="1911960"/>
                <a:ext cx="5760000" cy="65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22"/>
              <p:cNvSpPr/>
              <p:nvPr/>
            </p:nvSpPr>
            <p:spPr>
              <a:xfrm>
                <a:off x="1810440" y="1914840"/>
                <a:ext cx="5738400" cy="6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23"/>
          <p:cNvGrpSpPr/>
          <p:nvPr/>
        </p:nvGrpSpPr>
        <p:grpSpPr>
          <a:xfrm>
            <a:off x="1765440" y="2705040"/>
            <a:ext cx="718920" cy="684360"/>
            <a:chOff x="1765440" y="2705040"/>
            <a:chExt cx="718920" cy="684360"/>
          </a:xfrm>
        </p:grpSpPr>
        <p:sp>
          <p:nvSpPr>
            <p:cNvPr id="65" name="圆角矩形 26"/>
            <p:cNvSpPr/>
            <p:nvPr/>
          </p:nvSpPr>
          <p:spPr>
            <a:xfrm>
              <a:off x="1765440" y="2705040"/>
              <a:ext cx="71892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25"/>
            <p:cNvGrpSpPr/>
            <p:nvPr/>
          </p:nvGrpSpPr>
          <p:grpSpPr>
            <a:xfrm>
              <a:off x="1794600" y="2716200"/>
              <a:ext cx="658800" cy="665280"/>
              <a:chOff x="1794600" y="2716200"/>
              <a:chExt cx="658800" cy="665280"/>
            </a:xfrm>
          </p:grpSpPr>
          <p:pic>
            <p:nvPicPr>
              <p:cNvPr id="67" name="圆角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94600" y="2716200"/>
                <a:ext cx="65880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27"/>
              <p:cNvSpPr/>
              <p:nvPr/>
            </p:nvSpPr>
            <p:spPr>
              <a:xfrm>
                <a:off x="1831680" y="275328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28"/>
          <p:cNvGrpSpPr/>
          <p:nvPr/>
        </p:nvGrpSpPr>
        <p:grpSpPr>
          <a:xfrm>
            <a:off x="1765440" y="3471840"/>
            <a:ext cx="718920" cy="682560"/>
            <a:chOff x="1765440" y="3471840"/>
            <a:chExt cx="718920" cy="682560"/>
          </a:xfrm>
        </p:grpSpPr>
        <p:sp>
          <p:nvSpPr>
            <p:cNvPr id="70" name="圆角矩形 29"/>
            <p:cNvSpPr/>
            <p:nvPr/>
          </p:nvSpPr>
          <p:spPr>
            <a:xfrm>
              <a:off x="1765440" y="3471840"/>
              <a:ext cx="71892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1794600" y="3485160"/>
              <a:ext cx="658800" cy="657360"/>
              <a:chOff x="1794600" y="3485160"/>
              <a:chExt cx="658800" cy="657360"/>
            </a:xfrm>
          </p:grpSpPr>
          <p:pic>
            <p:nvPicPr>
              <p:cNvPr id="72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794600" y="3485160"/>
                <a:ext cx="65880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32"/>
              <p:cNvSpPr/>
              <p:nvPr/>
            </p:nvSpPr>
            <p:spPr>
              <a:xfrm>
                <a:off x="1831680" y="3519720"/>
                <a:ext cx="58608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Group 33"/>
          <p:cNvGrpSpPr/>
          <p:nvPr/>
        </p:nvGrpSpPr>
        <p:grpSpPr>
          <a:xfrm>
            <a:off x="1765440" y="4237200"/>
            <a:ext cx="718920" cy="684000"/>
            <a:chOff x="1765440" y="4237200"/>
            <a:chExt cx="718920" cy="684000"/>
          </a:xfrm>
        </p:grpSpPr>
        <p:sp>
          <p:nvSpPr>
            <p:cNvPr id="75" name="圆角矩形 32"/>
            <p:cNvSpPr/>
            <p:nvPr/>
          </p:nvSpPr>
          <p:spPr>
            <a:xfrm>
              <a:off x="1765440" y="4237200"/>
              <a:ext cx="718920" cy="68400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5"/>
            <p:cNvGrpSpPr/>
            <p:nvPr/>
          </p:nvGrpSpPr>
          <p:grpSpPr>
            <a:xfrm>
              <a:off x="1794600" y="4246560"/>
              <a:ext cx="658800" cy="664920"/>
              <a:chOff x="1794600" y="4246560"/>
              <a:chExt cx="658800" cy="664920"/>
            </a:xfrm>
          </p:grpSpPr>
          <p:pic>
            <p:nvPicPr>
              <p:cNvPr id="77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4600" y="4246560"/>
                <a:ext cx="658800" cy="66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37"/>
              <p:cNvSpPr/>
              <p:nvPr/>
            </p:nvSpPr>
            <p:spPr>
              <a:xfrm>
                <a:off x="1831680" y="428544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Group 38"/>
          <p:cNvGrpSpPr/>
          <p:nvPr/>
        </p:nvGrpSpPr>
        <p:grpSpPr>
          <a:xfrm>
            <a:off x="1765440" y="5003640"/>
            <a:ext cx="718920" cy="682920"/>
            <a:chOff x="1765440" y="5003640"/>
            <a:chExt cx="718920" cy="682920"/>
          </a:xfrm>
        </p:grpSpPr>
        <p:sp>
          <p:nvSpPr>
            <p:cNvPr id="80" name="圆角矩形 35"/>
            <p:cNvSpPr/>
            <p:nvPr/>
          </p:nvSpPr>
          <p:spPr>
            <a:xfrm>
              <a:off x="1765440" y="5003640"/>
              <a:ext cx="718920" cy="68292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40"/>
            <p:cNvGrpSpPr/>
            <p:nvPr/>
          </p:nvGrpSpPr>
          <p:grpSpPr>
            <a:xfrm>
              <a:off x="1794600" y="5015160"/>
              <a:ext cx="658800" cy="663840"/>
              <a:chOff x="1794600" y="5015160"/>
              <a:chExt cx="658800" cy="663840"/>
            </a:xfrm>
          </p:grpSpPr>
          <p:pic>
            <p:nvPicPr>
              <p:cNvPr id="82" name="圆角矩形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794600" y="5015160"/>
                <a:ext cx="658800" cy="6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42"/>
              <p:cNvSpPr/>
              <p:nvPr/>
            </p:nvSpPr>
            <p:spPr>
              <a:xfrm>
                <a:off x="1831680" y="5051520"/>
                <a:ext cx="58608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43"/>
          <p:cNvGrpSpPr/>
          <p:nvPr/>
        </p:nvGrpSpPr>
        <p:grpSpPr>
          <a:xfrm>
            <a:off x="1765440" y="5769000"/>
            <a:ext cx="718920" cy="684360"/>
            <a:chOff x="1765440" y="5769000"/>
            <a:chExt cx="718920" cy="684360"/>
          </a:xfrm>
        </p:grpSpPr>
        <p:sp>
          <p:nvSpPr>
            <p:cNvPr id="85" name="圆角矩形 38"/>
            <p:cNvSpPr/>
            <p:nvPr/>
          </p:nvSpPr>
          <p:spPr>
            <a:xfrm>
              <a:off x="1765440" y="5769000"/>
              <a:ext cx="71892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45"/>
            <p:cNvGrpSpPr/>
            <p:nvPr/>
          </p:nvGrpSpPr>
          <p:grpSpPr>
            <a:xfrm>
              <a:off x="1794600" y="5776560"/>
              <a:ext cx="658800" cy="665280"/>
              <a:chOff x="1794600" y="5776560"/>
              <a:chExt cx="658800" cy="665280"/>
            </a:xfrm>
          </p:grpSpPr>
          <p:pic>
            <p:nvPicPr>
              <p:cNvPr id="87" name="圆角矩形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1794600" y="5776560"/>
                <a:ext cx="65880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47"/>
              <p:cNvSpPr/>
              <p:nvPr/>
            </p:nvSpPr>
            <p:spPr>
              <a:xfrm>
                <a:off x="1831680" y="581688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162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B12-DE6F-44F8-9392-F5D173A5D4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4"/>
          <p:cNvSpPr/>
          <p:nvPr/>
        </p:nvSpPr>
        <p:spPr>
          <a:xfrm>
            <a:off x="395280" y="573264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09:39:51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14:38Z</dcterms:modified>
  <cp:revision>1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