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F421-B97E-4875-8E6B-DACF4A1C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F117-851E-47C0-B744-518DAED9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8D7C-4364-40D9-88BB-DE0935AD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84DE-1CFC-4300-8125-3C9CC25B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2A5B-4F62-43A8-A7F4-5DED06B7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A14F-142A-4507-A467-80A0A695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B44-0623-45B5-B635-D2C9DB4E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418-691A-4B0A-8C42-90ADB051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649E-EF07-4882-A586-33F84842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7080-00E1-4659-B0D2-DA30F48F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B238-2CD8-4672-AEB3-73C57FA9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0A22-DCE6-4469-83AF-54D30C66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0430-300A-4AC2-88A2-A802DB1A8A9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8777-816E-46F2-A377-6E41DE5055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81000"/>
            <a:ext cx="77724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f1dd"/>
                </a:solidFill>
                <a:latin typeface="方正综艺简体"/>
                <a:ea typeface="方正综艺简体"/>
              </a:rPr>
              <a:t>球星璀璨</a:t>
            </a:r>
            <a:r>
              <a:rPr b="0" lang="en-US" sz="3200" spc="-1" strike="noStrike">
                <a:solidFill>
                  <a:srgbClr val="eaf1dd"/>
                </a:solidFill>
                <a:latin typeface="方正综艺简体"/>
                <a:ea typeface="方正综艺简体"/>
              </a:rPr>
              <a:t>PPT</a:t>
            </a:r>
            <a:r>
              <a:rPr b="0" lang="zh-CN" sz="3200" spc="-1" strike="noStrike">
                <a:solidFill>
                  <a:srgbClr val="eaf1dd"/>
                </a:solidFill>
                <a:latin typeface="方正综艺简体"/>
                <a:ea typeface="方正综艺简体"/>
              </a:rPr>
              <a:t>模板在线下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D650-C39A-401D-8BE8-0C719B3092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662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矩形 4"/>
          <p:cNvSpPr/>
          <p:nvPr/>
        </p:nvSpPr>
        <p:spPr>
          <a:xfrm>
            <a:off x="4680" y="6524640"/>
            <a:ext cx="792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5:26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2:25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