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429C-4801-4AD8-A2D8-A7AA575C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640080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5640" y="5810040"/>
            <a:ext cx="640080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5B7C-ECCA-4527-9122-F3C14653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75600" y="538272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5640" y="58100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75600" y="58100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4DCA-D6C7-4614-B210-39FE5A38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59600" y="538272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3920" y="538272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5640" y="581004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59600" y="581004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3920" y="581004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1E45-6B9C-48B5-B5D6-88A9E65F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F7FB-4426-4244-9488-D1F118D2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95640" y="5382720"/>
            <a:ext cx="64008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EE0A-E41A-415C-893E-7DCA7E3A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640080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6419-A6CC-48D7-AD49-188FEF86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31233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75600" y="5382720"/>
            <a:ext cx="31233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E49F-CE72-4678-8196-BF44DA00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98FE-E13E-47F3-BF12-9940E83E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26920" y="4564080"/>
            <a:ext cx="7772400" cy="38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9E62-524D-4458-964C-9AF11E10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75600" y="5382720"/>
            <a:ext cx="31233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95640" y="58100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99BD-12B9-4BF6-A58E-1FB5D217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5640" y="5382720"/>
            <a:ext cx="64008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BAF-635D-49CE-AC03-D65E233C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31233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75600" y="538272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75600" y="58100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D9DB-95DD-4DD7-943D-056BA506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75600" y="538272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95640" y="5810040"/>
            <a:ext cx="640080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941C-FB43-4DBB-A299-F6163B5C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640080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95640" y="5810040"/>
            <a:ext cx="640080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5269-5826-42E7-98D1-DFD8FC7A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75600" y="538272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95640" y="58100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75600" y="58100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045D-D779-42D2-90BF-15F56A04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59600" y="538272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3920" y="538272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95640" y="581004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59600" y="581004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3920" y="581004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00BE-3FE8-4E0B-9465-F50385B5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640080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998F-2EBB-4BA7-82B9-FAAE047A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31233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75600" y="5382720"/>
            <a:ext cx="31233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5870-69A6-4BF2-9CB9-B0B2B4E9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FE56-CC4F-438D-B488-5FBE579E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6920" y="4564080"/>
            <a:ext cx="7772400" cy="38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313B-5307-44D3-BE78-5527172C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75600" y="5382720"/>
            <a:ext cx="31233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5640" y="58100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DD16-CA2E-4F73-AA26-9A47EE62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31233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75600" y="538272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75600" y="58100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9AD7-39AF-423A-98F0-1A557976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5640" y="538272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75600" y="538272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5640" y="5810040"/>
            <a:ext cx="640080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12F-BA55-4883-B40E-76F459D6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8355-5B53-43FF-AEFC-9572D2B420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184F-DC16-48E2-B2E8-4A3753020D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87280" y="3070080"/>
            <a:ext cx="4280040" cy="50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44444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ff">
                      <a:alpha val="78000"/>
                    </a:srgbClr>
                  </a:outerShdw>
                </a:effectLst>
                <a:latin typeface="黑体"/>
              </a:rPr>
              <a:t>POWERPOINT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44444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ff">
                      <a:alpha val="78000"/>
                    </a:srgbClr>
                  </a:outerShdw>
                </a:effectLst>
                <a:latin typeface="黑体"/>
              </a:rPr>
              <a:t>模板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44444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ffff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627280" y="3807000"/>
            <a:ext cx="23763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双击添加署名</a:t>
            </a:r>
            <a:r>
              <a:rPr b="1" lang="en-US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/</a:t>
            </a:r>
            <a:r>
              <a:rPr b="1" lang="zh-CN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公司名</a:t>
            </a:r>
            <a:r>
              <a:rPr b="1" lang="en-US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/</a:t>
            </a:r>
            <a:r>
              <a:rPr b="1" lang="zh-CN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日期</a:t>
            </a:r>
            <a:endParaRPr b="1" lang="en-US" sz="24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55320" y="8366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企业工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495760" y="3098880"/>
            <a:ext cx="2598480" cy="2522160"/>
            <a:chOff x="5495760" y="3098880"/>
            <a:chExt cx="2598480" cy="2522160"/>
          </a:xfrm>
        </p:grpSpPr>
        <p:sp>
          <p:nvSpPr>
            <p:cNvPr id="112" name="未知"/>
            <p:cNvSpPr/>
            <p:nvPr/>
          </p:nvSpPr>
          <p:spPr>
            <a:xfrm>
              <a:off x="5652360" y="3098880"/>
              <a:ext cx="135324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5498dc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6557760" y="449748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4c0fe"/>
                </a:gs>
                <a:gs pos="100000">
                  <a:srgbClr val="0099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5495760" y="4088520"/>
              <a:ext cx="1191240" cy="133632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8dbafe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6886800" y="3274920"/>
              <a:ext cx="1207440" cy="132408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547698"/>
                </a:gs>
                <a:gs pos="100000">
                  <a:srgbClr val="003366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288-8090-45A8-8B5A-E0E285CEE7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1908000" y="3146400"/>
            <a:ext cx="2794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2386080" y="386064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22:17:15Z</dcterms:created>
  <dc:creator>幻灯片之家：www.eeppt.com; 北京锐得PPT</dc:creator>
  <dc:description>幻灯片之家：www.eeppt.com</dc:description>
  <cp:keywords>幻灯片之家：www.eeppt.com</cp:keywords>
  <dc:language>en-US</dc:language>
  <cp:lastModifiedBy>GHOST</cp:lastModifiedBy>
  <dcterms:modified xsi:type="dcterms:W3CDTF">2015-09-18T13:15:32Z</dcterms:modified>
  <cp:revision>34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