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EB8-4338-4378-A8CD-C29EF660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C46-066F-4A2A-A773-0767634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2B9-2F1C-4201-9425-040C3E06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AE8-7088-4A03-98E8-241FA89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C02-62B2-4414-83C3-D33C862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E0-E090-403A-9466-226DA37A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856-9A6A-466F-A828-3008F75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2CF-E63D-42C1-A9FB-A843942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AB4-2A70-430A-A038-B0F14BA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124-A25C-4144-A000-203ECF9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A96-5AC7-40A5-8602-056FC84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E51-90CA-40D9-9EFE-A55E1EB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a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EE1-3C94-4C54-A560-02A90EA52F8B}" type="slidenum">
              <a:rPr b="0" lang="en-US" sz="1200" spc="-1" strike="noStrike">
                <a:solidFill>
                  <a:srgbClr val="8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419360"/>
            <a:ext cx="6019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Name of presentation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8669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6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c06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4440" y="15238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600"/>
                </a:solidFill>
                <a:latin typeface="Arial"/>
              </a:rPr>
              <a:t>企业</a:t>
            </a:r>
            <a:r>
              <a:rPr b="0" lang="zh-CN" sz="4000" spc="-1" strike="noStrike">
                <a:solidFill>
                  <a:srgbClr val="0c0600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1522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dc2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0" y="12952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6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AC0-926D-43A1-8DC8-3BE4C8096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5680" y="380520"/>
            <a:ext cx="724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dc2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3:47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